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346-0971-459A-B742-7212A06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F01-8A2F-4C54-A720-C5547D66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3C2-3203-470F-BB1C-3C09A734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173-A18B-437D-B483-534427FF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82FB-22DD-42D8-8668-5A95F48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179F-6EDA-4B91-BE89-3BDD7E12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52C-25AF-4692-83C3-FCAE5B58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5387-6324-4F0B-AEA7-63536818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3FA4-5A9D-44CE-A333-F2B471D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BC83-9142-4953-B86B-CB9EAD2F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4ACF-1835-4EDA-90A7-BD967A10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F3-1B46-4D15-8792-310A6446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C4A-E46A-45FA-85A4-936B2E9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E719-3975-44D3-BB59-8387108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51D-611B-4C1D-95BC-D7B510C2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5A12-D54A-4232-B85B-E212D102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3FA9-1A94-4723-BF50-2E5A6CC3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C684-3B9B-4E80-B031-9006FA39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2051-1039-4064-BD6E-E1374BB6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B07F-557E-4677-8FFC-A9C2D2CA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69249-C11A-4069-AE2A-8332469D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F233-09C4-4DC6-A7C6-1CF2B7A6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B22-E26E-409A-9FD1-A9501C23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2841-9745-4A78-B642-68EC4C07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86C85-1A6B-4BE4-B23B-2EFDC51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CB4A-3F60-46DE-B355-52FDE25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9950E-A70E-4A30-8C68-2C33A57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B95CA-5BD1-4077-94F5-B6F64174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A1C4-E03C-407C-AA9E-8C216C2C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21990-D715-4ED9-8DCE-4FF81FB2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9E50-A9ED-44FD-BD83-45A7FEC2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F08F-E6AE-4BFE-87B3-11C916F1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34B5B-E73C-46FA-BE6B-B28074C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3D6-1CA8-4100-BF97-5DCBB160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30BE-A4F0-4475-A395-FA5AEBBB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0702-BD90-4C57-AC9D-ADC82F1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CCB9-8FB0-4E14-A399-E3B7F5E6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20D68-45CD-4E41-86CD-6C04B1C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DFB14-DA46-4C1A-8C19-C4D0A9ED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B83F-D9DD-4578-AF0F-059BEC8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5B45-10F9-47DC-BBB0-174AAA2F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2CA6-0CD5-4F51-98B0-B2202390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063A-0AD1-42A0-966A-DE039775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64A-7E9E-4E07-8A20-87E03545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F60-2D53-4D89-B3B6-568982C0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5C0-B03E-4638-8A57-A31E7BA2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C86-3B7E-4B8D-9D60-ED0EE5AA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240-CCFB-4213-AA63-0D6F79B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FFF1-7731-4347-A9C2-6C36BD5A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7D73-41ED-44F4-9F95-07E24988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13EC-BE47-4FD8-8743-1646215619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0FF9-FF82-4528-A087-3DC14C7FC2F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ПРОГУЛКИ С </a:t>
            </a: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ДИНОЗАВРАМИ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5040000" cy="2881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39640" y="2565360"/>
            <a:ext cx="388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ПОИСКА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А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52434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еница 7 инд. групп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ВСОУ «ВСОШ № 7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тонова Н. 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Миллионы лет назад на Земле господствовали динозавры, но они вымерли задолго до появления человека. Мы можем о них узнать только благодаря окаменелостям.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В переводе с древнегреческого слов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динозавр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значает «ужасный ящер»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3961080" cy="2519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961080" cy="23781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4643280" y="1773360"/>
            <a:ext cx="417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ahoma"/>
              </a:rPr>
              <a:t>В поисках фактов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каменелости это остатки погибших животных или растений которые сохранилось под слоем ила или песка и на протяжении миллионов лет превратились в окаменел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ные – палеонтологи аккуратно очищают найденные окаменевшие остатки динозавров от покрывающей их породы, измеряют, фотографируют и отправляют в музеи для дальнейшего изуч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окаменелостей встречаются кости динозавров, следы лап, отпечатки чешуистой  кожи и даже гнезда с яйц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946760" y="1341360"/>
            <a:ext cx="3441600" cy="21589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46760" y="3917880"/>
            <a:ext cx="3585960" cy="21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Гигантские динозавр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нозавры самые большие животные которые когда -либо существовали на Земл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ществовало несколько разновидностей больших динозавров, но все они имели сходные черты: громадное тело, длинную шею и хвост, маленькую голову. Питались они растительной пищ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агают , что самый длинный (сейсмозавр) достигал в длину до 52 метров. Одна кость такого животного была весом около 450 к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716360" y="3925800"/>
            <a:ext cx="4032360" cy="25988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4032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Х и щ н и к 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3311640" cy="2663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ищные динозавры были самых разных форм и размеров, от 60 см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сальтопа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2 метровог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ираннозавр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и нападали на других динозавров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они имели острые изогнутые зубы, а некоторые и длинные смертоносные когти до 12 см в длин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ие хищные динозавры охотились стаями, что позволяло ловить им крупную добыч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311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инозавры откладывали яйца в гнезда на земле. В кладке было от 10 до40 яиц. Достигавших в размерах до 60 см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Как полагают многие мамаши-динозавры бдительно охраняли свои гнёзда от хищни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527280" cy="24051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4464000" cy="2505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539640" y="3933720"/>
            <a:ext cx="3613320" cy="27352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356000" y="3925800"/>
            <a:ext cx="4392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 О Н Е Ц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301680" y="1052640"/>
            <a:ext cx="4630680" cy="54007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219640" y="3789360"/>
            <a:ext cx="3600360" cy="2808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44:54Z</dcterms:created>
  <dc:creator>Андрей</dc:creator>
  <dc:description/>
  <dc:language>en-US</dc:language>
  <cp:lastModifiedBy>Admin</cp:lastModifiedBy>
  <dcterms:modified xsi:type="dcterms:W3CDTF">2013-01-14T09:59:13Z</dcterms:modified>
  <cp:revision>9</cp:revision>
  <dc:subject/>
  <dc:title>ПРОГУЛКИ С ДИНОЗАВРАМИ</dc:title>
</cp:coreProperties>
</file>