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E73-4E02-4DA9-895D-C494B891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9C6-D0AF-4DAD-9A8C-264CCCBC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E43-EEB7-4963-9022-AF55B033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B56-C1E0-4F9D-8DCC-867B442E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FDB1-D5E9-4489-B952-BA6CE7C9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92AF-0227-450C-9FD8-D7431A33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EB8A-C3BD-438F-936B-F77F9C66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E9A9-1E45-41B5-8007-A4311EC6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0286-8EAC-4B40-8B98-06E76446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DED1-CFFF-4379-BFF4-38A2A18B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5859-D6E4-4909-A05B-D53F60A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851-6550-4A2B-8171-ACE7C7E3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7489-C828-4A9E-A083-DE530BE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5E02-8AAB-4B7E-A773-73D9AB9C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3BDB-B692-44F0-862C-4786FB55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67A7-FC7D-4714-995F-951B8EEF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DE64-DEAD-43A3-907D-07F073BB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BB89-7C17-4C04-BF30-393B901C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EFA8-485E-46FA-A8C5-A9496853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B3AB-FA2F-4901-8ECA-8103ED46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0720-5E18-42A6-95FB-C652FC6E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EA0F-D3AE-4169-B706-2CC749F0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9FE-9114-4AF4-AD7B-6E16FE67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6ED5-D87B-4549-9C40-999C7E00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03F9-7306-45A8-A89B-ABBF4656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879A-0AAF-45F8-B823-2B8088E0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73EB-2F53-4772-940B-9C86D4F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9901-2B7A-4E07-BCB3-599A8AAA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1A88-3647-4F28-848A-D916B05F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3B7A-C18B-4FB6-991F-46562AF4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DA213-B9CE-49C9-9A4D-CBB8C42F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7E993-E844-4C6B-8865-A819C28D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2FDBA-F5B4-446E-AA25-6AAE011F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826-EAD1-41DB-8FB9-F1E63B02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F79D-D8DB-4425-9E66-3942EE6B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191E-B2CA-4EB9-B3D1-A187041A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89AD1-E496-49A8-BA5E-112D2A7B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B2D2-1834-43CC-8E82-AE406208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246AF-0016-403F-9D0D-7BECF4B0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ED855-CDBF-4115-BA85-B08DF5EA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BFA7-0F43-4263-AED8-59D92127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A4719-07FC-4DA7-BCF0-6AFDB274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DD45C-CE84-4BA5-B67C-08B2A5F6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359-403D-4560-862E-4FE2C419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23F-264D-4CEC-8990-E906EF41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8F2-A2FF-43C5-A391-8437AC1F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366-DE00-4D30-B7AB-43662265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B8A-783F-4AD8-A416-1CF76BF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CE0F-4888-4846-B387-400C49D12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40A2-DB52-4D66-9DAD-971B25606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7A8D-1E04-4C27-B90E-DC927D99A2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6DCA-AFF8-4EBD-AC50-456F75304F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ПРОГУЛКИ С </a:t>
            </a:r>
            <a:br>
              <a:rPr sz="6600"/>
            </a:b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ДИНОЗАВРАМ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780000" y="2276640"/>
            <a:ext cx="5040000" cy="28810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39640" y="2565360"/>
            <a:ext cx="3888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 ПОИСКА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АК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80000" y="52434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еница 7 инд. групп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ВСОУ «ВСОШ № 7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тонова Н.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Миллионы лет назад на Земле господствовали динозавры, но они вымерли задолго до появления человека. Мы можем о них узнать только благодаря окаменелостям.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В переводе с древнегреческого слов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динозавр 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означает «ужасный ящер»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3961080" cy="2519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539640" y="1700280"/>
            <a:ext cx="3961080" cy="23781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4643280" y="1773360"/>
            <a:ext cx="41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ahoma"/>
              </a:rPr>
              <a:t>В поисках фактов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каменелости это остатки погибших животных или растений которые сохранилось под слоем ила или песка и на протяжении миллионов лет превратились в окаменел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ые – палеонтологи аккуратно очищают найденные окаменевшие остатки динозавров от покрывающей их породы, измеряют, фотографируют и отправляют в музеи для дальнейшего изуч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окаменелостей встречаются кости динозавров, следы лап, отпечатки чешуистой  кожи и даже гнезда с яйц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946760" y="1341360"/>
            <a:ext cx="3441600" cy="215892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946760" y="3917880"/>
            <a:ext cx="3585960" cy="21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игантские динозавр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нозавры самые большие животные которые когда -либо существовали на Зем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ществовало несколько разновидностей больших динозавров, но все они имели сходные черты: громадное тело, длинную шею и хвост, маленькую голову. Питались они растительной пищ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агают , что самый длинный (сейсмозавр) достигал в длину до 52 метров. Одна кость такого животного была весом около 450 к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716360" y="3925800"/>
            <a:ext cx="4032360" cy="25988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40323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Х и щ н и к 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3311640" cy="2663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щные динозавры были самых разных форм и размеров, от 60 см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альтопа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12 метрового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ираннозавра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и нападали на других динозавров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они имели острые изогнутые зубы, а некоторые и длинные смертоносные когти до 12 см в длин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ие хищные динозавры охотились стаями, что позволяло ловить им крупную добыч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311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Динозавры откладывали яйца в гнезда на земле. В кладке было от 10 до40 яиц. Достигавших в размерах до 60 см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Как полагают многие мамаши-динозавры бдительно охраняли свои гнёзда от хищни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527280" cy="24051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4464000" cy="2505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3613320" cy="27352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4356000" y="3925800"/>
            <a:ext cx="439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 О Н Е Ц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01680" y="1052640"/>
            <a:ext cx="4630680" cy="54007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5219640" y="3789360"/>
            <a:ext cx="3600360" cy="28083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5219640" y="981000"/>
            <a:ext cx="3600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44:54Z</dcterms:created>
  <dc:creator>Андрей</dc:creator>
  <dc:description/>
  <dc:language>en-US</dc:language>
  <cp:lastModifiedBy>Admin</cp:lastModifiedBy>
  <dcterms:modified xsi:type="dcterms:W3CDTF">2013-01-14T09:59:13Z</dcterms:modified>
  <cp:revision>9</cp:revision>
  <dc:subject/>
  <dc:title>ПРОГУЛКИ С ДИНОЗАВРАМИ</dc:title>
</cp:coreProperties>
</file>