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37C1-1DB9-41E7-A37B-25E6C5A65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5E3A-4BF0-4AFD-AFF9-B689C0DA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EF99-3EBE-446F-9670-F46B2E219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67E8-21B1-4B5A-82B9-14D6AB441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E2D9-1472-4325-8BFE-A10A7E591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BB9A-CB34-4E5A-958E-FBC98CB4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35D7-C5D7-44E6-99AF-CC62E89F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29B2-3339-471C-86E1-98CE14EC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ADB3-517D-4F35-90CE-E53822F1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82B2-5104-436A-AC9D-4CA036BE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CC1A-465C-460B-A899-1719210F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980B-C7BD-4A16-9D04-1137BB2E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EA18-54A8-42AB-B275-D6DC8E31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D251-2BCB-415B-B9F4-BF1C14E0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CFE3-B10C-45D4-A6C2-4A2C180C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45FE-B504-4E7A-A382-22AE306D0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D8AF-F872-4EFE-813A-BC111305A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E532-34F7-4F1C-B761-F568EC71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BEBE-1856-4C7D-875E-D1D67E61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50EF-27C9-4354-941B-2EE036D8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7DDD-73E2-40BC-BD20-A3A5C4AF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4550-4C5C-411A-A3C6-DC554293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5313-54C9-49E6-BEA1-5F668B15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2891-6692-49D5-B0A2-F46F5A4E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CD20-3F9E-495B-B4A6-7E91A931F6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F881-3E2B-49C5-AFC4-2A8C227650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61216"/>
                </a:solidFill>
                <a:latin typeface="Arial Black"/>
              </a:rPr>
              <a:t>Муниципальное казённое общеобразовательное учреждение средняя общеобразовательная школа №1 г.Ивделя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15080" y="1904760"/>
            <a:ext cx="3930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Автор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Ученик 6 «А» 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66"/>
                </a:solidFill>
                <a:latin typeface="Arial"/>
              </a:rPr>
              <a:t>Александров Владими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уководител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66"/>
                </a:solidFill>
                <a:latin typeface="Arial"/>
              </a:rPr>
              <a:t>Колчано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66"/>
                </a:solidFill>
                <a:latin typeface="Arial"/>
              </a:rPr>
              <a:t>Надежда Олег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Arial Black"/>
              </a:rPr>
              <a:t>Влияние количества запасных питательных веществ на прорастание семян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мер проростка зависит от запас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итательных веществ в семен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м больше веществ, тем крупне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росток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ля посева необходимо отбира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рупные, здоровые семе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Arial Black"/>
              </a:rPr>
              <a:t>Влияние глубины заделки семян в почву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1600"/>
            </a:br>
            <a:br>
              <a:rPr sz="1600"/>
            </a:br>
            <a:r>
              <a:rPr b="0" i="1" lang="en-US" sz="1600" spc="-1" strike="noStrike">
                <a:solidFill>
                  <a:srgbClr val="ffff66"/>
                </a:solidFill>
                <a:latin typeface="Arial Black"/>
              </a:rPr>
              <a:t>         </a:t>
            </a:r>
            <a:r>
              <a:rPr b="0" i="1" lang="en-US" sz="2000" spc="-1" strike="noStrike">
                <a:solidFill>
                  <a:srgbClr val="ffff66"/>
                </a:solidFill>
                <a:latin typeface="Arial Black"/>
              </a:rPr>
              <a:t>При посадке семян необходимо учитывать: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904760"/>
            <a:ext cx="4441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Глубина заделки зависит о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размера семен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) чем крупнее семя, тем глубже его сею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) мелкие семена заделывают в почву не очень глубоко, а некоторые даже сеют на поверхности почвы, слегка присыпав их слоем почвы не более 2 м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) крупные сеют на глубину до 5 с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) средних размеров – на глубину 2-3 с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Глубина заделки семя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зависит от каче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почв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песчаную почву семена сею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лубже, чем в плотную глинистую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.к. песчаная почва боле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ыхлая, чем глинистая, о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ыстрее теряет влагу и высыхае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глинистой влаги достаточно, н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же на небольшой глубине в н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чень мало воздуха. В глинист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чве проросткам трудн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биваться на поверхность 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ве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Arial Black"/>
              </a:rPr>
              <a:t>Влияние света на прорастание семян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схожесть семян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е зависи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о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сутствия света, особенно эт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носится к семенам с темной кожуро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. к. она не пропускает св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днако, некоторые семена прорастаю тольк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свету. Это семена череды, табака, семе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стений, произрастающих в чрезмер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влажненных местах, болот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Этапы прорастания семян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3600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этап – Поглощение воды. 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этап – Набухание семя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этап – Увелич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меров. Деление клеток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140360" y="1628280"/>
            <a:ext cx="4705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Прорастание семян начинается 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поглощения ими воды: они набухаю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Набухают как всхожие так и невсхож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семена. Набухшие невсхожие семен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загнивают, а всхожие – прорастаю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Вода активизирует веществ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способствующие превращен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нерастворимого крахмала (запас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вещества) в растворимую глюкозу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которая перемещается в зону рост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клетки зародыша начинают делиться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увеличиваться в размерах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Этапы прорастания семян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3600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этап – Появл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решка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этап – Появл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родышев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бега 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40360" y="1628280"/>
            <a:ext cx="47052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Первый видимый признак роста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появление корешка. Он прорыва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кожуру семени, растет вниз, закрепля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семя в почве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Затем появляется почка – зародышев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Побег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228261CD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84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Выводы: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ffff66"/>
                </a:solidFill>
                <a:latin typeface="Arial Black"/>
              </a:rPr>
              <a:t>1. П</a:t>
            </a:r>
            <a:r>
              <a:rPr b="0" i="1" lang="en-US" sz="2400" spc="-1" strike="noStrike">
                <a:solidFill>
                  <a:srgbClr val="ffff66"/>
                </a:solidFill>
                <a:latin typeface="Arial Black"/>
              </a:rPr>
              <a:t>рорастание семян проходит в пять этапов: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24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1 этап – Поглощение воды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 этап – Набухание семян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3 этап – Увеличение размеров. Деление клеток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4 этап – Появление корешка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5 этап – Появление зародышевого побега.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ffff66"/>
                </a:solidFill>
                <a:latin typeface="Arial Black"/>
              </a:rPr>
              <a:t>2. Д</a:t>
            </a:r>
            <a:r>
              <a:rPr b="0" i="1" lang="en-US" sz="2400" spc="-1" strike="noStrike">
                <a:solidFill>
                  <a:srgbClr val="ffff66"/>
                </a:solidFill>
                <a:latin typeface="Arial Black"/>
              </a:rPr>
              <a:t>ля прорастания семян необходимы три условия: вода, воздух и тепло. Если не будет хотя бы одного из этих условий, семена не прорастут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84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42920" y="2133720"/>
            <a:ext cx="756144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 П А С И Б О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 А    В Н И М А Н И Е 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692280"/>
            <a:ext cx="80074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332000" y="1916280"/>
            <a:ext cx="712764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 Р О Р А С Т А Н И Е 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 Е М Я Н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b7"/>
                </a:solidFill>
                <a:latin typeface="Arial Black"/>
              </a:rPr>
              <a:t>Цель работы: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ffb7"/>
                </a:solidFill>
                <a:latin typeface="Arial Black"/>
              </a:rPr>
              <a:t>изучить условия и этапы прорастания семян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b7"/>
                </a:solidFill>
                <a:latin typeface="Arial"/>
              </a:rPr>
              <a:t>Основные задач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b7"/>
                </a:solidFill>
                <a:latin typeface="Arial"/>
              </a:rPr>
              <a:t>Определить понятие зародыша, условия необходимые, чтобы зародыш тронулся в рос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b7"/>
                </a:solidFill>
                <a:latin typeface="Arial"/>
              </a:rPr>
              <a:t>Познакомится при помощи наблюдений с этапами  прорастания семя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b7"/>
                </a:solidFill>
                <a:latin typeface="Arial"/>
              </a:rPr>
              <a:t>Сделать выводы по тем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Семя -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ffb7"/>
                </a:solidFill>
                <a:latin typeface="Arial Black"/>
              </a:rPr>
              <a:t>приостановившийся в своём развитии зародыш. 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2205000"/>
            <a:ext cx="800748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орастани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это переход семян и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остояния покоя к росту зародыш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 развитию из него проростка.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Условия, необходимые для прорастания семян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Line 4"/>
          <p:cNvSpPr/>
          <p:nvPr/>
        </p:nvSpPr>
        <p:spPr>
          <a:xfrm flipH="1">
            <a:off x="2195280" y="1484280"/>
            <a:ext cx="863640" cy="93672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 flipH="1">
            <a:off x="2484000" y="1484280"/>
            <a:ext cx="1366920" cy="316872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5003640" y="1484280"/>
            <a:ext cx="1584360" cy="316872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5796000" y="1484280"/>
            <a:ext cx="936720" cy="10080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8"/>
          <p:cNvSpPr/>
          <p:nvPr/>
        </p:nvSpPr>
        <p:spPr>
          <a:xfrm>
            <a:off x="179280" y="2349360"/>
            <a:ext cx="2592360" cy="2016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14"/>
          <p:cNvSpPr/>
          <p:nvPr/>
        </p:nvSpPr>
        <p:spPr>
          <a:xfrm>
            <a:off x="826920" y="4653000"/>
            <a:ext cx="2592720" cy="2016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15"/>
          <p:cNvSpPr/>
          <p:nvPr/>
        </p:nvSpPr>
        <p:spPr>
          <a:xfrm>
            <a:off x="5651640" y="4653000"/>
            <a:ext cx="2592360" cy="2016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16"/>
          <p:cNvSpPr/>
          <p:nvPr/>
        </p:nvSpPr>
        <p:spPr>
          <a:xfrm>
            <a:off x="6372360" y="2421000"/>
            <a:ext cx="2592360" cy="2016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24"/>
          <p:cNvSpPr/>
          <p:nvPr/>
        </p:nvSpPr>
        <p:spPr>
          <a:xfrm>
            <a:off x="3203640" y="3429000"/>
            <a:ext cx="2592360" cy="2016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25"/>
          <p:cNvSpPr/>
          <p:nvPr/>
        </p:nvSpPr>
        <p:spPr>
          <a:xfrm>
            <a:off x="4427640" y="1557360"/>
            <a:ext cx="0" cy="180036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26" descr="фото флористика 109"/>
          <p:cNvPicPr/>
          <p:nvPr/>
        </p:nvPicPr>
        <p:blipFill>
          <a:blip r:embed="rId1"/>
          <a:stretch/>
        </p:blipFill>
        <p:spPr>
          <a:xfrm>
            <a:off x="826920" y="2924280"/>
            <a:ext cx="1151280" cy="1174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7" descr="фото флористика 108"/>
          <p:cNvPicPr/>
          <p:nvPr/>
        </p:nvPicPr>
        <p:blipFill>
          <a:blip r:embed="rId2"/>
          <a:stretch/>
        </p:blipFill>
        <p:spPr>
          <a:xfrm>
            <a:off x="1258920" y="5229360"/>
            <a:ext cx="1692360" cy="100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8" descr="фото флористика 106"/>
          <p:cNvPicPr/>
          <p:nvPr/>
        </p:nvPicPr>
        <p:blipFill>
          <a:blip r:embed="rId3"/>
          <a:stretch/>
        </p:blipFill>
        <p:spPr>
          <a:xfrm>
            <a:off x="6227640" y="5300640"/>
            <a:ext cx="1460520" cy="1095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9" descr="фото флористика 104"/>
          <p:cNvPicPr/>
          <p:nvPr/>
        </p:nvPicPr>
        <p:blipFill>
          <a:blip r:embed="rId4"/>
          <a:stretch/>
        </p:blipFill>
        <p:spPr>
          <a:xfrm>
            <a:off x="7020000" y="3141720"/>
            <a:ext cx="1352520" cy="1014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0" descr="фото флористика 105"/>
          <p:cNvPicPr/>
          <p:nvPr/>
        </p:nvPicPr>
        <p:blipFill>
          <a:blip r:embed="rId5"/>
          <a:stretch/>
        </p:blipFill>
        <p:spPr>
          <a:xfrm>
            <a:off x="3995640" y="4005360"/>
            <a:ext cx="1114560" cy="11523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1"/>
          <p:cNvSpPr/>
          <p:nvPr/>
        </p:nvSpPr>
        <p:spPr>
          <a:xfrm>
            <a:off x="900000" y="2492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теп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32"/>
          <p:cNvSpPr/>
          <p:nvPr/>
        </p:nvSpPr>
        <p:spPr>
          <a:xfrm>
            <a:off x="1332000" y="479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вода и возду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33"/>
          <p:cNvSpPr/>
          <p:nvPr/>
        </p:nvSpPr>
        <p:spPr>
          <a:xfrm>
            <a:off x="4067280" y="35002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с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34"/>
          <p:cNvSpPr/>
          <p:nvPr/>
        </p:nvSpPr>
        <p:spPr>
          <a:xfrm>
            <a:off x="7093080" y="2565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поч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35"/>
          <p:cNvSpPr/>
          <p:nvPr/>
        </p:nvSpPr>
        <p:spPr>
          <a:xfrm>
            <a:off x="6372360" y="4797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ищ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244440"/>
            <a:ext cx="837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Влияние воды на прорастание семян. 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(</a:t>
            </a:r>
            <a:r>
              <a:rPr b="0" i="1" lang="en-US" sz="2000" spc="-1" strike="noStrike">
                <a:solidFill>
                  <a:srgbClr val="ffffb7"/>
                </a:solidFill>
                <a:latin typeface="Arial Black"/>
              </a:rPr>
              <a:t>Сколько же воды должны "выпить" семена, чтобы окончательно проснуться?)</a:t>
            </a:r>
            <a:br>
              <a:rPr sz="1800"/>
            </a:br>
            <a:r>
              <a:rPr b="1" lang="en-US" sz="1800" spc="-1" strike="noStrike">
                <a:solidFill>
                  <a:srgbClr val="ffffb7"/>
                </a:solidFill>
                <a:latin typeface="Arial Black"/>
              </a:rPr>
              <a:t>               </a:t>
            </a:r>
            <a:r>
              <a:rPr b="1" lang="en-US" sz="1800" spc="-1" strike="noStrike">
                <a:solidFill>
                  <a:srgbClr val="ff6600"/>
                </a:solidFill>
                <a:latin typeface="Arial Black"/>
              </a:rPr>
              <a:t>ДО                                                  ЧЕРЕЗ 2-3 ДНЯ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987640" y="1904760"/>
            <a:ext cx="585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хо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лажно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3" descr="01 сухо"/>
          <p:cNvPicPr/>
          <p:nvPr/>
        </p:nvPicPr>
        <p:blipFill>
          <a:blip r:embed="rId1"/>
          <a:stretch/>
        </p:blipFill>
        <p:spPr>
          <a:xfrm>
            <a:off x="1042920" y="2060640"/>
            <a:ext cx="1657440" cy="1584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02 влажно"/>
          <p:cNvPicPr/>
          <p:nvPr/>
        </p:nvPicPr>
        <p:blipFill>
          <a:blip r:embed="rId2"/>
          <a:stretch/>
        </p:blipFill>
        <p:spPr>
          <a:xfrm>
            <a:off x="971640" y="4292640"/>
            <a:ext cx="1657440" cy="1511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01 сухо 2"/>
          <p:cNvPicPr/>
          <p:nvPr/>
        </p:nvPicPr>
        <p:blipFill>
          <a:blip r:embed="rId3"/>
          <a:stretch/>
        </p:blipFill>
        <p:spPr>
          <a:xfrm>
            <a:off x="5724360" y="2060640"/>
            <a:ext cx="2116440" cy="1873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02 влажно 2"/>
          <p:cNvPicPr/>
          <p:nvPr/>
        </p:nvPicPr>
        <p:blipFill>
          <a:blip r:embed="rId4"/>
          <a:stretch/>
        </p:blipFill>
        <p:spPr>
          <a:xfrm>
            <a:off x="5796000" y="4437000"/>
            <a:ext cx="20890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9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Вывод: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ffb7"/>
                </a:solidFill>
                <a:latin typeface="Arial Black"/>
              </a:rPr>
              <a:t>Вода необходима для прорастания семян, так как зародыш может потреблять только растворённые питательные вещества. 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Влияние воздуха на прорастание семян. </a:t>
            </a:r>
            <a:br>
              <a:rPr sz="12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36160" y="1341000"/>
            <a:ext cx="8007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растание семян возможно только при доступе воздух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50920" y="3068640"/>
            <a:ext cx="8892360" cy="2974320"/>
            <a:chOff x="250920" y="3068640"/>
            <a:chExt cx="8892360" cy="2974320"/>
          </a:xfrm>
        </p:grpSpPr>
        <p:cxnSp>
          <p:nvCxnSpPr>
            <p:cNvPr id="138" name="_s32808"/>
            <p:cNvCxnSpPr>
              <a:stCxn id="139" idx="0"/>
              <a:endCxn id="140" idx="2"/>
            </p:cNvCxnSpPr>
            <p:nvPr/>
          </p:nvCxnSpPr>
          <p:spPr>
            <a:xfrm flipV="1">
              <a:off x="7872840" y="4924080"/>
              <a:ext cx="3240" cy="375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1" name="_s32804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3557520" y="4371840"/>
              <a:ext cx="372240" cy="1482840"/>
            </a:xfrm>
            <a:prstGeom prst="bentConnector3">
              <a:avLst>
                <a:gd name="adj1" fmla="val 3059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4" name="_s32802"/>
            <p:cNvCxnSpPr>
              <a:stCxn id="145" idx="0"/>
              <a:endCxn id="143" idx="2"/>
            </p:cNvCxnSpPr>
            <p:nvPr/>
          </p:nvCxnSpPr>
          <p:spPr>
            <a:xfrm flipH="1" flipV="1" rot="5400000">
              <a:off x="2075760" y="4372200"/>
              <a:ext cx="372240" cy="1482480"/>
            </a:xfrm>
            <a:prstGeom prst="bentConnector3">
              <a:avLst>
                <a:gd name="adj1" fmla="val 3059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6" name="_s32800"/>
            <p:cNvCxnSpPr>
              <a:stCxn id="140" idx="1"/>
              <a:endCxn id="147" idx="2"/>
            </p:cNvCxnSpPr>
            <p:nvPr/>
          </p:nvCxnSpPr>
          <p:spPr>
            <a:xfrm rot="10800000">
              <a:off x="6178680" y="3811320"/>
              <a:ext cx="424080" cy="744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8" name="_s32796"/>
            <p:cNvCxnSpPr>
              <a:stCxn id="143" idx="3"/>
              <a:endCxn id="147" idx="2"/>
            </p:cNvCxnSpPr>
            <p:nvPr/>
          </p:nvCxnSpPr>
          <p:spPr>
            <a:xfrm flipV="1">
              <a:off x="4273200" y="3811320"/>
              <a:ext cx="1906560" cy="744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7" name="_s32788"/>
            <p:cNvSpPr/>
            <p:nvPr/>
          </p:nvSpPr>
          <p:spPr>
            <a:xfrm>
              <a:off x="4908960" y="3068640"/>
              <a:ext cx="2540520" cy="7434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8000"/>
                  </a:solidFill>
                  <a:latin typeface="Arial"/>
                </a:rPr>
                <a:t>ПРОРАСТАНИ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32795"/>
            <p:cNvSpPr/>
            <p:nvPr/>
          </p:nvSpPr>
          <p:spPr>
            <a:xfrm>
              <a:off x="1732680" y="4183920"/>
              <a:ext cx="2540520" cy="7434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Прорастани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невозможно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32799"/>
            <p:cNvSpPr/>
            <p:nvPr/>
          </p:nvSpPr>
          <p:spPr>
            <a:xfrm>
              <a:off x="6602760" y="4183920"/>
              <a:ext cx="2540520" cy="7405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00"/>
                  </a:solidFill>
                  <a:latin typeface="Arial"/>
                </a:rPr>
                <a:t>Прорастание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00"/>
                  </a:solidFill>
                  <a:latin typeface="Arial"/>
                </a:rPr>
                <a:t>возможн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_s32801"/>
            <p:cNvSpPr/>
            <p:nvPr/>
          </p:nvSpPr>
          <p:spPr>
            <a:xfrm>
              <a:off x="250920" y="5299560"/>
              <a:ext cx="2540520" cy="7434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Сухая среда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без доступа воздуха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32803"/>
            <p:cNvSpPr/>
            <p:nvPr/>
          </p:nvSpPr>
          <p:spPr>
            <a:xfrm>
              <a:off x="3215160" y="5299560"/>
              <a:ext cx="2540520" cy="7405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Влажная среда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без доступа воздуха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_s32807"/>
            <p:cNvSpPr/>
            <p:nvPr/>
          </p:nvSpPr>
          <p:spPr>
            <a:xfrm>
              <a:off x="6602760" y="5299560"/>
              <a:ext cx="2540520" cy="7434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Влажная среда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+ воздух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Влияние тепла на прорастание семян.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 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50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растающим семенам, так же как вода и воздух, необходим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епло. Если семенам достаточно воды и воздуха, но не хвата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епла, они не прорастут и, в конце концов, погибну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мена некоторых растений, например, ржи, могут прораста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же при одном градусе тепла, гороха – при двух градуса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мена большинства растений прорастают только пр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емпературе 10 – 15 градусов и выш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Холодостойкие растения высаживают рано, теплолюбивые растения – 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хорошо прогретую земл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рупные семена нужно заделывать в почву на глубину (4 – 5 см), мел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делывают в почву неглубоко ( 1 – 2 см ). 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17:07:26Z</dcterms:created>
  <dc:creator>настя</dc:creator>
  <dc:description/>
  <dc:language>en-US</dc:language>
  <cp:lastModifiedBy>Надя</cp:lastModifiedBy>
  <dcterms:modified xsi:type="dcterms:W3CDTF">2013-01-13T18:01:16Z</dcterms:modified>
  <cp:revision>6</cp:revision>
  <dc:subject/>
  <dc:title>Муниципальное казённое общеобразовательное учреждение средняя общеобразовательная школа №1 г.Ивделя</dc:title>
</cp:coreProperties>
</file>