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854-0F60-45D4-BC61-5E00AEFB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79B-59B6-4C3E-9355-BF3E0AFD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802-3392-48B4-906F-62F70381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277-0B31-4E2B-B806-37E6A35D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1801-1B51-4422-921C-CDE154AA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396F-307F-4B2A-AF95-52A03294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9DBD-A8E2-449D-ADD3-411D8D99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8CD6-51A2-4AA1-8C3A-4C6C5EEB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30F6-122C-4D9D-B01D-0CFCD628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EA28-C62C-45E2-8911-8ED96285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F192-6B35-4DD1-9259-A4759C6C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42AF-DBB2-46ED-AF10-8C2581E7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6D49-85FB-47E9-9CDD-669C29FD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69CB-497B-486E-A205-7B5876A0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3CCA-BD77-4CAE-AAC5-598B0111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64BE-F389-464A-8C67-DDC14AD0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EAFC-07DA-4847-A708-C7DE7678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750-FB42-4532-A4CC-999A7F99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7EF-2C6B-4864-B600-3FB6F577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04F-071E-4BB8-B3A5-EEBFB226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E13-F03D-4386-9C0F-2975DED5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10A-9594-49F9-9960-F8E65E10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BD7-FA81-4E03-8189-F8EF4A68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56DE-3332-429E-B07B-409A644A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BA2E-4B95-4BDA-AF94-288B2602A3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CBF9-B70E-4106-935A-F86B70ACD2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61216"/>
                </a:solidFill>
                <a:latin typeface="Arial Black"/>
              </a:rPr>
              <a:t>Муниципальное казённое общеобразовательное учреждение средняя общеобразовательная школа №1 г.Ивделя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15080" y="1904760"/>
            <a:ext cx="3930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вто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ченик 6 «А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Александров Влади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уководи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Колчано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Надежда Олег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ial Black"/>
              </a:rPr>
              <a:t>Влияние количества запасных питательных веществ на прорастание семян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мер проростка зависит от запа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итательных веществ в семен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м больше веществ, тем крупн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росто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ля посева необходимо отбира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упные, здоровые семе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ial Black"/>
              </a:rPr>
              <a:t>Влияние глубины заделки семян в почву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ffff66"/>
                </a:solidFill>
                <a:latin typeface="Arial Black"/>
              </a:rPr>
              <a:t>         </a:t>
            </a:r>
            <a:r>
              <a:rPr b="0" i="1" lang="en-US" sz="2000" spc="-1" strike="noStrike">
                <a:solidFill>
                  <a:srgbClr val="ffff66"/>
                </a:solidFill>
                <a:latin typeface="Arial Black"/>
              </a:rPr>
              <a:t>При посадке семян необходимо учитывать: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904760"/>
            <a:ext cx="4441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Глубина заделки зависит 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размера семен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 чем крупнее семя, тем глубже его сею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 мелкие семена заделывают в почву не очень глубоко, а некоторые даже сеют на поверхности почвы, слегка присыпав их слоем почвы не более 2 м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) крупные сеют на глубину до 5 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) средних размеров – на глубину 2-3 с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Глубина заделки семя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зависит от 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поч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песчаную почву семена се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убже, чем в плотную глинисту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.к. песчаная почва боле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ыхлая, чем глинистая, о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стрее теряет влагу и высыха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глинистой влаги достаточно, 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же на небольшой глубине в н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чень мало воздуха. В глинист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чве проросткам труд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биваться на поверхность 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Arial Black"/>
              </a:rPr>
              <a:t>Влияние света на прорастание семян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хожесть семян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 зависи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о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сутствия света, особенно 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носится к семенам с темной кожуро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. к. она не пропускает св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ако, некоторые семена прорастаю толь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свету. Это семена череды, табака, сем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тений, произрастающих в чрезмер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влажненных местах, болот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Этапы прорастания семян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360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этап – Поглощение воды. 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этап – Набухание семя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этап – Увелич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еров. Деление клеток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40360" y="1628280"/>
            <a:ext cx="4705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орастание семян начинается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оглощения ими воды: они набухаю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Набухают как всхожие так и невсхож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семена. Набухшие невсхожие семе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загнивают, а всхожие – прорастаю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Вода активизирует вещест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пособствующие превраще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нерастворимого крахмала (запас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вещества) в растворимую глюкоз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которая перемещается в зону рос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клетки зародыша начинают делиться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увеличиваться в размерах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Этапы прорастания семян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360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этап – Появ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ешка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этап – Появ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родышев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бега 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40360" y="1628280"/>
            <a:ext cx="4705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ервый видимый признак роста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оявление корешка. Он прорыв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кожуру семени, растет вниз, закрепля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емя в почве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Затем появляется почка – зародышев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обег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228261CD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8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ыводы: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ffff66"/>
                </a:solidFill>
                <a:latin typeface="Arial Black"/>
              </a:rPr>
              <a:t>1. П</a:t>
            </a:r>
            <a:r>
              <a:rPr b="0" i="1" lang="en-US" sz="2400" spc="-1" strike="noStrike">
                <a:solidFill>
                  <a:srgbClr val="ffff66"/>
                </a:solidFill>
                <a:latin typeface="Arial Black"/>
              </a:rPr>
              <a:t>рорастание семян проходит в пять этапов: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 этап – Поглощение воды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 этап – Набухание семян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3 этап – Увеличение размеров. Деление клеток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4 этап – Появление корешка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5 этап – Появление зародышевого побега.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ffff66"/>
                </a:solidFill>
                <a:latin typeface="Arial Black"/>
              </a:rPr>
              <a:t>2. Д</a:t>
            </a:r>
            <a:r>
              <a:rPr b="0" i="1" lang="en-US" sz="2400" spc="-1" strike="noStrike">
                <a:solidFill>
                  <a:srgbClr val="ffff66"/>
                </a:solidFill>
                <a:latin typeface="Arial Black"/>
              </a:rPr>
              <a:t>ля прорастания семян необходимы три условия: вода, воздух и тепло. Если не будет хотя бы одного из этих условий, семена не прорастут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84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42920" y="2133720"/>
            <a:ext cx="75614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П А С И Б 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 А    В Н И М А Н И Е 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692280"/>
            <a:ext cx="8007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32000" y="1916280"/>
            <a:ext cx="71276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 Р О Р А С Т А Н И Е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Е М Я Н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Arial Black"/>
              </a:rPr>
              <a:t>Цель работы: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b7"/>
                </a:solidFill>
                <a:latin typeface="Arial Black"/>
              </a:rPr>
              <a:t>изучить условия и этапы прорастания семян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Arial"/>
              </a:rPr>
              <a:t>Основные 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7"/>
                </a:solidFill>
                <a:latin typeface="Arial"/>
              </a:rPr>
              <a:t>Определить понятие зародыша, условия необходимые, чтобы зародыш тронулся в ро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7"/>
                </a:solidFill>
                <a:latin typeface="Arial"/>
              </a:rPr>
              <a:t>Познакомится при помощи наблюдений с этапами  прорастания семя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b7"/>
                </a:solidFill>
                <a:latin typeface="Arial"/>
              </a:rPr>
              <a:t>Сделать выводы по те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Семя -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b7"/>
                </a:solidFill>
                <a:latin typeface="Arial Black"/>
              </a:rPr>
              <a:t>приостановившийся в своём развитии зародыш. 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205000"/>
            <a:ext cx="80074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раста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то переход семян и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ояния покоя к росту зародыш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 развитию из него проростка.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Условия, необходимые для прорастания семян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Line 4"/>
          <p:cNvSpPr/>
          <p:nvPr/>
        </p:nvSpPr>
        <p:spPr>
          <a:xfrm flipH="1">
            <a:off x="2195280" y="1484280"/>
            <a:ext cx="863640" cy="936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 flipH="1">
            <a:off x="2484000" y="1484280"/>
            <a:ext cx="1366920" cy="3168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5003640" y="1484280"/>
            <a:ext cx="1584360" cy="31687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5796000" y="1484280"/>
            <a:ext cx="936720" cy="10080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179280" y="2349360"/>
            <a:ext cx="2592360" cy="201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826920" y="4653000"/>
            <a:ext cx="2592720" cy="20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5"/>
          <p:cNvSpPr/>
          <p:nvPr/>
        </p:nvSpPr>
        <p:spPr>
          <a:xfrm>
            <a:off x="5651640" y="4653000"/>
            <a:ext cx="2592360" cy="20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6"/>
          <p:cNvSpPr/>
          <p:nvPr/>
        </p:nvSpPr>
        <p:spPr>
          <a:xfrm>
            <a:off x="6372360" y="2421000"/>
            <a:ext cx="2592360" cy="20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3203640" y="3429000"/>
            <a:ext cx="2592360" cy="20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25"/>
          <p:cNvSpPr/>
          <p:nvPr/>
        </p:nvSpPr>
        <p:spPr>
          <a:xfrm>
            <a:off x="4427640" y="1557360"/>
            <a:ext cx="0" cy="180036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6" descr="фото флористика 109"/>
          <p:cNvPicPr/>
          <p:nvPr/>
        </p:nvPicPr>
        <p:blipFill>
          <a:blip r:embed="rId1"/>
          <a:stretch/>
        </p:blipFill>
        <p:spPr>
          <a:xfrm>
            <a:off x="826920" y="2924280"/>
            <a:ext cx="1151280" cy="1174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7" descr="фото флористика 108"/>
          <p:cNvPicPr/>
          <p:nvPr/>
        </p:nvPicPr>
        <p:blipFill>
          <a:blip r:embed="rId2"/>
          <a:stretch/>
        </p:blipFill>
        <p:spPr>
          <a:xfrm>
            <a:off x="1258920" y="5229360"/>
            <a:ext cx="1692360" cy="100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фото флористика 106"/>
          <p:cNvPicPr/>
          <p:nvPr/>
        </p:nvPicPr>
        <p:blipFill>
          <a:blip r:embed="rId3"/>
          <a:stretch/>
        </p:blipFill>
        <p:spPr>
          <a:xfrm>
            <a:off x="6227640" y="5300640"/>
            <a:ext cx="1460520" cy="1095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фото флористика 104"/>
          <p:cNvPicPr/>
          <p:nvPr/>
        </p:nvPicPr>
        <p:blipFill>
          <a:blip r:embed="rId4"/>
          <a:stretch/>
        </p:blipFill>
        <p:spPr>
          <a:xfrm>
            <a:off x="7020000" y="3141720"/>
            <a:ext cx="1352520" cy="1014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0" descr="фото флористика 105"/>
          <p:cNvPicPr/>
          <p:nvPr/>
        </p:nvPicPr>
        <p:blipFill>
          <a:blip r:embed="rId5"/>
          <a:stretch/>
        </p:blipFill>
        <p:spPr>
          <a:xfrm>
            <a:off x="3995640" y="4005360"/>
            <a:ext cx="1114560" cy="1152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1"/>
          <p:cNvSpPr/>
          <p:nvPr/>
        </p:nvSpPr>
        <p:spPr>
          <a:xfrm>
            <a:off x="900000" y="2492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теп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1332000" y="47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вода и возду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4067280" y="3500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с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7093080" y="2565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оч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6372360" y="479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ищ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44440"/>
            <a:ext cx="837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Влияние воды на прорастание семян. 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(</a:t>
            </a:r>
            <a:r>
              <a:rPr b="0" i="1" lang="en-US" sz="2000" spc="-1" strike="noStrike">
                <a:solidFill>
                  <a:srgbClr val="ffffb7"/>
                </a:solidFill>
                <a:latin typeface="Arial Black"/>
              </a:rPr>
              <a:t>Сколько же воды должны "выпить" семена, чтобы окончательно проснуться?)</a:t>
            </a:r>
            <a:br>
              <a:rPr sz="1800"/>
            </a:b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en-US" sz="1800" spc="-1" strike="noStrike">
                <a:solidFill>
                  <a:srgbClr val="ff6600"/>
                </a:solidFill>
                <a:latin typeface="Arial Black"/>
              </a:rPr>
              <a:t>ДО                                                  ЧЕРЕЗ 2-3 ДНЯ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87640" y="1904760"/>
            <a:ext cx="585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хо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лажно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3" descr="01 сухо"/>
          <p:cNvPicPr/>
          <p:nvPr/>
        </p:nvPicPr>
        <p:blipFill>
          <a:blip r:embed="rId1"/>
          <a:stretch/>
        </p:blipFill>
        <p:spPr>
          <a:xfrm>
            <a:off x="1042920" y="2060640"/>
            <a:ext cx="165744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02 влажно"/>
          <p:cNvPicPr/>
          <p:nvPr/>
        </p:nvPicPr>
        <p:blipFill>
          <a:blip r:embed="rId2"/>
          <a:stretch/>
        </p:blipFill>
        <p:spPr>
          <a:xfrm>
            <a:off x="971640" y="4292640"/>
            <a:ext cx="165744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01 сухо 2"/>
          <p:cNvPicPr/>
          <p:nvPr/>
        </p:nvPicPr>
        <p:blipFill>
          <a:blip r:embed="rId3"/>
          <a:stretch/>
        </p:blipFill>
        <p:spPr>
          <a:xfrm>
            <a:off x="5724360" y="2060640"/>
            <a:ext cx="2116440" cy="187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02 влажно 2"/>
          <p:cNvPicPr/>
          <p:nvPr/>
        </p:nvPicPr>
        <p:blipFill>
          <a:blip r:embed="rId4"/>
          <a:stretch/>
        </p:blipFill>
        <p:spPr>
          <a:xfrm>
            <a:off x="5796000" y="4437000"/>
            <a:ext cx="2089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b7"/>
                </a:solidFill>
                <a:latin typeface="Arial Black"/>
              </a:rPr>
              <a:t>Вода необходима для прорастания семян, так как зародыш может потреблять только растворённые питательные вещества. 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Влияние воздуха на прорастание семян. </a:t>
            </a:r>
            <a:br>
              <a:rPr sz="12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3616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растание семян возможно только при доступе возд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50920" y="3068640"/>
            <a:ext cx="8892360" cy="2974320"/>
            <a:chOff x="250920" y="3068640"/>
            <a:chExt cx="8892360" cy="2974320"/>
          </a:xfrm>
        </p:grpSpPr>
        <p:cxnSp>
          <p:nvCxnSpPr>
            <p:cNvPr id="138" name="_s32808"/>
            <p:cNvCxnSpPr>
              <a:stCxn id="139" idx="0"/>
              <a:endCxn id="140" idx="2"/>
            </p:cNvCxnSpPr>
            <p:nvPr/>
          </p:nvCxnSpPr>
          <p:spPr>
            <a:xfrm flipV="1">
              <a:off x="7872840" y="4924080"/>
              <a:ext cx="3240" cy="375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1" name="_s3280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3557520" y="4371840"/>
              <a:ext cx="372240" cy="1482840"/>
            </a:xfrm>
            <a:prstGeom prst="bentConnector3">
              <a:avLst>
                <a:gd name="adj1" fmla="val 305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4" name="_s32802"/>
            <p:cNvCxnSpPr>
              <a:stCxn id="145" idx="0"/>
              <a:endCxn id="143" idx="2"/>
            </p:cNvCxnSpPr>
            <p:nvPr/>
          </p:nvCxnSpPr>
          <p:spPr>
            <a:xfrm flipH="1" flipV="1" rot="5400000">
              <a:off x="2075760" y="4372200"/>
              <a:ext cx="372240" cy="1482480"/>
            </a:xfrm>
            <a:prstGeom prst="bentConnector3">
              <a:avLst>
                <a:gd name="adj1" fmla="val 3059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32800"/>
            <p:cNvCxnSpPr>
              <a:stCxn id="140" idx="1"/>
              <a:endCxn id="147" idx="2"/>
            </p:cNvCxnSpPr>
            <p:nvPr/>
          </p:nvCxnSpPr>
          <p:spPr>
            <a:xfrm rot="10800000">
              <a:off x="6178680" y="3811320"/>
              <a:ext cx="424080" cy="744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32796"/>
            <p:cNvCxnSpPr>
              <a:stCxn id="143" idx="3"/>
              <a:endCxn id="147" idx="2"/>
            </p:cNvCxnSpPr>
            <p:nvPr/>
          </p:nvCxnSpPr>
          <p:spPr>
            <a:xfrm flipV="1">
              <a:off x="4273200" y="3811320"/>
              <a:ext cx="1906560" cy="744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7" name="_s32788"/>
            <p:cNvSpPr/>
            <p:nvPr/>
          </p:nvSpPr>
          <p:spPr>
            <a:xfrm>
              <a:off x="4908960" y="3068640"/>
              <a:ext cx="2540520" cy="743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8000"/>
                  </a:solidFill>
                  <a:latin typeface="Arial"/>
                </a:rPr>
                <a:t>ПРОРАСТАН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32795"/>
            <p:cNvSpPr/>
            <p:nvPr/>
          </p:nvSpPr>
          <p:spPr>
            <a:xfrm>
              <a:off x="1732680" y="4183920"/>
              <a:ext cx="2540520" cy="743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рорастан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невозможно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32799"/>
            <p:cNvSpPr/>
            <p:nvPr/>
          </p:nvSpPr>
          <p:spPr>
            <a:xfrm>
              <a:off x="6602760" y="4183920"/>
              <a:ext cx="2540520" cy="740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00"/>
                  </a:solidFill>
                  <a:latin typeface="Arial"/>
                </a:rPr>
                <a:t>Прорастан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00"/>
                  </a:solidFill>
                  <a:latin typeface="Arial"/>
                </a:rPr>
                <a:t>возможн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32801"/>
            <p:cNvSpPr/>
            <p:nvPr/>
          </p:nvSpPr>
          <p:spPr>
            <a:xfrm>
              <a:off x="250920" y="5299560"/>
              <a:ext cx="2540520" cy="743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Сухая среда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без доступа воздух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32803"/>
            <p:cNvSpPr/>
            <p:nvPr/>
          </p:nvSpPr>
          <p:spPr>
            <a:xfrm>
              <a:off x="3215160" y="5299560"/>
              <a:ext cx="2540520" cy="7405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Влажная среда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без доступа воздух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32807"/>
            <p:cNvSpPr/>
            <p:nvPr/>
          </p:nvSpPr>
          <p:spPr>
            <a:xfrm>
              <a:off x="6602760" y="5299560"/>
              <a:ext cx="2540520" cy="7434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Влажная среда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+ воздух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Влияние тепла на прорастание семян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50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растающим семенам, так же как вода и воздух, необходи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пло. Если семенам достаточно воды и воздуха, но не хват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пла, они не прорастут и, в конце концов, погибну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мена некоторых растений, например, ржи, могут прораст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же при одном градусе тепла, гороха – при двух градус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мена большинства растений прорастают только пр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емпературе 10 – 15 градусов и выш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лодостойкие растения высаживают рано, теплолюбивые растения –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рошо прогретую земл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упные семена нужно заделывать в почву на глубину (4 – 5 см), мел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елывают в почву неглубоко ( 1 – 2 см ).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7:07:26Z</dcterms:created>
  <dc:creator>настя</dc:creator>
  <dc:description/>
  <dc:language>en-US</dc:language>
  <cp:lastModifiedBy>Надя</cp:lastModifiedBy>
  <dcterms:modified xsi:type="dcterms:W3CDTF">2013-01-13T18:01:16Z</dcterms:modified>
  <cp:revision>6</cp:revision>
  <dc:subject/>
  <dc:title>Муниципальное казённое общеобразовательное учреждение средняя общеобразовательная школа №1 г.Ивделя</dc:title>
</cp:coreProperties>
</file>