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A6F-1D27-4E69-A9A8-D253DEC2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782-CC62-4A6B-BE56-FEAB55D9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F94-4C59-4F28-951D-533DDD85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579-8B86-4B0C-B7C2-179CECAF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EEBE-B625-4F79-9739-B95DD316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3E78-1AA5-4D4E-ACF4-A9A5B7CF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564C-528A-4D80-A832-191CA57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8C4C-50B2-494B-A0BF-63264D28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D4A9-5032-41C8-8B53-2812687B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768A-D0CD-4845-9E57-B0EF1843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D5DB-AD2A-4DF6-BD85-CF192F7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3D3-8D83-4B37-B182-E45AB644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F62A-B50F-4090-A316-753FCAC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6BBD-DED4-4D68-948D-E06B502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A7B4-24FA-494B-BD51-A09DD1C9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F91C-C511-4269-ABC6-0FE13718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DA5E-F536-4232-B21A-C13C138F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97C-7601-4249-B085-26C4D921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41A-61A7-4C6C-9FC6-C469303D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3CA-6BE7-4C4B-9A34-BC448E5D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5EF-44EB-49A3-BE89-1A3228EA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1D0-3E1C-4EEF-B434-4669D21B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82D-D0FA-4AAF-8CF6-D9FCA48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FE4-2A0A-433B-A52C-0656E73B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5416-6879-4094-8920-63CBF70C05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A46C-E254-432C-80E6-5E218A298A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54.radikal.ru/i144/0902/c7/0c25fae07d11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5.jpe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23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толемей, Галилей, телеско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Телескоп Галилея"/>
          <p:cNvPicPr/>
          <p:nvPr/>
        </p:nvPicPr>
        <p:blipFill>
          <a:blip r:embed="rId1"/>
          <a:stretch/>
        </p:blipFill>
        <p:spPr>
          <a:xfrm>
            <a:off x="6121440" y="2924280"/>
            <a:ext cx="2770200" cy="360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Телескопу 400 лет"/>
          <p:cNvPicPr/>
          <p:nvPr/>
        </p:nvPicPr>
        <p:blipFill>
          <a:blip r:embed="rId2"/>
          <a:stretch/>
        </p:blipFill>
        <p:spPr>
          <a:xfrm>
            <a:off x="7289640" y="0"/>
            <a:ext cx="185436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иколай Коперник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4067280" cy="544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Джордано Брун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486240" cy="522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879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Астролябия"/>
          <p:cNvPicPr/>
          <p:nvPr/>
        </p:nvPicPr>
        <p:blipFill>
          <a:blip r:embed="rId1"/>
          <a:stretch/>
        </p:blipFill>
        <p:spPr>
          <a:xfrm>
            <a:off x="971640" y="404640"/>
            <a:ext cx="691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Хрустальная картина из кристаллов SWAROVSKI арт.Планета Земля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лескоп Галил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Телескопу 400 лет"/>
          <p:cNvPicPr/>
          <p:nvPr/>
        </p:nvPicPr>
        <p:blipFill>
          <a:blip r:embed="rId1"/>
          <a:stretch/>
        </p:blipFill>
        <p:spPr>
          <a:xfrm>
            <a:off x="5796000" y="2349360"/>
            <a:ext cx="2714760" cy="395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Телескопу 400 лет"/>
          <p:cNvPicPr/>
          <p:nvPr/>
        </p:nvPicPr>
        <p:blipFill>
          <a:blip r:embed="rId2"/>
          <a:stretch/>
        </p:blipFill>
        <p:spPr>
          <a:xfrm>
            <a:off x="0" y="0"/>
            <a:ext cx="3143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елескоп "Хаббл"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" descr="Телескопу 400 лет"/>
          <p:cNvPicPr/>
          <p:nvPr/>
        </p:nvPicPr>
        <p:blipFill>
          <a:blip r:embed="rId1"/>
          <a:stretch/>
        </p:blipFill>
        <p:spPr>
          <a:xfrm>
            <a:off x="2428920" y="2131920"/>
            <a:ext cx="5311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слушайте!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    Ведь, если звезды зажигают -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    значит - это кому-нибудь нужно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00960" y="2133720"/>
            <a:ext cx="2543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Генассамблея ООН провозгласила 2009 год Международным годом астрономии. Резолюция была представлена Италией, родиной Галилео Галилея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Рисунок 1"/>
          <p:cNvPicPr/>
          <p:nvPr/>
        </p:nvPicPr>
        <p:blipFill>
          <a:blip r:embed="rId1"/>
          <a:stretch/>
        </p:blipFill>
        <p:spPr>
          <a:xfrm>
            <a:off x="3132000" y="2637000"/>
            <a:ext cx="3849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92600" cy="351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0448000">
            <a:off x="610920" y="1988640"/>
            <a:ext cx="146520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Рисунок 7"/>
          <p:cNvPicPr/>
          <p:nvPr/>
        </p:nvPicPr>
        <p:blipFill>
          <a:blip r:embed="rId3"/>
          <a:stretch/>
        </p:blipFill>
        <p:spPr>
          <a:xfrm rot="20890800">
            <a:off x="4181400" y="277920"/>
            <a:ext cx="924120" cy="135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Рисунок 9"/>
          <p:cNvPicPr/>
          <p:nvPr/>
        </p:nvPicPr>
        <p:blipFill>
          <a:blip r:embed="rId4"/>
          <a:stretch/>
        </p:blipFill>
        <p:spPr>
          <a:xfrm rot="21159000">
            <a:off x="324000" y="333360"/>
            <a:ext cx="1276200" cy="141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Рисунок 11"/>
          <p:cNvPicPr/>
          <p:nvPr/>
        </p:nvPicPr>
        <p:blipFill>
          <a:blip r:embed="rId5"/>
          <a:stretch/>
        </p:blipFill>
        <p:spPr>
          <a:xfrm rot="497400">
            <a:off x="2124000" y="620280"/>
            <a:ext cx="142236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Рисунок 15"/>
          <p:cNvPicPr/>
          <p:nvPr/>
        </p:nvPicPr>
        <p:blipFill>
          <a:blip r:embed="rId6"/>
          <a:stretch/>
        </p:blipFill>
        <p:spPr>
          <a:xfrm rot="521400">
            <a:off x="5508360" y="836640"/>
            <a:ext cx="1535040" cy="1700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Рисунок 17"/>
          <p:cNvPicPr/>
          <p:nvPr/>
        </p:nvPicPr>
        <p:blipFill>
          <a:blip r:embed="rId7"/>
          <a:stretch/>
        </p:blipFill>
        <p:spPr>
          <a:xfrm rot="1486800">
            <a:off x="7308720" y="476280"/>
            <a:ext cx="15512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 rot="1315800">
            <a:off x="6895800" y="4471920"/>
            <a:ext cx="1798560" cy="1909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Рисунок 5"/>
          <p:cNvPicPr/>
          <p:nvPr/>
        </p:nvPicPr>
        <p:blipFill>
          <a:blip r:embed="rId9"/>
          <a:stretch/>
        </p:blipFill>
        <p:spPr>
          <a:xfrm rot="19888200">
            <a:off x="684360" y="4436640"/>
            <a:ext cx="1761840" cy="1952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Телескопу 400 лет"/>
          <p:cNvPicPr/>
          <p:nvPr/>
        </p:nvPicPr>
        <p:blipFill>
          <a:blip r:embed="rId10"/>
          <a:stretch/>
        </p:blipFill>
        <p:spPr>
          <a:xfrm>
            <a:off x="3780000" y="5041800"/>
            <a:ext cx="2232000" cy="1816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 rot="2266800">
            <a:off x="7667280" y="2565360"/>
            <a:ext cx="109548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Рисунок 17"/>
          <p:cNvPicPr/>
          <p:nvPr/>
        </p:nvPicPr>
        <p:blipFill>
          <a:blip r:embed="rId1"/>
          <a:stretch/>
        </p:blipFill>
        <p:spPr>
          <a:xfrm>
            <a:off x="468360" y="189000"/>
            <a:ext cx="3039840" cy="338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45840" y="2561760"/>
            <a:ext cx="505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рылась бездна, звёзд полн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здам числа нет, бездне д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чинка как в морских волн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ала искра в вечном льд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в сильном вихре тонкий пр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ирепом, как перо, огн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я в сей бездне углублё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яюсь, мысльми утомлен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колько звезд сияет в ночи?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561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The Music of the Dance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Ур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Файл:Urania Pio-Clementino Inv293.jpg"/>
          <p:cNvPicPr/>
          <p:nvPr/>
        </p:nvPicPr>
        <p:blipFill>
          <a:blip r:embed="rId1"/>
          <a:stretch/>
        </p:blipFill>
        <p:spPr>
          <a:xfrm>
            <a:off x="3287880" y="1413000"/>
            <a:ext cx="244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лавдий Птолемей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4248360" cy="515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248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7:40:53Z</dcterms:created>
  <dc:creator>Чанин</dc:creator>
  <dc:description/>
  <dc:language>en-US</dc:language>
  <cp:lastModifiedBy>Чанин</cp:lastModifiedBy>
  <dcterms:modified xsi:type="dcterms:W3CDTF">2009-11-29T19:36:01Z</dcterms:modified>
  <cp:revision>4</cp:revision>
  <dc:subject/>
  <dc:title>Птолемей, Галилей, телескоп </dc:title>
</cp:coreProperties>
</file>