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197-5915-4F32-96AB-FA1C2141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D75-B087-4814-9ED2-CDAEFA48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4D2-12D6-401A-AFB7-578AEB75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110-6710-421D-87F1-EF8408AF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0E5C-502B-45EC-AC84-8092E2EA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57E5-8817-49E0-A8DD-5514701C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8D0B-7069-4EFE-8850-146B3FE8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4203-CAE3-4F52-8B7C-62DDC925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2A29-991D-4096-A762-5CF37819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AB64-529D-430D-B6B7-EFA2182F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74AC-58C9-40EE-B197-209BC51F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ABD-D913-4306-ADED-A7F8E833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DEC1-3193-4F56-A141-5593F856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B38B-EA72-4CA9-AA05-A3A2A918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8073-F6AA-43E0-9BD7-E0341BA7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4DB6-0332-4507-B86B-DF301B15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890C-5822-405D-A4C4-C1C3B136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C20-3C68-4C6C-A508-9E6ACBEF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114-A74C-49E6-9BEA-520E8422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782-024D-4A3D-9CDF-451FAF30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B39-A3D9-421B-84ED-3A1483B7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99A-0F6A-442C-9013-233E2802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E7C-6623-401B-8F88-396EF498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10B-838D-44B1-84C7-F52F7B15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8B9E-DF50-4F92-BB51-CF47953544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3A7D-675C-4F8A-BED5-A99C61D9D2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54.radikal.ru/i144/0902/c7/0c25fae07d11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5.jpe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23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толемей, Галилей, телескоп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Телескоп Галилея"/>
          <p:cNvPicPr/>
          <p:nvPr/>
        </p:nvPicPr>
        <p:blipFill>
          <a:blip r:embed="rId1"/>
          <a:stretch/>
        </p:blipFill>
        <p:spPr>
          <a:xfrm>
            <a:off x="6121440" y="2924280"/>
            <a:ext cx="2770200" cy="360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Телескопу 400 лет"/>
          <p:cNvPicPr/>
          <p:nvPr/>
        </p:nvPicPr>
        <p:blipFill>
          <a:blip r:embed="rId2"/>
          <a:stretch/>
        </p:blipFill>
        <p:spPr>
          <a:xfrm>
            <a:off x="7289640" y="0"/>
            <a:ext cx="1854360" cy="227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иколай Коперник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4067280" cy="544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Джордано Брун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3486240" cy="5229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2879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Астролябия"/>
          <p:cNvPicPr/>
          <p:nvPr/>
        </p:nvPicPr>
        <p:blipFill>
          <a:blip r:embed="rId1"/>
          <a:stretch/>
        </p:blipFill>
        <p:spPr>
          <a:xfrm>
            <a:off x="971640" y="404640"/>
            <a:ext cx="6913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Хрустальная картина из кристаллов SWAROVSKI арт.Планета Земля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лескоп Галиле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Телескопу 400 лет"/>
          <p:cNvPicPr/>
          <p:nvPr/>
        </p:nvPicPr>
        <p:blipFill>
          <a:blip r:embed="rId1"/>
          <a:stretch/>
        </p:blipFill>
        <p:spPr>
          <a:xfrm>
            <a:off x="5796000" y="2349360"/>
            <a:ext cx="2714760" cy="395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Телескопу 400 лет"/>
          <p:cNvPicPr/>
          <p:nvPr/>
        </p:nvPicPr>
        <p:blipFill>
          <a:blip r:embed="rId2"/>
          <a:stretch/>
        </p:blipFill>
        <p:spPr>
          <a:xfrm>
            <a:off x="0" y="0"/>
            <a:ext cx="3143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елескоп "Хаббл"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" descr="Телескопу 400 лет"/>
          <p:cNvPicPr/>
          <p:nvPr/>
        </p:nvPicPr>
        <p:blipFill>
          <a:blip r:embed="rId1"/>
          <a:stretch/>
        </p:blipFill>
        <p:spPr>
          <a:xfrm>
            <a:off x="2428920" y="2131920"/>
            <a:ext cx="5311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слушайте!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    Ведь, если звезды зажигают -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    значит - это кому-нибудь нужно?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00960" y="2133720"/>
            <a:ext cx="2543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Генассамблея ООН провозгласила 2009 год Международным годом астрономии. Резолюция была представлена Италией, родиной Галилео Галилея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" descr="Рисунок 1"/>
          <p:cNvPicPr/>
          <p:nvPr/>
        </p:nvPicPr>
        <p:blipFill>
          <a:blip r:embed="rId1"/>
          <a:stretch/>
        </p:blipFill>
        <p:spPr>
          <a:xfrm>
            <a:off x="3132000" y="2637000"/>
            <a:ext cx="3849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92600" cy="351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0448000">
            <a:off x="610920" y="1988640"/>
            <a:ext cx="146520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Рисунок 7"/>
          <p:cNvPicPr/>
          <p:nvPr/>
        </p:nvPicPr>
        <p:blipFill>
          <a:blip r:embed="rId3"/>
          <a:stretch/>
        </p:blipFill>
        <p:spPr>
          <a:xfrm rot="20890800">
            <a:off x="4181400" y="277920"/>
            <a:ext cx="924120" cy="135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Рисунок 9"/>
          <p:cNvPicPr/>
          <p:nvPr/>
        </p:nvPicPr>
        <p:blipFill>
          <a:blip r:embed="rId4"/>
          <a:stretch/>
        </p:blipFill>
        <p:spPr>
          <a:xfrm rot="21159000">
            <a:off x="324000" y="333360"/>
            <a:ext cx="1276200" cy="141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Рисунок 11"/>
          <p:cNvPicPr/>
          <p:nvPr/>
        </p:nvPicPr>
        <p:blipFill>
          <a:blip r:embed="rId5"/>
          <a:stretch/>
        </p:blipFill>
        <p:spPr>
          <a:xfrm rot="497400">
            <a:off x="2124000" y="620280"/>
            <a:ext cx="142236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Рисунок 15"/>
          <p:cNvPicPr/>
          <p:nvPr/>
        </p:nvPicPr>
        <p:blipFill>
          <a:blip r:embed="rId6"/>
          <a:stretch/>
        </p:blipFill>
        <p:spPr>
          <a:xfrm rot="521400">
            <a:off x="5508360" y="836640"/>
            <a:ext cx="1535040" cy="1700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Рисунок 17"/>
          <p:cNvPicPr/>
          <p:nvPr/>
        </p:nvPicPr>
        <p:blipFill>
          <a:blip r:embed="rId7"/>
          <a:stretch/>
        </p:blipFill>
        <p:spPr>
          <a:xfrm rot="1486800">
            <a:off x="7308720" y="476280"/>
            <a:ext cx="1551240" cy="1727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 rot="1315800">
            <a:off x="6895800" y="4471920"/>
            <a:ext cx="1798560" cy="1909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Рисунок 5"/>
          <p:cNvPicPr/>
          <p:nvPr/>
        </p:nvPicPr>
        <p:blipFill>
          <a:blip r:embed="rId9"/>
          <a:stretch/>
        </p:blipFill>
        <p:spPr>
          <a:xfrm rot="19888200">
            <a:off x="684360" y="4436640"/>
            <a:ext cx="1761840" cy="1952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Телескопу 400 лет"/>
          <p:cNvPicPr/>
          <p:nvPr/>
        </p:nvPicPr>
        <p:blipFill>
          <a:blip r:embed="rId10"/>
          <a:stretch/>
        </p:blipFill>
        <p:spPr>
          <a:xfrm>
            <a:off x="3780000" y="5041800"/>
            <a:ext cx="2232000" cy="1816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 rot="2266800">
            <a:off x="7667280" y="2565360"/>
            <a:ext cx="109548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Рисунок 17"/>
          <p:cNvPicPr/>
          <p:nvPr/>
        </p:nvPicPr>
        <p:blipFill>
          <a:blip r:embed="rId1"/>
          <a:stretch/>
        </p:blipFill>
        <p:spPr>
          <a:xfrm>
            <a:off x="468360" y="189000"/>
            <a:ext cx="3039840" cy="338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45840" y="2561760"/>
            <a:ext cx="505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рылась бездна, звёзд полн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ездам числа нет, бездне д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счинка как в морских волн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мала искра в вечном льд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в сильном вихре тонкий пр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ирепом, как перо, огн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я в сей бездне углублё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яюсь, мысльми утомлен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колько звезд сияет в ночи?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561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" descr="The Music of the Dance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Ур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Файл:Urania Pio-Clementino Inv293.jpg"/>
          <p:cNvPicPr/>
          <p:nvPr/>
        </p:nvPicPr>
        <p:blipFill>
          <a:blip r:embed="rId1"/>
          <a:stretch/>
        </p:blipFill>
        <p:spPr>
          <a:xfrm>
            <a:off x="3287880" y="1413000"/>
            <a:ext cx="2449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лавдий Птолемей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4248360" cy="5157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248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7:40:53Z</dcterms:created>
  <dc:creator>Чанин</dc:creator>
  <dc:description/>
  <dc:language>en-US</dc:language>
  <cp:lastModifiedBy>Чанин</cp:lastModifiedBy>
  <dcterms:modified xsi:type="dcterms:W3CDTF">2009-11-29T19:36:01Z</dcterms:modified>
  <cp:revision>4</cp:revision>
  <dc:subject/>
  <dc:title>Птолемей, Галилей, телескоп </dc:title>
</cp:coreProperties>
</file>