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F21B-2A7E-49C5-AA27-A89EF022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84F2-3BAD-419D-A9A6-0C4F9928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8F16-AAB9-44CF-9E54-1BAD7615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7C0-5E20-4510-A688-9E55DC4E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22EF-8BF8-44F2-B498-62E3E7D6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9FDB-1F62-4DEA-9621-7EC0038B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2D78-0917-49E6-80DD-1834BA0D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DBC2-5C20-4439-9095-246EFCFA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009D-0BA0-447A-AB95-1DEC7F5B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FC60-00CF-42A8-8DF1-A1B8A662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93A9-8142-4027-A32A-8F978985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B0BF-AC71-413B-8F64-246D6E6E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0931-BEF2-45E4-AAD5-B5C87F82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1931-DD62-4DFA-9AB1-8DEB7024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A88A-1006-43A4-A26A-EBCDCAB7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8F61-7E73-4897-9971-8F82EC76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057F-9EDD-41A1-AA39-7FC25EF9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C87A-E73F-499D-B8A1-66863CAE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727E-0B47-4B08-BD14-A3F46104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41C5-9B7C-49B7-AD42-DD49A84A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3D4-16BC-4025-B3A3-4D9301E1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D40-33D3-4DA6-A68E-6E626DBA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516F-0EE3-438D-897B-8315CD6E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919-ACC4-48BA-9C53-541C81BD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6EDF-9CB0-4B23-8F64-EDC6450629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A4AE-2785-4A6D-926E-7C7302E25F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o1488.mskzapad.ru/conditions/safety/articles5/pamyatka_dlya_roditelej_bezopasnyj_internet/" TargetMode="External"/><Relationship Id="rId2" Type="http://schemas.openxmlformats.org/officeDocument/2006/relationships/hyperlink" Target="http://oddom.ru/semia/547260_Bezopasnost_rebenka_v_Internete_Pamyatka_roditelyam.html" TargetMode="External"/><Relationship Id="rId3" Type="http://schemas.openxmlformats.org/officeDocument/2006/relationships/hyperlink" Target="http://podelise.ru/docs/40813/index-6570.html" TargetMode="External"/><Relationship Id="rId4" Type="http://schemas.openxmlformats.org/officeDocument/2006/relationships/hyperlink" Target="http://podelise.ru/docs/40813/index-6570.html" TargetMode="External"/><Relationship Id="rId5" Type="http://schemas.openxmlformats.org/officeDocument/2006/relationships/hyperlink" Target="http://podelise.ru/docs/40813/index-6570.html" TargetMode="External"/><Relationship Id="rId6" Type="http://schemas.openxmlformats.org/officeDocument/2006/relationships/hyperlink" Target="http://podelise.ru/docs/40813/index-6570.html" TargetMode="External"/><Relationship Id="rId7" Type="http://schemas.openxmlformats.org/officeDocument/2006/relationships/hyperlink" Target="http://podelise.ru/docs/40813/index-6570.html" TargetMode="External"/><Relationship Id="rId8" Type="http://schemas.openxmlformats.org/officeDocument/2006/relationships/hyperlink" Target="http://podelise.ru/docs/40813/index-6570.html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одительское собрание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63640" y="83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7 класс,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четверт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190520" y="2060640"/>
            <a:ext cx="715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ahoma"/>
              </a:rPr>
              <a:t>Безопасность ребе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«О влиянии курения на здоровье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8055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урение и поражение сосудов нижних конечностей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В народе это заболевание отмечено как «ноги курильщика». Суть заболевания — сужение просветов артерий из-за действия никотина. В результате нарушается питание тканей, а в крайнем случае происходит их омертвение (гангрена) В начальной стадии болезнь проявляется такими симптомами как зябк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ог, чувство онемения 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альцах. Затем наступае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еремежающаяся хромот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вершается заболева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ангреной и ампутаци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48360" y="4203720"/>
            <a:ext cx="39956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«О влиянии курения на здоровье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199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урение родителей и вред своему ребенку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В грудном молоке курящей женщины содержится никотин, за счет чего оно приобретает неприятный вкус, и иногда дети отказываются от нег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асто взрослые курят, наклоняясь над коляской, в результате чего последний становится пассивным курильщиком. Такой ребенок становится беспокойным, у него снижается аппети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тский организм не получает достаточно кислорода, возникает заболевание органов дыхания. У детей, чьи матери курили во время беременности, имеется предрасположенность к припадкам, они чаще болеют эпилепси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ти, родившиеся от курящих матерей, часто отстают от своих сверстников в умственном развит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«О влиянии курения на здоровье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9640" y="2017440"/>
            <a:ext cx="8055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8. Курение и аллергия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абак является аллергеном и способен играть стимулирующую роль в развитии ряда аллергических, заболеваний бронхиальной астмы, дерматитов, мигрени и др. Обследование большой группы рабочих табаководческих бригад и работников табачныx фабрик показало, что 21,7% из них страдали контактным дерматитом, почти 50% — воспалительным процессом слизистой оболочки носа, 17,3% — бронхиальной астм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«О влиянии курения на здоровье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урение и сердце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Риск заболеть и умереть от болезни сердца (гипертония, стенокардия, инфаркт миокарда, инсульт) выше, если человек курит. При курении никотин способствует повышению частоты сокращений, в результате чего сердце вынуждено работать интенсивнее, и ему требуется больше кислорода. Одновременно угарный газ, образующийся в легких из дыма, уменьшает количество кислорода, поступающего в кровь и к сердцу. Таким образом, в то время, когда организм требует большее количество кислорода, он его недополучает. Кроме того, курение временно повышает кровяное давление, сужая сосуды и учащая сердечный рит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2600" y="3789000"/>
            <a:ext cx="777240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Воспитывайте в них навыки здорового образа жизни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050920" y="333360"/>
            <a:ext cx="619308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заботьтес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 своих детях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ИНТЕРНЕТ БЕЗОПАС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авило 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Внимательно относитесь к действиям ваших детей в «мировой паутине»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отправляйте детей в «свободное плавание» по Интернету. Старайтесь активно участвовать в общении ребенка с Интернет, особенно на этапе осво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еседуйте с ребенком о том, что нового для себя он узнает с помощью Интернет, чтобы вовремя предупредить угроз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ИНТЕРНЕТ БЕЗОПАС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авило 2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Информируйте ребенка о возможностях и опасностях, которые несет в себе сеть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ъясните ребенку, что в Интернете как в жизни встречаются и «хорошие», и «плохие» люди. Объясните, что если ребенок столкнулся с негативом или насилием от другого пользователя Интернет, ему нужно сообщить об этом близким людя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учите ребенка искать нужную ему информацию и проверять ее, в том числе с вашей помощь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учите ребенка внимательно относиться к скачиванию платной информации и получению платных услуг из Интернет, особенно путем отправки sms, – во избежание потери дене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формируйте список полезных, интересных, безопасных ресурсов, которыми может пользоваться ваш ребенок, и посоветуйте их использова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ИНТЕРНЕТ БЕЗОПАС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3437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авило 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Выберите удобную форму контроля пребывания вашего ребенка в Сет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становите на ваш компьютер необходимое программное обеспечение – решение родительского контроля и антивиру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Если ваш ребенок – учащийся младших классов и остается часто дома один, ограничьте время пребывания вашего ребенка в Интернет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Если компьютер используется всеми членами семьи, установите его в месте, доступном для всех членов семьи, а не в комнате ребе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оздавайте разные учетные записи на вашем компьютере для взрослых и детей. Это поможет не только обезопасить ребенка, но и сохранить ваши личные данны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егулярно отслеживайте ресурсы, которые посещает ваш ребенок. Простые настройки компьютера позволят вам быть в курсе того, какую информацию просматривал Ваш ребено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ИНТЕРНЕТ БЕЗОПАС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017440"/>
            <a:ext cx="8343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авило 4. 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Регулярно повышайте уровень компьютерной грамотности, чтобы знать, как обеспечить безопасность детей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спользуйте удобные возможности повышения уровня компьютерной и Интернет грамотности, например, посещение курсов, чтение специальной литературы, консультации с экспер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Наша безопасно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Терроризм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это одно из самых страшных преступлен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андиты совершают его, чтобы добиться своих злых целей. Для этого они нагнетают страх в обществе и совершают насилие над людь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лан родительского собр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аши результаты (итоги за прошлый 2010-11 учебный год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Безопасность ребенк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аши планы (планирование воспитательной работы на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 полугодие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Орг.вопрос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Скорее всего, вам не придется столкнуться с этим страшным злом – терроризмом, но, к сожалению, угроза терактов существует, и лучше всего быть к ней готовыми!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70828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мните, что террористические акты бывают нескольких видов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это захват заложнико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гоны транспортных средст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зрывы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гроза применения насилия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К террористическому акту невозможно подготовиться заранее, поэтому следует </a:t>
            </a: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быть настороже всегда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едует проявлять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обую осторожность на многолюдных мероприятиях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 тысячами участников, в популярных развлекательных заведениях, гипермаркет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ращайте внима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на подозрительных людей, предметы, на любые подозрительные мелочи. Сообщайте обо всем подозрительном сотрудникам правоохранительных орган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икогд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 принимайт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т незнакомцев пакеты и сумки, не оставляйте свой багаж без присмотр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 семьи должен быть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лан действий в чрезвычайных обстоятельства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у всех членов семьи должны быть записаны номера телефонов родных, их адреса электронной почты, телефоны экстренных служ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обходим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значить мест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где вы сможете встретиться с членами вашей семьи в экстренной ситуации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99640" y="0"/>
            <a:ext cx="8055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случае эвакуации возьмите с собой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абор предметов первой необходимости и документ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сегда узнавайте, где находятс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езервные выходы из помеще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доме необходим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крепить и опечата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ходы в подвалы и на чердаки, установить домофон, освободить лестничные клетки и коридоры от загромождающих предмет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ужно организовать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дежурство жильц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ашего дома,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которые будут регулярно обходить здание, наблюдая, все ли в порядке, обращая особое внимание на появление незнакомых лиц и автомобилей, разгрузку мешков и ящик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произошел взрыв, пожар, землетрясение, никогд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 пользуйтесь лифто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Старайтесь не поддаваться панике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что бы ни произошло, помните, что паника может спровоцировать террористов и ускорить теракт, а также, помешать </a:t>
            </a:r>
            <a:r>
              <a:rPr b="1" i="1" lang="en-US" sz="2800" spc="-1" strike="noStrike">
                <a:solidFill>
                  <a:srgbClr val="333399"/>
                </a:solidFill>
                <a:latin typeface="Tahoma"/>
              </a:rPr>
              <a:t>властям предотвратить преступление или уменьшить его последствия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92360" y="3716280"/>
            <a:ext cx="6691320" cy="14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регите друг друга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будьте бдительн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00000" y="476280"/>
            <a:ext cx="781236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спользуемые источники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co1488.mskzapad.ru/conditions/safety/articles5/pamyatka_dlya_roditelej_bezopasnyj_internet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oddom.ru/semia/547260_Bezopasnost_rebenka_v_Internete_Pamyatka_roditelyam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http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://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podelise.ru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docs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/40813/index-6570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Итоги за прошлый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009-10 учебный год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начале учебного года – 28 чел., к концу года – 28 (за лето выбыл 1 чел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ачество знаний - 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2 отличника: 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6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хорошистов: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2чел. с одной «3»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се учащиеся переведены в 7 клас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63640" y="765000"/>
            <a:ext cx="648036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ность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дителя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контроль 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мощь детям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Безопасность ребен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уре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Интернет и де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Терроризм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«О влиянии курения на здоровье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В состав табачного дыма входит около 4000 химических веществ, многие из которых ядовиты. Более сорока из них могут стать причиной раковых заболеваний. Так, в моче курящих в шесть раз больше радиоактивного полония, чем у некурящих. Токсические вещества табачного дыма — свинец, висмут, мышьяк, сенильная кислота, формальдегид и друг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«О влиянии курения на здоровье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В течение 30лет курильщик выкуривает около 20 000 сигарет (около 160 кг табака), поглощая в среднем 800 г никотина. Каждая выкуренная сигарета сокращает жизнь на 6 — 10 минут, а в целом продолжительность жизни курильщика на 8 — 15 лет меньше, чем у некурящег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«О влиянии курения на здоровье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7640" y="1773360"/>
            <a:ext cx="7407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Курение и легкие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Главной причиной возникновения и развития «табачного кашля» становятся капли дегтя, осевшие в легких. Вследствие этого возникает постоянный воспалительный процесс — хронический бронхит и постоянный спазм легких — эмфизема. Это, в свою очередь, приводит к легочной недостаточности: одышке, бронхиальной астме, раку легких. Гораздо чаще, чем у некурящих, возникает рак губы, языка, полости рта, гортани, пищевода. Доказано, что туберкулезом легких заболевают в 19 раз чаще курящие люди, а раком легких — в 20 — 22 раза чаще. Хроническим бронхитом заболевают все курильщики через 14 — 20 лет интенсивного куре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Рисунок 6" descr="1225298697_neky.ru-3.jpg"/>
          <p:cNvPicPr/>
          <p:nvPr/>
        </p:nvPicPr>
        <p:blipFill>
          <a:blip r:embed="rId1"/>
          <a:stretch/>
        </p:blipFill>
        <p:spPr>
          <a:xfrm>
            <a:off x="0" y="3068640"/>
            <a:ext cx="17859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«О влиянии курения на здоровье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017440"/>
            <a:ext cx="8199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урение и язва желудка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Курение ведет к сужению кровеносных сосудов, нарушая кровоснабжение внутренних органов и создавая тем самым благоприятные условия для изъязвления слизистой оболочки желудка и двенадцатиперстной кишки. В большинстве случаев язвы этих органов возникают в связи с курением (у курящих в 2 — 3 раза чаще, чем у некурящих). Смертность от этих заболеваний у курящих в 4 раза выше, чем у некурящих. В 30 — 40% случаев регистрируется расстройство функции желчного пузыр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1:33:32Z</dcterms:created>
  <dc:creator>зам по УВР</dc:creator>
  <dc:description/>
  <dc:language>en-US</dc:language>
  <cp:lastModifiedBy>ученик</cp:lastModifiedBy>
  <dcterms:modified xsi:type="dcterms:W3CDTF">2013-01-14T09:52:43Z</dcterms:modified>
  <cp:revision>13</cp:revision>
  <dc:subject/>
  <dc:title>Родительское собрание </dc:title>
</cp:coreProperties>
</file>