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313-D12A-480A-AD2D-DF2D2100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654-E962-4410-AC4B-06DDA5A1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FAC-0106-4E5C-A51B-A4C4611C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AA4-119F-4A68-8F1C-55E829D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195-5F0B-4EAF-8093-E8CC1CF1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258F-3D24-4198-8D0E-7FEDC0FA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0C3-58D1-485B-9E15-B748051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BFA-654C-4B9B-B4C6-F911100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6F0E-FD88-4162-9E4C-2DE4B85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E49-90B5-4C66-BC6B-78A649A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25D7-D208-42C7-ADF6-38BB0D8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EA4-9A2A-43E0-BAD0-D102BFF8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D474-5AD8-4997-8420-3156548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B9E-E213-4DAF-97E2-0F6A9DB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7CF-E167-4E00-9CCB-B0684F10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D3A-07DA-47E7-A072-76C06C42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5674-3D6B-4529-80AC-29725577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2DB-6437-4312-BA74-BDF7473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17B-B076-497B-B053-F570264E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0D4-B84F-4E89-93F1-73C9AFCA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F6C-989C-4F97-B234-B1A174E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41C-2923-4DB2-AE9B-E6BA365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0C6-4E54-4E7C-921F-62EE7FA8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63A-BC92-4F5C-92E9-E675BBB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BF19-7F6A-4A79-8D68-7A38F3258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1FC-C30A-4E7B-9835-71E366F1F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1488.mskzapad.ru/conditions/safety/articles5/pamyatka_dlya_roditelej_bezopasnyj_internet/" TargetMode="External"/><Relationship Id="rId2" Type="http://schemas.openxmlformats.org/officeDocument/2006/relationships/hyperlink" Target="http://oddom.ru/semia/547260_Bezopasnost_rebenka_v_Internete_Pamyatka_roditelyam.html" TargetMode="External"/><Relationship Id="rId3" Type="http://schemas.openxmlformats.org/officeDocument/2006/relationships/hyperlink" Target="http://podelise.ru/docs/40813/index-6570.html" TargetMode="External"/><Relationship Id="rId4" Type="http://schemas.openxmlformats.org/officeDocument/2006/relationships/hyperlink" Target="http://podelise.ru/docs/40813/index-6570.html" TargetMode="External"/><Relationship Id="rId5" Type="http://schemas.openxmlformats.org/officeDocument/2006/relationships/hyperlink" Target="http://podelise.ru/docs/40813/index-6570.html" TargetMode="External"/><Relationship Id="rId6" Type="http://schemas.openxmlformats.org/officeDocument/2006/relationships/hyperlink" Target="http://podelise.ru/docs/40813/index-6570.html" TargetMode="External"/><Relationship Id="rId7" Type="http://schemas.openxmlformats.org/officeDocument/2006/relationships/hyperlink" Target="http://podelise.ru/docs/40813/index-6570.html" TargetMode="External"/><Relationship Id="rId8" Type="http://schemas.openxmlformats.org/officeDocument/2006/relationships/hyperlink" Target="http://podelise.ru/docs/40813/index-6570.html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ьское собр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63640" y="83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7 класс,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90520" y="2060640"/>
            <a:ext cx="715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Безопасность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055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поражение сосудов нижних конечностей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народе это заболевание отмечено как «ноги курильщика». Суть заболевания — сужение просветов артерий из-за действия никотина. В результате нарушается питание тканей, а в крайнем случае происходит их омертвение (гангрена) В начальной стадии болезнь проявляется такими симптомами как зябк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г, чувство онемения 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цах. Затем наступа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межающаяся хромо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 заболев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нгреной и ампутац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4203720"/>
            <a:ext cx="39956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99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родителей и вред своему ребенку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грудном молоке курящей женщины содержится никотин, за счет чего оно приобретает неприятный вкус, и иногда дети отказываются от не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 взрослые курят, наклоняясь над коляской, в результате чего последний становится пассивным курильщиком. Такой ребенок становится беспокойным, у него снижается аппет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ский организм не получает достаточно кислорода, возникает заболевание органов дыхания. У детей, чьи матери курили во время беременности, имеется предрасположенность к припадкам, они чаще болеют эпилеп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и, родившиеся от курящих матерей, часто отстают от своих сверстников в умственном развит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. Курение и аллергия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бак является аллергеном и способен играть стимулирующую роль в развитии ряда аллергических, заболеваний бронхиальной астмы, дерматитов, мигрени и др. Обследование большой группы рабочих табаководческих бригад и работников табачныx фабрик показало, что 21,7% из них страдали контактным дерматитом, почти 50% — воспалительным процессом слизистой оболочки носа, 17,3% — бронхиальной аст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сердце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Риск заболеть и умереть от болезни сердца (гипертония, стенокардия, инфаркт миокарда, инсульт) выше, если человек курит. При курении никотин способствует повышению частоты сокращений, в результате чего сердце вынуждено работать интенсивнее, и ему требуется больше кислорода. Одновременно угарный газ, образующийся в легких из дыма, уменьшает количество кислорода, поступающего в кровь и к сердцу. Таким образом, в то время, когда организм требует большее количество кислорода, он его недополучает. Кроме того, курение временно повышает кровяное давление, сужая сосуды и учащая сердечный рит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378900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оспитывайте в них навыки здорового образа жизн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0920" y="333360"/>
            <a:ext cx="619308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аботьтес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 своих детях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авило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нимательно относитесь к действиям ваших детей в «мировой паутине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отправляйте детей в «свободное плавание» по Интернету. Старайтесь активно участвовать в общении ребенка с Интернет, особенно на этапе осво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седуйте с ребенком о том, что нового для себя он узнает с помощью Интернет, чтобы вовремя предупредить угроз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нформируйте ребенка о возможностях и опасностях, которые несет в себе се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ясните ребенку, что в Интернете как в жизни встречаются и «хорошие», и «плохие» люди. Объясните, что если ребенок столкнулся с негативом или насилием от другого пользователя Интернет, ему нужно сообщить об этом близким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ите ребенка искать нужную ему информацию и проверять ее, в том числе с вашей помощ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ите ребенка внимательно относиться к скачиванию платной информации и получению платных услуг из Интернет, особенно путем отправки sms, – во избежание потери дене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формируйте список полезных, интересных, безопасных ресурсов, которыми может пользоваться ваш ребенок, и посоветуйте их использов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343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авило 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берите удобную форму контроля пребывания вашего ребенка в С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тановите на ваш компьютер необходимое программное обеспечение – решение родительского контроля и антивиру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ваш ребенок – учащийся младших классов и остается часто дома один, ограничьте время пребывания вашего ребенка в Интерне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компьютер используется всеми членами семьи, установите его в месте, доступном для всех членов семьи, а не в комнате ребе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здавайте разные учетные записи на вашем компьютере для взрослых и детей. Это поможет не только обезопасить ребенка, но и сохранить ваши личные данны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гулярно отслеживайте ресурсы, которые посещает ваш ребенок. Простые настройки компьютера позволят вам быть в курсе того, какую информацию просматривал Ваш ребен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авило 4.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Регулярно повышайте уровень компьютерной грамотности, чтобы знать, как обеспечить безопасность дете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ьзуйте удобные возможности повышения уровня компьютерной и Интернет грамотности, например, посещение курсов, чтение специальной литературы, консультации с экспер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аша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Террориз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одно из самых страшных преступл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андиты совершают его, чтобы добиться своих злых целей. Для этого они нагнетают страх в обществе и совершают насилие над людь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лан родительского собр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ши результаты (итоги за прошлый 2010-11 учебный год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зопасность ребе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ши планы (планирование воспитательной работы на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полугодие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рг.вопро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Скорее всего, вам не придется столкнуться с этим страшным злом – терроризмом, но, к сожалению, угроза терактов существует, и лучше всего быть к ней готовыми!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70828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мните, что террористические акты бывают нескольких видо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о захват заложник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оны транспортных средст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зрыв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роза применения насили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 террористическому акту невозможно подготовиться заранее, поэтому следует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быть настороже всегда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едует проявлять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ую осторожность на многолюдных мероприятия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тысячами участников, в популярных развлекательных заведениях, гипермарк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ращайте вним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 подозрительных людей, предметы, на любые подозрительные мелочи. Сообщайте обо всем подозрительном сотрудникам правоохранительных орган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когд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принимай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 незнакомцев пакеты и сумки, не оставляйте свой багаж без присмот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 семьи должен быть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ан действий в чрезвычайных обстоятельства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у всех членов семьи должны быть записаны номера телефонов родных, их адреса электронной почты, телефоны экстренных служ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значить мест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где вы сможете встретиться с членами вашей семьи в экстренной ситуац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99640" y="0"/>
            <a:ext cx="8055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учае эвакуации возьмите с соб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бор предметов первой необходимости и докумен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гда узнавайте, где наход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зервные выходы из помещ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оме необходим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крепить и опечат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ы в подвалы и на чердаки, установить домофон, освободить лестничные клетки и коридоры от загромождающих предмет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ужно организов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ежурство жильц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ашего дома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торые будут регулярно обходить здание, наблюдая, все ли в порядке, обращая особое внимание на появление незнакомых лиц и автомобилей, разгрузку мешков и ящи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роизошел взрыв, пожар, землетрясение, никогд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пользуйтесь лифт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Старайтесь не поддаваться панике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что бы ни произошло, помните, что паника может спровоцировать террористов и ускорить теракт, а также, помешать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властям предотвратить преступление или уменьшить его последствия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3716280"/>
            <a:ext cx="669132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друг друг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будьте бдительн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00000" y="476280"/>
            <a:ext cx="781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ользуемые источник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co1488.mskzapad.ru/conditions/safety/articles5/pamyatka_dlya_roditelej_bezopasnyj_interne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oddom.ru/semia/547260_Bezopasnost_rebenka_v_Internete_Pamyatka_roditelyam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odelise.ru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docs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/40813/index-6570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тоги за прошлый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009-10 учебный год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чале учебного года – 28 чел., к концу года – 28 (за лето выбыл 1 чел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чество знаний -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 отличника: 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хорошистов: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2чел. с одной «3»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се учащиеся переведены в 7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63640" y="765000"/>
            <a:ext cx="6480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нос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тел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контроль 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ощь детя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Безопасность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нтернет и де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еррориз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В состав табачного дыма входит около 4000 химических веществ, многие из которых ядовиты. Более сорока из них могут стать причиной раковых заболеваний. Так, в моче курящих в шесть раз больше радиоактивного полония, чем у некурящих. Токсические вещества табачного дыма — свинец, висмут, мышьяк, сенильная кислота, формальдегид и друг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В течение 30лет курильщик выкуривает около 20 000 сигарет (около 160 кг табака), поглощая в среднем 800 г никотина. Каждая выкуренная сигарета сокращает жизнь на 6 — 10 минут, а в целом продолжительность жизни курильщика на 8 — 15 лет меньше, чем у некуряще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407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Курение и легкие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Главной причиной возникновения и развития «табачного кашля» становятся капли дегтя, осевшие в легких. Вследствие этого возникает постоянный воспалительный процесс — хронический бронхит и постоянный спазм легких — эмфизема. Это, в свою очередь, приводит к легочной недостаточности: одышке, бронхиальной астме, раку легких. Гораздо чаще, чем у некурящих, возникает рак губы, языка, полости рта, гортани, пищевода. Доказано, что туберкулезом легких заболевают в 19 раз чаще курящие люди, а раком легких — в 20 — 22 раза чаще. Хроническим бронхитом заболевают все курильщики через 14 — 20 лет интенсивного кур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Рисунок 6" descr="1225298697_neky.ru-3.jpg"/>
          <p:cNvPicPr/>
          <p:nvPr/>
        </p:nvPicPr>
        <p:blipFill>
          <a:blip r:embed="rId1"/>
          <a:stretch/>
        </p:blipFill>
        <p:spPr>
          <a:xfrm>
            <a:off x="0" y="3068640"/>
            <a:ext cx="1785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017440"/>
            <a:ext cx="8199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язва желудк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Курение ведет к сужению кровеносных сосудов, нарушая кровоснабжение внутренних органов и создавая тем самым благоприятные условия для изъязвления слизистой оболочки желудка и двенадцатиперстной кишки. В большинстве случаев язвы этих органов возникают в связи с курением (у курящих в 2 — 3 раза чаще, чем у некурящих). Смертность от этих заболеваний у курящих в 4 раза выше, чем у некурящих. В 30 — 40% случаев регистрируется расстройство функции желчного пузы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1:33:32Z</dcterms:created>
  <dc:creator>зам по УВР</dc:creator>
  <dc:description/>
  <dc:language>en-US</dc:language>
  <cp:lastModifiedBy>ученик</cp:lastModifiedBy>
  <dcterms:modified xsi:type="dcterms:W3CDTF">2013-01-14T09:52:43Z</dcterms:modified>
  <cp:revision>13</cp:revision>
  <dc:subject/>
  <dc:title>Родительское собрание </dc:title>
</cp:coreProperties>
</file>