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E24-8EE1-4DB8-99F1-3B30BDB1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C5C-47F8-4AE0-9429-4C5D463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BC7-9C34-48F3-83F6-6C62B44B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D57-F96F-47E7-8B72-6C52A560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4A62-05A7-4B39-B13B-B4EC696F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11C7-8944-4E41-A78F-7628EBD8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1171-AB03-4087-B553-095BD0E6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60FD-62F0-4B50-8154-F41C4549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A9C5-8FD5-4700-B5B3-034D361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4585-E00B-42AD-9715-540A85F0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1F5E-7E68-418E-AFBB-E1596EF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0F7-1858-4284-ACDB-3B5506B2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2EC5-2DAE-4469-9AAF-C52C9B9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F0F2-2708-45B0-978B-E436906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789B-C232-462E-B5D6-FA396997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2E15-85C6-401D-84D1-3CA2BCEF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0EEE-8577-4715-AE3A-D248BF0E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19E-97AE-4943-A940-9A14E44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B97-91DC-47C8-9B10-04D9A915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E4F-5F14-41E5-B10B-F87BEBD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A57-19DB-4595-8EC7-2725C9B5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2CE-4B56-4EA3-819A-084FE39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682-A52E-4813-831F-F9106D5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B2D-D66D-4045-A1FB-5D79309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C8D-921A-4D5D-A619-17C90F6F9C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95C9-21C4-49D3-BD14-F923E13D3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980640"/>
            <a:ext cx="6923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Родительское собрание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«</a:t>
            </a:r>
            <a:r>
              <a:rPr b="1" lang="en-US" sz="44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БОУ СУ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Данилов Ярославская об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ный рук-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йте ситуацию успех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ощряйте упорство ребенка в достижении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равнивайте его умения с умениями других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лите и демонстрируйте его достижения перед другим членами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Требования классного руководителя к учащимс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Е заполнение днев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ВРЕМЯ приходить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ОПАЗДЫВАТЬ на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ПУСКАТЬ 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жедневно быть ГОТОВЫМ к каждому уро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нная обув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ко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учащимися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суговые классные часы «День именинник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ный час «Правонарушения и ребен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ый классный час по здоровьесбереж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ча с героями-афганцами, воинами чеченской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и в картинную галерею, районную библиоте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олекторий в МЦ «Бригантина» по вредным привыч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курсия по Ярославлю или Ярославскому кр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бщешкольные мероприят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енний празд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ЮБИЛЕЙ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еля здоров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ь ма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огодние ё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ланирование воспитательной работы с родителями на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 полугодие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 «Наши трудные дети», ноябр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ие вечера с детьми (1-2 раза в г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692360" y="2492280"/>
            <a:ext cx="6551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работу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родительского собр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тоги за прошлый …. учебный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ашнее задание и его роль в самообразовании школь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воспитательной работы 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полугод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родительского комит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.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учебного года – 26 чел., к концу года – 2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учащиеся переведены в 6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равнении с успеваемостью в начальной шко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чащихся имеют стабильную успеваем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успеваемость повысилась (…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снизила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рошис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отли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.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дение успеваем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условлена фактор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груженность учебной программы 5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лой преемственностью учебных предметов, а также общеучебных умений, навыков и способов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тоги за прошлый … учебный го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аптация учащихся к среднему зв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шла хор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с желанием идут в школ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вовали в общественной жизни школы и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шли с учителями общий язык; ребята не грубые, воспитан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етей устойчивое хорошее настро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певаемость на уровне 4 класса или чуть ни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ель учебной деятельности учащихся в …. учебном году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ь самостоятельное образование путем участия в проектных и исследовательских рабо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ержать успеваемость на уровне 6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32000" y="3933720"/>
            <a:ext cx="2016360" cy="201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Домашнее задание и его роль в самообразовании школь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Если наши дети хотят быть людьми на самом деле образованными, они должны приобретать образование самостоятельными занят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.Г.Черныш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Функции домашнего зад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внивание знаний и умений ребенка, его навыков в том случае, если он долго болел и много пропустил или не усвоил сложную 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мулирование познавательного интереса учащихся, желание знать как можно больше по предмету или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амостоятельности ученика, его усидчивости и ответственности за выполняемое учебно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мощь родител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я помочь, не пытайтесь сделать работу за ребен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ИТЕ ему найти смысл задания, НАПРАВЬТЕ его на нужное решение, помогите найти нужную информацию, не отмахивайтесь от вопросов, НАУЧИТЕ как можно работать с текс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облегчить своему ребенку выполнение домашних заданий, покупайте ему словари, энциклопедии, справочные пособия, справочники на информационных носит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5:55:25Z</dcterms:created>
  <dc:creator>Ученик</dc:creator>
  <dc:description/>
  <dc:language>en-US</dc:language>
  <cp:lastModifiedBy>ученик</cp:lastModifiedBy>
  <dcterms:modified xsi:type="dcterms:W3CDTF">2013-01-14T08:02:36Z</dcterms:modified>
  <cp:revision>7</cp:revision>
  <dc:subject/>
  <dc:title>Родительское собрание</dc:title>
</cp:coreProperties>
</file>