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B0A-E6CC-4BCF-A355-14A603CB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ECC-E97B-4E4A-B23A-E0B061E5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136-77AA-4659-A136-B47C6B6D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254-08FD-4E60-9AF1-45E19C97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D65B-80C7-416E-8B60-28039C7F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DE8C-8C98-4E1E-95FB-8504A914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BD47-ED6C-4E4C-8ED1-A82D0596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35ED-7BDE-4E1F-97DF-0191FFD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8829-6487-4C0E-AA9F-B5190ACA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E691-EAB6-41AB-97AB-F418B1A6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F9F2-057D-492F-BA74-641523C3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D00-77F8-4B38-AE22-F1C10B75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16B9-7207-4885-A48E-558F5127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5223-FA4B-42A0-89CF-FCBE44BA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1ACB-39B5-42B0-857B-D0C89F24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E886-0B9C-4DC2-B94E-895D0199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4A40-16C5-40A0-BA3F-8673D10D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026-8C23-4696-872F-AA1F4122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4C4-07E2-4C54-B158-FEE0A310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0D5-E4B5-40C1-BF12-3318BF01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6FE-A280-4B97-B76D-8733614D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284-1019-464E-BE6C-FF8B911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40E-668D-4231-91C1-D226EA6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B63-6B28-4FC4-8235-2B8F4C43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CC09-BD37-46A3-9480-C6ABC9AF1A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F2FF-F21B-4A6D-A0E6-379781045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980640"/>
            <a:ext cx="6923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Родительское собрание</a:t>
            </a: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«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Домашнее задание и его роль в самообразовании школьника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БОУ СУ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Данилов Ярослав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лассный рук-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в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мощь родител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йте ситуацию успе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ощряйте упорство ребенка в достижении ц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сравнивайте его умения с умениями других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алите и демонстрируйте его достижения перед другим членам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Требования классного руководителя к учащим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ЖЕДНЕВНОЕ заполнение днев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ВРЕМЯ приходить в шко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ПАЗДЫВАТЬ на 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РОПУСКАТЬ 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жедневно быть ГОТОВЫМ к каждому уро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нная обув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кольная фор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ланирование воспитательной работы с учащимися на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полугодие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уговые классные часы «День именинник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ный час «Правонарушения и ребен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ый классный час по здоровьесбереж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реча с героями-афганцами, воинами чеченской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курсии в картинную галерею, районную библиоте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нолекторий в МЦ «Бригантина» по вредным привыч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курсия по Ярославлю или Ярославскому кр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щешкольные мероприят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енний празд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ЮБИЛЕЙ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еля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ма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огодние ё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ланирование воспитательной работы с родителями на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полугодие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ое собрание «Наши трудные дети», ноябр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ие вечера с детьми (1-2 раза в г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кет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ор родительского ком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692360" y="2492280"/>
            <a:ext cx="6551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 работу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лан родительского собр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тоги за прошлый …. учебный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ашнее задание и его роль в самообразовании шко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воспитательной работы н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олугод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родительского комит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.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тоги за прошлый ….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69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чале учебного года – 26 чел., к концу года – 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учащиеся переведены в 6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равнении с успеваемостью в начальной шко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4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чащихся имеют стабильную успева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успеваемость повысилась (…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снизила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1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хорошис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3)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тличн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тоги за прошлый ….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дение успеваем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бусловлена факто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аптация учащихся к среднему зве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груженность учебной программы 5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ой преемственностью учебных предметов, а также общеучебных умений, навыков и способов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тоги за прошлый …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аптация учащихся к среднему зв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шла хорош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с желанием идут в шко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овали в общественной жизни школы и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шли с учителями общий язык; ребята не грубые, воспитан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детей устойчивое хорошее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певаемость на уровне 4 класса или чуть ни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Цель учебной деятельности учащихся в …. учебном году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ь самостоятельное образование путем участия в проектных и исследовательских работ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ержать успеваемость на уровне 6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3933720"/>
            <a:ext cx="2016360" cy="201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Домашнее задание и его роль в самообразовании школьн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4883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Если наши дети хотят быть людьми на самом деле образованными, они должны приобретать образование самостоятельными занятия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.Г.Черныш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ункции домашнего зад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внивание знаний и умений ребенка, его навыков в том случае, если он долго болел и много пропустил или не усвоил сложную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мулирование познавательного интереса учащихся, желание знать как можно больше по предмету или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амостоятельности ученика, его усидчивости и ответственности за выполняемое учебно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мощь родител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ая помочь, не пытайтесь сделать работу за ребе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ИТЕ ему найти смысл задания, НАПРАВЬТЕ его на нужное решение, помогите найти нужную информацию, не отмахивайтесь от вопросов, НАУЧИТЕ как можно работать с текс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облегчить своему ребенку выполнение домашних заданий, покупайте ему словари, энциклопедии, справочные пособия, справочники на информационных носител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5:55:25Z</dcterms:created>
  <dc:creator>Ученик</dc:creator>
  <dc:description/>
  <dc:language>en-US</dc:language>
  <cp:lastModifiedBy>ученик</cp:lastModifiedBy>
  <dcterms:modified xsi:type="dcterms:W3CDTF">2013-01-14T08:02:36Z</dcterms:modified>
  <cp:revision>7</cp:revision>
  <dc:subject/>
  <dc:title>Родительское собрание</dc:title>
</cp:coreProperties>
</file>