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4F0-2190-492C-9F96-4554B2ED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22B-EB53-4F7B-98D9-C8DBE7B9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4D5-6019-41AB-8532-E6730365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B92-8EA4-4C87-B328-C81D7335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5F9-3433-445B-BD94-227790D2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D26-7CF5-41EA-BB94-17DAE22F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39C-EFD7-483C-B50D-ABF8ABD5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93F-5467-442B-B915-B024C6F2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FAB-8843-4402-BC40-45A0B3FF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B0F-1AA9-4CC3-B36C-078A5400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55D-A633-49E4-84C2-172886A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095-45CF-452E-8445-23996189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B2D-9373-4E1C-B43F-C5F614B6C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Documents and Settings\User\Мои документы\Лена\к открытому уроку\русские праздники\8.jpg"/>
          <p:cNvPicPr/>
          <p:nvPr/>
        </p:nvPicPr>
        <p:blipFill>
          <a:blip r:embed="rId1"/>
          <a:stretch/>
        </p:blipFill>
        <p:spPr>
          <a:xfrm>
            <a:off x="2428920" y="2714760"/>
            <a:ext cx="4587840" cy="337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7858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е народные праздни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gusli.mp3" descr=""/>
          <p:cNvPicPr/>
          <p:nvPr/>
        </p:nvPicPr>
        <p:blipFill>
          <a:blip r:embed="rId2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00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Е. Биткин Хоровод "/>
          <p:cNvPicPr/>
          <p:nvPr/>
        </p:nvPicPr>
        <p:blipFill>
          <a:blip r:embed="rId1"/>
          <a:stretch/>
        </p:blipFill>
        <p:spPr>
          <a:xfrm>
            <a:off x="1643040" y="1143000"/>
            <a:ext cx="57085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3.bp.blogspot.com/_pnEMhPB0bGo/SDMqEppHXMI/AAAAAAAAADQ/HGp1w_6DF8Q/s400/23.jpg"/>
          <p:cNvPicPr/>
          <p:nvPr/>
        </p:nvPicPr>
        <p:blipFill>
          <a:blip r:embed="rId1"/>
          <a:srcRect l="0" t="15005" r="0" b="15629"/>
          <a:stretch/>
        </p:blipFill>
        <p:spPr>
          <a:xfrm>
            <a:off x="2357280" y="285840"/>
            <a:ext cx="4357800" cy="3076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User\Мои документы\Лена\к открытому уроку\русские праздники\11.jpg"/>
          <p:cNvPicPr/>
          <p:nvPr/>
        </p:nvPicPr>
        <p:blipFill>
          <a:blip r:embed="rId2"/>
          <a:stretch/>
        </p:blipFill>
        <p:spPr>
          <a:xfrm>
            <a:off x="928800" y="3643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User\Мои документы\Лена\к открытому уроку\русские праздники\10.jpg"/>
          <p:cNvPicPr/>
          <p:nvPr/>
        </p:nvPicPr>
        <p:blipFill>
          <a:blip r:embed="rId3"/>
          <a:stretch/>
        </p:blipFill>
        <p:spPr>
          <a:xfrm>
            <a:off x="4786200" y="3571920"/>
            <a:ext cx="32274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img1.liveinternet.ru/images/attach/c/0/38/888/38888190_W2007_063_f.jpg"/>
          <p:cNvPicPr/>
          <p:nvPr/>
        </p:nvPicPr>
        <p:blipFill>
          <a:blip r:embed="rId1"/>
          <a:stretch/>
        </p:blipFill>
        <p:spPr>
          <a:xfrm>
            <a:off x="420840" y="1428840"/>
            <a:ext cx="83642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User\Мои документы\Лена\к открытому уроку\русские праздники\4.jpg"/>
          <p:cNvPicPr/>
          <p:nvPr/>
        </p:nvPicPr>
        <p:blipFill>
          <a:blip r:embed="rId1"/>
          <a:srcRect l="0" t="0" r="0" b="15527"/>
          <a:stretch/>
        </p:blipFill>
        <p:spPr>
          <a:xfrm>
            <a:off x="928800" y="1143000"/>
            <a:ext cx="7369200" cy="50007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5010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жд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8"/>
          <p:cNvGrpSpPr/>
          <p:nvPr/>
        </p:nvGrpSpPr>
        <p:grpSpPr>
          <a:xfrm>
            <a:off x="357120" y="285840"/>
            <a:ext cx="8450280" cy="6348240"/>
            <a:chOff x="357120" y="285840"/>
            <a:chExt cx="8450280" cy="6348240"/>
          </a:xfrm>
        </p:grpSpPr>
        <p:pic>
          <p:nvPicPr>
            <p:cNvPr id="89" name="Picture 6" descr="http://visualrian.ru/storage/PreviewWM/1512/14/151214.jpg"/>
            <p:cNvPicPr/>
            <p:nvPr/>
          </p:nvPicPr>
          <p:blipFill>
            <a:blip r:embed="rId1"/>
            <a:stretch/>
          </p:blipFill>
          <p:spPr>
            <a:xfrm>
              <a:off x="5500800" y="3786120"/>
              <a:ext cx="3306600" cy="28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C:\Documents and Settings\User\Мои документы\Лена\к открытому уроку\русские праздники\3.jpg"/>
            <p:cNvPicPr/>
            <p:nvPr/>
          </p:nvPicPr>
          <p:blipFill>
            <a:blip r:embed="rId2"/>
            <a:stretch/>
          </p:blipFill>
          <p:spPr>
            <a:xfrm>
              <a:off x="357120" y="285840"/>
              <a:ext cx="5357880" cy="63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C:\Documents and Settings\User\Мои документы\Лена\к открытому уроку\русские праздники\3.jpg"/>
            <p:cNvPicPr/>
            <p:nvPr/>
          </p:nvPicPr>
          <p:blipFill>
            <a:blip r:embed="rId3"/>
            <a:stretch/>
          </p:blipFill>
          <p:spPr>
            <a:xfrm>
              <a:off x="5715000" y="285840"/>
              <a:ext cx="3071880" cy="358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User\Мои документы\Лена\к открытому уроку\русские праздники\1.jpg"/>
          <p:cNvPicPr/>
          <p:nvPr/>
        </p:nvPicPr>
        <p:blipFill>
          <a:blip r:embed="rId1"/>
          <a:stretch/>
        </p:blipFill>
        <p:spPr>
          <a:xfrm>
            <a:off x="500040" y="1071720"/>
            <a:ext cx="5384880" cy="478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User\Мои документы\Лена\к открытому уроку\русские праздники\6.jpg"/>
          <p:cNvPicPr/>
          <p:nvPr/>
        </p:nvPicPr>
        <p:blipFill>
          <a:blip r:embed="rId2"/>
          <a:srcRect l="0" t="0" r="23564" b="0"/>
          <a:stretch/>
        </p:blipFill>
        <p:spPr>
          <a:xfrm>
            <a:off x="6224760" y="1071720"/>
            <a:ext cx="2633400" cy="47862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786040" y="285840"/>
            <a:ext cx="39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http://cards2.yandex.net/get/6/1479/yan144.jpg"/>
          <p:cNvPicPr/>
          <p:nvPr/>
        </p:nvPicPr>
        <p:blipFill>
          <a:blip r:embed="rId1"/>
          <a:stretch/>
        </p:blipFill>
        <p:spPr>
          <a:xfrm>
            <a:off x="285840" y="1000080"/>
            <a:ext cx="4214880" cy="2536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www.irklib.ru/nasled/4/pesah2.jpg"/>
          <p:cNvPicPr/>
          <p:nvPr/>
        </p:nvPicPr>
        <p:blipFill>
          <a:blip r:embed="rId2"/>
          <a:stretch/>
        </p:blipFill>
        <p:spPr>
          <a:xfrm>
            <a:off x="3286080" y="3000240"/>
            <a:ext cx="5585040" cy="3540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User\Мои документы\Лена\к открытому уроку\русские праздники\7.jpg"/>
          <p:cNvPicPr/>
          <p:nvPr/>
        </p:nvPicPr>
        <p:blipFill>
          <a:blip r:embed="rId1"/>
          <a:stretch/>
        </p:blipFill>
        <p:spPr>
          <a:xfrm>
            <a:off x="714240" y="928800"/>
            <a:ext cx="7742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ruskerealie.zcu.cz/images/image_2684.jpg"/>
          <p:cNvPicPr/>
          <p:nvPr/>
        </p:nvPicPr>
        <p:blipFill>
          <a:blip r:embed="rId1"/>
          <a:stretch/>
        </p:blipFill>
        <p:spPr>
          <a:xfrm>
            <a:off x="785880" y="500040"/>
            <a:ext cx="7575480" cy="5857920"/>
          </a:xfrm>
          <a:prstGeom prst="rect">
            <a:avLst/>
          </a:prstGeom>
          <a:ln w="0">
            <a:noFill/>
          </a:ln>
        </p:spPr>
      </p:pic>
      <p:pic>
        <p:nvPicPr>
          <p:cNvPr id="103" name="gusli.mp3" descr=""/>
          <p:cNvPicPr/>
          <p:nvPr/>
        </p:nvPicPr>
        <p:blipFill>
          <a:blip r:embed="rId2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nsc.1september.ru/2009/01/5.jpg"/>
          <p:cNvPicPr/>
          <p:nvPr/>
        </p:nvPicPr>
        <p:blipFill>
          <a:blip r:embed="rId1"/>
          <a:srcRect l="0" t="34877" r="0" b="0"/>
          <a:stretch/>
        </p:blipFill>
        <p:spPr>
          <a:xfrm>
            <a:off x="500040" y="3429000"/>
            <a:ext cx="3714840" cy="3173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visualrian.ru/storage/PreviewWM/1418/76/141876.jpg"/>
          <p:cNvPicPr/>
          <p:nvPr/>
        </p:nvPicPr>
        <p:blipFill>
          <a:blip r:embed="rId2"/>
          <a:stretch/>
        </p:blipFill>
        <p:spPr>
          <a:xfrm>
            <a:off x="500040" y="142920"/>
            <a:ext cx="4915080" cy="307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ogoniok.com/common/archive/2002/4742/14-44-45/14-45-1b.jpg"/>
          <p:cNvPicPr/>
          <p:nvPr/>
        </p:nvPicPr>
        <p:blipFill>
          <a:blip r:embed="rId3"/>
          <a:srcRect l="0" t="13396" r="0" b="0"/>
          <a:stretch/>
        </p:blipFill>
        <p:spPr>
          <a:xfrm>
            <a:off x="6143760" y="142920"/>
            <a:ext cx="2458800" cy="313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rusalka7.ucoz.ru/_si/0/3780845.jpg"/>
          <p:cNvPicPr/>
          <p:nvPr/>
        </p:nvPicPr>
        <p:blipFill>
          <a:blip r:embed="rId4"/>
          <a:stretch/>
        </p:blipFill>
        <p:spPr>
          <a:xfrm>
            <a:off x="4572000" y="3429000"/>
            <a:ext cx="40006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усские народн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480" y="1857240"/>
            <a:ext cx="82868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лендар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мледельческие</a:t>
            </a: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тки(25 декабря-6 январ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ждество(7 январ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ле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роки(22мар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блочный спас(19 авгус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5572080" y="1714680"/>
            <a:ext cx="3000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емей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ад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8"/>
          <p:cNvSpPr/>
          <p:nvPr/>
        </p:nvSpPr>
        <p:spPr>
          <a:xfrm>
            <a:off x="6858000" y="121428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9"/>
          <p:cNvSpPr/>
          <p:nvPr/>
        </p:nvSpPr>
        <p:spPr>
          <a:xfrm>
            <a:off x="1857240" y="1214280"/>
            <a:ext cx="214560" cy="3574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5840" y="465120"/>
            <a:ext cx="3929040" cy="587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User\Мои документы\Лена\К  моим урокам\изба\Интекрьер избы\иба5.jpg"/>
          <p:cNvPicPr/>
          <p:nvPr/>
        </p:nvPicPr>
        <p:blipFill>
          <a:blip r:embed="rId2"/>
          <a:stretch/>
        </p:blipFill>
        <p:spPr>
          <a:xfrm>
            <a:off x="4643280" y="3571920"/>
            <a:ext cx="402588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User\Мои документы\Лена\К  моим урокам\изба\Интекрьер избы\изба2.jpg"/>
          <p:cNvPicPr/>
          <p:nvPr/>
        </p:nvPicPr>
        <p:blipFill>
          <a:blip r:embed="rId3"/>
          <a:stretch/>
        </p:blipFill>
        <p:spPr>
          <a:xfrm>
            <a:off x="4643280" y="428760"/>
            <a:ext cx="3984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Documents and Settings\User\Мои документы\Лена\К  моим урокам\изба\Интекрьер избы\6.jpg"/>
          <p:cNvPicPr/>
          <p:nvPr/>
        </p:nvPicPr>
        <p:blipFill>
          <a:blip r:embed="rId1"/>
          <a:stretch/>
        </p:blipFill>
        <p:spPr>
          <a:xfrm>
            <a:off x="214200" y="428760"/>
            <a:ext cx="8786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t1.gstatic.com/images?q=tbn:BDndx6cDHNxjI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6200" y="357120"/>
            <a:ext cx="4091040" cy="2928960"/>
          </a:xfrm>
          <a:prstGeom prst="rect">
            <a:avLst/>
          </a:prstGeom>
          <a:ln w="0">
            <a:noFill/>
          </a:ln>
        </p:spPr>
      </p:pic>
      <p:grpSp>
        <p:nvGrpSpPr>
          <p:cNvPr id="59" name="Группа 13"/>
          <p:cNvGrpSpPr/>
          <p:nvPr/>
        </p:nvGrpSpPr>
        <p:grpSpPr>
          <a:xfrm>
            <a:off x="4786200" y="3357720"/>
            <a:ext cx="4214880" cy="3286080"/>
            <a:chOff x="4786200" y="3357720"/>
            <a:chExt cx="4214880" cy="3286080"/>
          </a:xfrm>
        </p:grpSpPr>
        <p:pic>
          <p:nvPicPr>
            <p:cNvPr id="60" name="Picture 2" descr="C:\Documents and Settings\User\Мои документы\Лена\к открытому уроку\русские праздники\22.jpg"/>
            <p:cNvPicPr/>
            <p:nvPr/>
          </p:nvPicPr>
          <p:blipFill>
            <a:blip r:embed="rId3"/>
            <a:srcRect l="6348" t="0" r="0" b="0"/>
            <a:stretch/>
          </p:blipFill>
          <p:spPr>
            <a:xfrm>
              <a:off x="4786200" y="3357720"/>
              <a:ext cx="421488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" descr="C:\Documents and Settings\User\Мои документы\Лена\к открытому уроку\русские праздники\19.jpg"/>
            <p:cNvPicPr/>
            <p:nvPr/>
          </p:nvPicPr>
          <p:blipFill>
            <a:blip r:embed="rId4"/>
            <a:stretch/>
          </p:blipFill>
          <p:spPr>
            <a:xfrm>
              <a:off x="6224040" y="4953960"/>
              <a:ext cx="880200" cy="6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" descr="C:\Documents and Settings\User\Мои документы\Лена\к открытому уроку\русские праздники\19.jpg"/>
            <p:cNvPicPr/>
            <p:nvPr/>
          </p:nvPicPr>
          <p:blipFill>
            <a:blip r:embed="rId5"/>
            <a:stretch/>
          </p:blipFill>
          <p:spPr>
            <a:xfrm>
              <a:off x="5899320" y="4965840"/>
              <a:ext cx="630360" cy="60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3" descr="C:\Documents and Settings\User\Мои документы\Лена\к открытому уроку\русские праздники\18.jpg"/>
          <p:cNvPicPr/>
          <p:nvPr/>
        </p:nvPicPr>
        <p:blipFill>
          <a:blip r:embed="rId6"/>
          <a:stretch/>
        </p:blipFill>
        <p:spPr>
          <a:xfrm>
            <a:off x="6500880" y="1714680"/>
            <a:ext cx="366480" cy="277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Documents and Settings\User\Мои документы\Лена\к открытому уроку\русские праздники\13.jpg"/>
          <p:cNvPicPr/>
          <p:nvPr/>
        </p:nvPicPr>
        <p:blipFill>
          <a:blip r:embed="rId7"/>
          <a:stretch/>
        </p:blipFill>
        <p:spPr>
          <a:xfrm rot="21387000">
            <a:off x="6540120" y="1557000"/>
            <a:ext cx="378000" cy="35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User\Мои документы\Лена\к открытому уроку\русские праздники\18.jpg"/>
          <p:cNvPicPr/>
          <p:nvPr/>
        </p:nvPicPr>
        <p:blipFill>
          <a:blip r:embed="rId8"/>
          <a:stretch/>
        </p:blipFill>
        <p:spPr>
          <a:xfrm>
            <a:off x="6500880" y="1428840"/>
            <a:ext cx="431640" cy="32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priyatnogo.com/uploads/posts/2009-06/1244465994_1.jpg"/>
          <p:cNvPicPr/>
          <p:nvPr/>
        </p:nvPicPr>
        <p:blipFill>
          <a:blip r:embed="rId9"/>
          <a:stretch/>
        </p:blipFill>
        <p:spPr>
          <a:xfrm>
            <a:off x="5929200" y="2071800"/>
            <a:ext cx="452520" cy="436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User\Мои документы\Лена\К  моим урокам\изба\Интекрьер избы\изба8.jpg"/>
          <p:cNvPicPr/>
          <p:nvPr/>
        </p:nvPicPr>
        <p:blipFill>
          <a:blip r:embed="rId10"/>
          <a:stretch/>
        </p:blipFill>
        <p:spPr>
          <a:xfrm>
            <a:off x="357120" y="85716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5504 0.38843 E">
                                      <p:cBhvr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-0.1257 0.42546 E">
                                      <p:cBhvr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0.01574 L 0.16701 0.45671 E">
                                      <p:cBhvr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0.01921 L 0.18924 0.4287 E">
                                      <p:cBhvr>
                                        <p:cTn id="11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User\Мои документы\Лена\к открытому уроку\русские праздники\21.jpg"/>
          <p:cNvPicPr/>
          <p:nvPr/>
        </p:nvPicPr>
        <p:blipFill>
          <a:blip r:embed="rId1"/>
          <a:srcRect l="24452" t="0" r="20011" b="0"/>
          <a:stretch/>
        </p:blipFill>
        <p:spPr>
          <a:xfrm>
            <a:off x="6858000" y="1428840"/>
            <a:ext cx="1714680" cy="4289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ig0.mirtesen.ru/images/upload/20301231364/big.jpeg"/>
          <p:cNvPicPr/>
          <p:nvPr/>
        </p:nvPicPr>
        <p:blipFill>
          <a:blip r:embed="rId2"/>
          <a:srcRect l="10004" t="0" r="13334" b="1665"/>
          <a:stretch/>
        </p:blipFill>
        <p:spPr>
          <a:xfrm>
            <a:off x="500040" y="1428840"/>
            <a:ext cx="1671840" cy="428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mage007.mylivepage.ru/chunk7/935548/976/%D0%A0%D1%83%D1%81%D1%81%D0%BA%D0%B8%D0%B9%20%D0%BA%D0%BE%D1%81%D1%82%D1%8E%D0%BC1.jpg"/>
          <p:cNvPicPr/>
          <p:nvPr/>
        </p:nvPicPr>
        <p:blipFill>
          <a:blip r:embed="rId3"/>
          <a:srcRect l="17983" t="0" r="15244" b="0"/>
          <a:stretch/>
        </p:blipFill>
        <p:spPr>
          <a:xfrm>
            <a:off x="2357280" y="1428840"/>
            <a:ext cx="1857600" cy="4286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cicet.ru/images/20.jpg"/>
          <p:cNvPicPr/>
          <p:nvPr/>
        </p:nvPicPr>
        <p:blipFill>
          <a:blip r:embed="rId4"/>
          <a:srcRect l="3099" t="1657" r="1058" b="788"/>
          <a:stretch/>
        </p:blipFill>
        <p:spPr>
          <a:xfrm>
            <a:off x="4429080" y="1428840"/>
            <a:ext cx="2214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4"/>
          <p:cNvGrpSpPr/>
          <p:nvPr/>
        </p:nvGrpSpPr>
        <p:grpSpPr>
          <a:xfrm>
            <a:off x="500040" y="357120"/>
            <a:ext cx="8143920" cy="6121440"/>
            <a:chOff x="500040" y="357120"/>
            <a:chExt cx="8143920" cy="6121440"/>
          </a:xfrm>
        </p:grpSpPr>
        <p:pic>
          <p:nvPicPr>
            <p:cNvPr id="73" name="Picture 2" descr="C:\Documents and Settings\User\Мои документы\Лена\к открытому уроку\русские праздники\14.jpg"/>
            <p:cNvPicPr/>
            <p:nvPr/>
          </p:nvPicPr>
          <p:blipFill>
            <a:blip r:embed="rId1"/>
            <a:stretch/>
          </p:blipFill>
          <p:spPr>
            <a:xfrm>
              <a:off x="3714840" y="357120"/>
              <a:ext cx="4905360" cy="359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" descr="C:\Documents and Settings\User\Мои документы\Лена\к открытому уроку\русские праздники\15.jpg"/>
            <p:cNvPicPr/>
            <p:nvPr/>
          </p:nvPicPr>
          <p:blipFill>
            <a:blip r:embed="rId2"/>
            <a:stretch/>
          </p:blipFill>
          <p:spPr>
            <a:xfrm>
              <a:off x="500040" y="357120"/>
              <a:ext cx="3225600" cy="607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C:\Documents and Settings\User\Мои документы\Лена\к открытому уроку\русские праздники\17.jpg"/>
            <p:cNvPicPr/>
            <p:nvPr/>
          </p:nvPicPr>
          <p:blipFill>
            <a:blip r:embed="rId3"/>
            <a:srcRect l="0" t="29655" r="0" b="18618"/>
            <a:stretch/>
          </p:blipFill>
          <p:spPr>
            <a:xfrm>
              <a:off x="3714840" y="3929040"/>
              <a:ext cx="4929120" cy="254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User\Мои документы\Лена\к открытому уроку\русские праздники\2.jpg"/>
          <p:cNvPicPr/>
          <p:nvPr/>
        </p:nvPicPr>
        <p:blipFill>
          <a:blip r:embed="rId1"/>
          <a:stretch/>
        </p:blipFill>
        <p:spPr>
          <a:xfrm>
            <a:off x="428760" y="1571760"/>
            <a:ext cx="3500280" cy="4200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troitsa.paskha.ru/content/images/boskin.jpg"/>
          <p:cNvPicPr/>
          <p:nvPr/>
        </p:nvPicPr>
        <p:blipFill>
          <a:blip r:embed="rId2"/>
          <a:stretch/>
        </p:blipFill>
        <p:spPr>
          <a:xfrm>
            <a:off x="4214880" y="1571760"/>
            <a:ext cx="4581360" cy="4214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gusli.mp3" descr=""/>
          <p:cNvPicPr/>
          <p:nvPr/>
        </p:nvPicPr>
        <p:blipFill>
          <a:blip r:embed="rId3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16:45:00Z</dcterms:created>
  <dc:creator>User</dc:creator>
  <dc:description/>
  <dc:language>en-US</dc:language>
  <cp:lastModifiedBy>kab74</cp:lastModifiedBy>
  <dcterms:modified xsi:type="dcterms:W3CDTF">2013-01-14T09:19:05Z</dcterms:modified>
  <cp:revision>156</cp:revision>
  <dc:subject/>
  <dc:title>Русские народные праздники</dc:title>
</cp:coreProperties>
</file>