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png" ContentType="image/png"/>
  <Override PartName="/ppt/media/image6.jpeg" ContentType="image/jpeg"/>
  <Override PartName="/ppt/media/image27.jpeg" ContentType="image/jpeg"/>
  <Override PartName="/ppt/media/image13.wmf" ContentType="image/x-wmf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32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3176250" cy="9828213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F75-9AF1-4F04-97AF-D1B01894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D25-9DDA-4D8A-8E8B-D4D6437A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9EC-EB3A-494F-9D61-714AFD3E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19F-D8B5-4524-BB47-A1941E79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6C54-36C0-40D7-A866-0D3C80F1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39FE-7B36-4D54-AFB7-CFB8EDAE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397C-94A3-4E5F-BDB5-1BFBDE0F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2747-4CFE-4D45-9B4E-153C00A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078E-C829-47E3-A0D9-03FD710B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B17A-7909-4238-BA53-77AFCBDE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5912-11AE-4430-88D4-07C4EBA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C02-1358-4CEF-AC2F-382EDE7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7E6A-6C70-4775-8877-164AB4C0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A261-FEB4-4658-91E1-8981FCA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20E6-9221-4120-8885-78F4CCD1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F232-64F3-4C66-AEA8-098BF6BB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122C-4348-4B74-8EBE-1F012CCC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0BA1-B9C7-4C05-8971-701E1B91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B682-CD40-40E8-B1D3-322E8D0D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21F5-7A00-4F01-AFFA-B3C60EA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E2F8-BFBE-424E-9178-57303AA0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6FCD-A966-4601-9238-4A189019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84A-43BA-47C5-BF00-17CF3EAA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26553-32D7-4B56-80D9-60306DE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A631-5004-4A9F-93FF-37D8789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59F2-9C6E-4987-A039-A8B99EBA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86AE-7AF1-4EFC-A30D-8C42F3A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79B3-6F1F-4E64-AC5C-56CB25D4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8F03-9824-47BE-B4D3-7BE2C5F7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3F28-C1BA-40E7-8E41-8963DDCF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7876F-D871-4A57-BFA4-5F2FEE21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B610-598F-4B4F-9BE5-C02ACD2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6EFA-52B6-4A17-8AAF-957EA662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F48-B6D3-4B2C-BE00-E06BB20B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5D9D-A417-4FA3-BB90-5E71F9F3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D2E7-BAC0-4CBD-8DC2-CD457C21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2D18-257D-48CC-A500-BD6BB59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AA35-91CF-4859-8C2C-E1A4A7EB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13A35-FC51-45E2-8E0A-E91EE02A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264F-D022-4548-95A0-E317002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FE106-8EBF-4CE1-8B81-E0AEA34C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7398-F39F-49E4-A5CC-D74D009D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18E0-526F-4890-9DB9-CC9D0D23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DE7D2E-C432-4432-9B23-FF56E08A0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5F5-5057-44F4-BF35-EBC0EBF9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78500-29B8-4C13-9195-F52E2A0B5A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80D67-F5D5-4125-8E6C-5C4F42023C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E46D45-175F-481A-BB9C-A5F783A59B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CC527F-FA80-42DC-A9CF-24D5BDA32F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D302F7-DAC5-406C-BDF7-8167FE3683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8350FB-4DF2-4432-89CD-CA7A0D3764A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5D588-6DC9-46A8-9C38-FD45DA51E5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70C74-C7F8-4A2B-8D3D-D08F1CC3B7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795FB-E055-4B5D-B259-E9B91D6FA0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D8FCEB-1208-48F0-88C2-237ED54FF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6ED-3176-4F73-B05B-44B05F31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97CB1-D230-4594-857F-A224298F4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A4A-0FC6-411A-8E0D-5EC10641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16E-4C67-4612-81E6-4599B08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B6F-9236-44FF-A702-655FE67B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2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7440120" y="8956440"/>
            <a:ext cx="545652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1953D2F-2E77-4192-94B9-6E506ABAA628}" type="datetime">
              <a:rPr b="0" lang="en-US" sz="1400" spc="-1" strike="noStrike">
                <a:solidFill>
                  <a:srgbClr val="073e87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79360" y="8956440"/>
            <a:ext cx="545616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A189624-DB10-4458-A756-A6B19E37F134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50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Rounded Rectangle 14"/>
          <p:cNvSpPr/>
          <p:nvPr/>
        </p:nvSpPr>
        <p:spPr>
          <a:xfrm>
            <a:off x="328680" y="326880"/>
            <a:ext cx="12531600" cy="2044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23"/>
          <p:cNvGrpSpPr/>
          <p:nvPr/>
        </p:nvGrpSpPr>
        <p:grpSpPr>
          <a:xfrm>
            <a:off x="304920" y="1023840"/>
            <a:ext cx="12569760" cy="1908360"/>
            <a:chOff x="304920" y="1023840"/>
            <a:chExt cx="12569760" cy="1908360"/>
          </a:xfrm>
        </p:grpSpPr>
        <p:sp>
          <p:nvSpPr>
            <p:cNvPr id="57" name="Freeform 14"/>
            <p:cNvSpPr/>
            <p:nvPr/>
          </p:nvSpPr>
          <p:spPr>
            <a:xfrm>
              <a:off x="8724600" y="1231920"/>
              <a:ext cx="4150080" cy="1024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3778560" y="1047600"/>
              <a:ext cx="7999560" cy="1220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080600" y="1065240"/>
              <a:ext cx="7889040" cy="111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8092800" y="1046160"/>
              <a:ext cx="4772520" cy="9349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8"/>
            <p:cNvSpPr/>
            <p:nvPr/>
          </p:nvSpPr>
          <p:spPr>
            <a:xfrm>
              <a:off x="304920" y="1023840"/>
              <a:ext cx="12569760" cy="19083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7440120" y="8956440"/>
            <a:ext cx="545652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07A9CC4-7B13-4DDC-8D96-EC355B75B0A8}" type="datetime">
              <a:rPr b="0" lang="en-US" sz="1400" spc="-1" strike="noStrike">
                <a:solidFill>
                  <a:srgbClr val="073e87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279360" y="8956440"/>
            <a:ext cx="545616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BDB9F5E-12DE-49BC-9798-3E252AF50243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105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Rounded Rectangle 14"/>
          <p:cNvSpPr/>
          <p:nvPr/>
        </p:nvSpPr>
        <p:spPr>
          <a:xfrm>
            <a:off x="328680" y="326880"/>
            <a:ext cx="12531600" cy="864900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304920" y="7672320"/>
            <a:ext cx="12569760" cy="1908360"/>
            <a:chOff x="304920" y="7672320"/>
            <a:chExt cx="12569760" cy="1908360"/>
          </a:xfrm>
        </p:grpSpPr>
        <p:sp>
          <p:nvSpPr>
            <p:cNvPr id="112" name="Freeform 14"/>
            <p:cNvSpPr/>
            <p:nvPr/>
          </p:nvSpPr>
          <p:spPr>
            <a:xfrm>
              <a:off x="8724600" y="7880400"/>
              <a:ext cx="4150080" cy="1024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3778560" y="7696080"/>
              <a:ext cx="7999560" cy="1220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4080600" y="7713720"/>
              <a:ext cx="7889040" cy="111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8092800" y="7694640"/>
              <a:ext cx="4772520" cy="9349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304920" y="7672320"/>
              <a:ext cx="12569760" cy="19083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440120" y="8956440"/>
            <a:ext cx="545652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D198357-46C9-45D9-9666-D7DD3034DF78}" type="datetime">
              <a:rPr b="0" lang="en-US" sz="1400" spc="-1" strike="noStrike">
                <a:solidFill>
                  <a:srgbClr val="073e87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279360" y="8956440"/>
            <a:ext cx="545616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0C83CC4-9006-4575-B666-09FD81ECD913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160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ounded Rectangle 20"/>
          <p:cNvSpPr/>
          <p:nvPr/>
        </p:nvSpPr>
        <p:spPr>
          <a:xfrm>
            <a:off x="328680" y="326880"/>
            <a:ext cx="12531600" cy="2044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14"/>
          <p:cNvGrpSpPr/>
          <p:nvPr/>
        </p:nvGrpSpPr>
        <p:grpSpPr>
          <a:xfrm>
            <a:off x="304920" y="1023840"/>
            <a:ext cx="12569760" cy="1908360"/>
            <a:chOff x="304920" y="1023840"/>
            <a:chExt cx="12569760" cy="1908360"/>
          </a:xfrm>
        </p:grpSpPr>
        <p:sp>
          <p:nvSpPr>
            <p:cNvPr id="167" name="Freeform 14"/>
            <p:cNvSpPr/>
            <p:nvPr/>
          </p:nvSpPr>
          <p:spPr>
            <a:xfrm>
              <a:off x="8724600" y="1231920"/>
              <a:ext cx="4150080" cy="1024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778560" y="1047600"/>
              <a:ext cx="7999560" cy="1220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4080600" y="1065240"/>
              <a:ext cx="7889040" cy="111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8092800" y="1046160"/>
              <a:ext cx="4772520" cy="9349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04920" y="1023840"/>
              <a:ext cx="12569760" cy="19083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7440120" y="8956440"/>
            <a:ext cx="545652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9F13888-CE11-4B94-AB0F-E557700D1768}" type="datetime">
              <a:rPr b="0" lang="en-US" sz="1400" spc="-1" strike="noStrike">
                <a:solidFill>
                  <a:srgbClr val="073e87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279360" y="8956440"/>
            <a:ext cx="545616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3CED348-C514-49A0-8770-5A9CD111FBBA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215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3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C261B07-7DB2-43C7-B1D4-0BEC46FA7535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http://ladypraid.ru/uploads/images/00/00/09/2012/09/21/612d0a.jpg"/>
          <p:cNvPicPr/>
          <p:nvPr/>
        </p:nvPicPr>
        <p:blipFill>
          <a:blip r:embed="rId2"/>
          <a:stretch/>
        </p:blipFill>
        <p:spPr>
          <a:xfrm>
            <a:off x="1692360" y="6066000"/>
            <a:ext cx="9685080" cy="353376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522000"/>
            <a:ext cx="9577080" cy="136836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Тема    проекта: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Подзаголовок 2"/>
          <p:cNvSpPr/>
          <p:nvPr/>
        </p:nvSpPr>
        <p:spPr>
          <a:xfrm>
            <a:off x="-150840" y="2538360"/>
            <a:ext cx="133272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6000" spc="-1" strike="noStrike">
                <a:solidFill>
                  <a:srgbClr val="073e87"/>
                </a:solidFill>
                <a:latin typeface="Monotype Corsiva"/>
                <a:ea typeface="Times New Roman"/>
              </a:rPr>
              <a:t>«Развитие   познавательных  процессов   у    детей   старшего  дошкольного    возраста   через   внедрение  ИКТ   технологии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3"/>
          <a:stretch/>
        </p:blipFill>
        <p:spPr>
          <a:xfrm>
            <a:off x="9828360" y="306360"/>
            <a:ext cx="3097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хема 2" descr=""/>
          <p:cNvPicPr/>
          <p:nvPr/>
        </p:nvPicPr>
        <p:blipFill>
          <a:blip r:embed="rId2"/>
          <a:stretch/>
        </p:blipFill>
        <p:spPr>
          <a:xfrm>
            <a:off x="433440" y="2828880"/>
            <a:ext cx="12130200" cy="723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4443480" y="3182760"/>
            <a:ext cx="4149720" cy="3171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41600" y="88560"/>
            <a:ext cx="10274400" cy="229716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4600"/>
                <a:tab algn="l" pos="2690640"/>
                <a:tab algn="l" pos="31399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5600"/>
                <a:tab algn="l" pos="62848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0560"/>
                <a:tab algn="l" pos="9408960"/>
                <a:tab algn="l" pos="10132920"/>
                <a:tab algn="l" pos="105156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Работа  с   родителями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Стрелка вправо с вырезом 10"/>
          <p:cNvSpPr/>
          <p:nvPr/>
        </p:nvSpPr>
        <p:spPr>
          <a:xfrm rot="1261200">
            <a:off x="8865720" y="5541480"/>
            <a:ext cx="1568520" cy="201600"/>
          </a:xfrm>
          <a:custGeom>
            <a:avLst/>
            <a:gdLst>
              <a:gd name="textAreaLeft" fmla="*/ 50400 w 1568520"/>
              <a:gd name="textAreaRight" fmla="*/ 1518120 w 1568520"/>
              <a:gd name="textAreaTop" fmla="*/ 50400 h 201600"/>
              <a:gd name="textAreaBottom" fmla="*/ 1512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12" y="5400"/>
                </a:lnTo>
                <a:lnTo>
                  <a:pt x="20212" y="0"/>
                </a:lnTo>
                <a:lnTo>
                  <a:pt x="21600" y="10800"/>
                </a:lnTo>
                <a:lnTo>
                  <a:pt x="20212" y="21600"/>
                </a:lnTo>
                <a:lnTo>
                  <a:pt x="20212" y="16200"/>
                </a:lnTo>
                <a:lnTo>
                  <a:pt x="0" y="16200"/>
                </a:lnTo>
                <a:lnTo>
                  <a:pt x="69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11"/>
          <p:cNvSpPr/>
          <p:nvPr/>
        </p:nvSpPr>
        <p:spPr>
          <a:xfrm rot="20630400">
            <a:off x="8881560" y="4805280"/>
            <a:ext cx="1700280" cy="230400"/>
          </a:xfrm>
          <a:custGeom>
            <a:avLst/>
            <a:gdLst>
              <a:gd name="textAreaLeft" fmla="*/ 57240 w 1700280"/>
              <a:gd name="textAreaRight" fmla="*/ 1643040 w 1700280"/>
              <a:gd name="textAreaTop" fmla="*/ 57600 h 230400"/>
              <a:gd name="textAreaBottom" fmla="*/ 172800 h 230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138" y="5400"/>
                </a:ln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20138" y="16200"/>
                </a:lnTo>
                <a:lnTo>
                  <a:pt x="0" y="16200"/>
                </a:lnTo>
                <a:lnTo>
                  <a:pt x="73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трелка вправо с вырезом 13"/>
          <p:cNvSpPr/>
          <p:nvPr/>
        </p:nvSpPr>
        <p:spPr>
          <a:xfrm rot="11746200">
            <a:off x="2346120" y="4762080"/>
            <a:ext cx="1871640" cy="216000"/>
          </a:xfrm>
          <a:custGeom>
            <a:avLst/>
            <a:gdLst>
              <a:gd name="textAreaLeft" fmla="*/ 53640 w 1871640"/>
              <a:gd name="textAreaRight" fmla="*/ 1818000 w 187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54" y="5400"/>
                </a:lnTo>
                <a:lnTo>
                  <a:pt x="20354" y="0"/>
                </a:lnTo>
                <a:lnTo>
                  <a:pt x="21600" y="10800"/>
                </a:lnTo>
                <a:lnTo>
                  <a:pt x="20354" y="21600"/>
                </a:lnTo>
                <a:lnTo>
                  <a:pt x="20354" y="16200"/>
                </a:lnTo>
                <a:lnTo>
                  <a:pt x="0" y="16200"/>
                </a:lnTo>
                <a:lnTo>
                  <a:pt x="62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4"/>
          <p:cNvSpPr/>
          <p:nvPr/>
        </p:nvSpPr>
        <p:spPr>
          <a:xfrm rot="10027200">
            <a:off x="2339280" y="5595840"/>
            <a:ext cx="1871640" cy="216000"/>
          </a:xfrm>
          <a:custGeom>
            <a:avLst/>
            <a:gdLst>
              <a:gd name="textAreaLeft" fmla="*/ 53640 w 1871640"/>
              <a:gd name="textAreaRight" fmla="*/ 1818000 w 187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54" y="5400"/>
                </a:lnTo>
                <a:lnTo>
                  <a:pt x="20354" y="0"/>
                </a:lnTo>
                <a:lnTo>
                  <a:pt x="21600" y="10800"/>
                </a:lnTo>
                <a:lnTo>
                  <a:pt x="20354" y="21600"/>
                </a:lnTo>
                <a:lnTo>
                  <a:pt x="20354" y="16200"/>
                </a:lnTo>
                <a:lnTo>
                  <a:pt x="0" y="16200"/>
                </a:lnTo>
                <a:lnTo>
                  <a:pt x="62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трелка вправо с вырезом 15"/>
          <p:cNvSpPr/>
          <p:nvPr/>
        </p:nvSpPr>
        <p:spPr>
          <a:xfrm flipV="1" rot="1881600">
            <a:off x="7157880" y="6781680"/>
            <a:ext cx="1060560" cy="239760"/>
          </a:xfrm>
          <a:custGeom>
            <a:avLst/>
            <a:gdLst>
              <a:gd name="textAreaLeft" fmla="*/ 59760 w 1060560"/>
              <a:gd name="textAreaRight" fmla="*/ 1000800 w 1060560"/>
              <a:gd name="textAreaTop" fmla="*/ 59760 h 239760"/>
              <a:gd name="textAreaBottom" fmla="*/ 180000 h 239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59" y="5400"/>
                </a:ln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19159" y="16200"/>
                </a:lnTo>
                <a:lnTo>
                  <a:pt x="0" y="16200"/>
                </a:lnTo>
                <a:lnTo>
                  <a:pt x="122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6"/>
          <p:cNvSpPr/>
          <p:nvPr/>
        </p:nvSpPr>
        <p:spPr>
          <a:xfrm rot="8145600">
            <a:off x="5013000" y="6772320"/>
            <a:ext cx="922320" cy="217440"/>
          </a:xfrm>
          <a:custGeom>
            <a:avLst/>
            <a:gdLst>
              <a:gd name="textAreaLeft" fmla="*/ 54360 w 922320"/>
              <a:gd name="textAreaRight" fmla="*/ 867960 w 922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053" y="5400"/>
                </a:lnTo>
                <a:lnTo>
                  <a:pt x="19053" y="0"/>
                </a:lnTo>
                <a:lnTo>
                  <a:pt x="21600" y="10800"/>
                </a:lnTo>
                <a:lnTo>
                  <a:pt x="19053" y="21600"/>
                </a:lnTo>
                <a:lnTo>
                  <a:pt x="19053" y="16200"/>
                </a:lnTo>
                <a:lnTo>
                  <a:pt x="0" y="16200"/>
                </a:lnTo>
                <a:lnTo>
                  <a:pt x="12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4"/>
          <a:stretch/>
        </p:blipFill>
        <p:spPr>
          <a:xfrm>
            <a:off x="285840" y="378000"/>
            <a:ext cx="2520720" cy="20080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"/>
          <p:cNvSpPr/>
          <p:nvPr/>
        </p:nvSpPr>
        <p:spPr>
          <a:xfrm>
            <a:off x="498600" y="831960"/>
            <a:ext cx="14637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466560" y="2774880"/>
            <a:ext cx="6342120" cy="6429600"/>
          </a:xfrm>
          <a:prstGeom prst="rect">
            <a:avLst/>
          </a:prstGeom>
          <a:ln w="76320">
            <a:solidFill>
              <a:srgbClr val="0b87d6"/>
            </a:solidFill>
            <a:round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195120"/>
            <a:ext cx="11858760" cy="147816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marL="458640" indent="0" algn="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4600"/>
                <a:tab algn="l" pos="2690640"/>
                <a:tab algn="l" pos="31399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5600"/>
                <a:tab algn="l" pos="62848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0560"/>
                <a:tab algn="l" pos="9190080"/>
                <a:tab algn="l" pos="105030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Monotype Corsiva"/>
              </a:rPr>
              <a:t>                       </a:t>
            </a: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езультаты: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204840" y="-679320"/>
            <a:ext cx="2286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0" descr="https://encrypted-tbn1.gstatic.com/images?q=tbn:ANd9GcSoflIrGhY6tUsXP6rHeaE4FZUDvv8Ayb6XSzaZQcr-tQzXHB0X"/>
          <p:cNvPicPr/>
          <p:nvPr/>
        </p:nvPicPr>
        <p:blipFill>
          <a:blip r:embed="rId3"/>
          <a:stretch/>
        </p:blipFill>
        <p:spPr>
          <a:xfrm>
            <a:off x="2048040" y="6913440"/>
            <a:ext cx="2841480" cy="2170080"/>
          </a:xfrm>
          <a:prstGeom prst="rect">
            <a:avLst/>
          </a:prstGeom>
          <a:ln w="0">
            <a:noFill/>
          </a:ln>
        </p:spPr>
      </p:pic>
      <p:sp>
        <p:nvSpPr>
          <p:cNvPr id="336" name="Стрелка влево 7"/>
          <p:cNvSpPr/>
          <p:nvPr/>
        </p:nvSpPr>
        <p:spPr>
          <a:xfrm>
            <a:off x="7020000" y="4241880"/>
            <a:ext cx="693720" cy="755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2d83f4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6" descr="G:\2012-12-03\004.JPG"/>
          <p:cNvPicPr/>
          <p:nvPr/>
        </p:nvPicPr>
        <p:blipFill>
          <a:blip r:embed="rId4"/>
          <a:stretch/>
        </p:blipFill>
        <p:spPr>
          <a:xfrm>
            <a:off x="8172360" y="5273640"/>
            <a:ext cx="4444920" cy="3960720"/>
          </a:xfrm>
          <a:prstGeom prst="rect">
            <a:avLst/>
          </a:prstGeom>
          <a:ln w="57240">
            <a:solidFill>
              <a:srgbClr val="0293e0"/>
            </a:solidFill>
            <a:miter/>
          </a:ln>
        </p:spPr>
      </p:pic>
      <p:sp>
        <p:nvSpPr>
          <p:cNvPr id="338" name="Блок-схема: несколько документов 3"/>
          <p:cNvSpPr/>
          <p:nvPr/>
        </p:nvSpPr>
        <p:spPr>
          <a:xfrm>
            <a:off x="7921800" y="3828960"/>
            <a:ext cx="4914720" cy="2212920"/>
          </a:xfrm>
          <a:prstGeom prst="flowChartMultidocumen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арциальная програм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5"/>
          <a:stretch/>
        </p:blipFill>
        <p:spPr>
          <a:xfrm>
            <a:off x="590400" y="233280"/>
            <a:ext cx="2519640" cy="20098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"/>
          <p:cNvSpPr/>
          <p:nvPr/>
        </p:nvSpPr>
        <p:spPr>
          <a:xfrm>
            <a:off x="716760" y="569880"/>
            <a:ext cx="14637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3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640" y="483840"/>
            <a:ext cx="113043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Основная  идея  проекта: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2"/>
          <a:stretch/>
        </p:blipFill>
        <p:spPr>
          <a:xfrm>
            <a:off x="11125080" y="484200"/>
            <a:ext cx="1800360" cy="15145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8"/>
          <p:cNvSpPr/>
          <p:nvPr/>
        </p:nvSpPr>
        <p:spPr>
          <a:xfrm>
            <a:off x="0" y="2394000"/>
            <a:ext cx="1317636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6000" spc="-1" strike="noStrike">
                <a:solidFill>
                  <a:srgbClr val="073e87"/>
                </a:solidFill>
                <a:latin typeface="Monotype Corsiva"/>
                <a:ea typeface="Times New Roman"/>
              </a:rPr>
              <a:t>Гармоничное  соединение  компьютерных  технологий  с  традиционными средствами развития  дошкольни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66560" y="5705640"/>
            <a:ext cx="124938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Проблемный  вопрос  проекта: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10"/>
          <p:cNvSpPr/>
          <p:nvPr/>
        </p:nvSpPr>
        <p:spPr>
          <a:xfrm>
            <a:off x="4178160" y="6964200"/>
            <a:ext cx="87854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6000" spc="-1" strike="noStrike">
                <a:solidFill>
                  <a:srgbClr val="073e87"/>
                </a:solidFill>
                <a:latin typeface="Monotype Corsiva"/>
                <a:ea typeface="Times New Roman"/>
              </a:rPr>
              <a:t>Как   преподать   информацию   детя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https://encrypted-tbn3.gstatic.com/images?q=tbn:ANd9GcRbDB5ugZQGUYoylpRqg0iLpPoeMkXlIIJs4GAsh_H9QFa3SCRY"/>
          <p:cNvPicPr/>
          <p:nvPr/>
        </p:nvPicPr>
        <p:blipFill>
          <a:blip r:embed="rId3"/>
          <a:stretch/>
        </p:blipFill>
        <p:spPr>
          <a:xfrm>
            <a:off x="1332000" y="6858000"/>
            <a:ext cx="3240000" cy="258768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</p:spTree>
  </p:cSld>
  <p:transition spd="slow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2916360" y="880920"/>
            <a:ext cx="9217080" cy="79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Заголовок 1"/>
          <p:cNvSpPr/>
          <p:nvPr/>
        </p:nvSpPr>
        <p:spPr>
          <a:xfrm>
            <a:off x="0" y="142920"/>
            <a:ext cx="12996720" cy="87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Цель    проекта: 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5400" spc="-1" strike="noStrike">
                <a:solidFill>
                  <a:srgbClr val="052e65"/>
                </a:solidFill>
                <a:latin typeface="Monotype Corsiva"/>
              </a:rPr>
              <a:t>Совершенствование  познавательных  процессов  у  детей   старшего   дошкольного   возраста  путём   внедрения  ИКТ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5400" spc="-1" strike="noStrike">
                <a:solidFill>
                  <a:srgbClr val="052e65"/>
                </a:solidFill>
                <a:latin typeface="Monotype Corsiva"/>
              </a:rPr>
              <a:t>в  образовательный    процесс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9901080" y="88920"/>
            <a:ext cx="2951280" cy="1944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9252000" cy="140508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Задачи  проекта: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3" name="Схема 15" descr=""/>
          <p:cNvPicPr/>
          <p:nvPr/>
        </p:nvPicPr>
        <p:blipFill>
          <a:blip r:embed="rId2"/>
          <a:stretch/>
        </p:blipFill>
        <p:spPr>
          <a:xfrm>
            <a:off x="324000" y="3255840"/>
            <a:ext cx="12458520" cy="6845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paidagogos.com/wp-content/uploads/2012/07/1329302004_three-children-with-computer_not_just_a_phase.jpg"/>
          <p:cNvPicPr/>
          <p:nvPr/>
        </p:nvPicPr>
        <p:blipFill>
          <a:blip r:embed="rId3"/>
          <a:stretch/>
        </p:blipFill>
        <p:spPr>
          <a:xfrm>
            <a:off x="8483760" y="487440"/>
            <a:ext cx="4217760" cy="262728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  <p:sp>
        <p:nvSpPr>
          <p:cNvPr id="275" name="Стрелка вниз 16"/>
          <p:cNvSpPr/>
          <p:nvPr/>
        </p:nvSpPr>
        <p:spPr>
          <a:xfrm>
            <a:off x="9488520" y="4992840"/>
            <a:ext cx="1395360" cy="12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Скругленный прямоугольник 17"/>
          <p:cNvGrpSpPr/>
          <p:nvPr/>
        </p:nvGrpSpPr>
        <p:grpSpPr>
          <a:xfrm>
            <a:off x="4114800" y="8174160"/>
            <a:ext cx="8742240" cy="1403280"/>
            <a:chOff x="4114800" y="8174160"/>
            <a:chExt cx="8742240" cy="1403280"/>
          </a:xfrm>
        </p:grpSpPr>
        <p:pic>
          <p:nvPicPr>
            <p:cNvPr id="277" name="Скругленный прямоугольник 17" descr=""/>
            <p:cNvPicPr/>
            <p:nvPr/>
          </p:nvPicPr>
          <p:blipFill>
            <a:blip r:embed="rId4"/>
            <a:stretch/>
          </p:blipFill>
          <p:spPr>
            <a:xfrm>
              <a:off x="4114800" y="8174160"/>
              <a:ext cx="87422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229280" y="8290080"/>
              <a:ext cx="85071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Формирование начальных навыков работы за компьютер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https://encrypted-tbn3.gstatic.com/images?q=tbn:ANd9GcT5HMziYpk1w7dLSBJqYGSMas5v-Qww6Y9Ddz-RZ5KHQRlSqiU"/>
          <p:cNvPicPr/>
          <p:nvPr/>
        </p:nvPicPr>
        <p:blipFill>
          <a:blip r:embed="rId2"/>
          <a:stretch/>
        </p:blipFill>
        <p:spPr>
          <a:xfrm>
            <a:off x="7253280" y="4554360"/>
            <a:ext cx="5329080" cy="453564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  <p:sp>
        <p:nvSpPr>
          <p:cNvPr id="280" name=""/>
          <p:cNvSpPr txBox="1"/>
          <p:nvPr/>
        </p:nvSpPr>
        <p:spPr>
          <a:xfrm>
            <a:off x="539280" y="3186000"/>
            <a:ext cx="6264360" cy="5904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2d83f4"/>
            </a:solidFill>
            <a:miter/>
          </a:ln>
        </p:spPr>
        <p:txBody>
          <a:bodyPr lIns="131400" rIns="131400" tIns="65880" bIns="65880" anchor="t">
            <a:normAutofit fontScale="82000"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Учебно-воспитательный процесс В ДОУ может быть более успешным и  эффективным, если   в качестве дидактического средства на НОД или в совместной  деятельности использовать  ИКТ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1386000"/>
            <a:ext cx="12457080" cy="129528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Гипотеза     проекта:</a:t>
            </a:r>
            <a:br>
              <a:rPr sz="9600"/>
            </a:b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Выгнутая вверх стрелка 3"/>
          <p:cNvSpPr/>
          <p:nvPr/>
        </p:nvSpPr>
        <p:spPr>
          <a:xfrm rot="762600">
            <a:off x="3725640" y="2454120"/>
            <a:ext cx="7056360" cy="1440000"/>
          </a:xfrm>
          <a:custGeom>
            <a:avLst/>
            <a:gdLst>
              <a:gd name="textAreaLeft" fmla="*/ 1458720 w 7056360"/>
              <a:gd name="textAreaRight" fmla="*/ 4736520 w 705636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2" hR="21600" stAng="10800000" swAng="5400000"/>
                <a:lnTo>
                  <a:pt x="10033" y="0"/>
                </a:lnTo>
                <a:arcTo wR="8932" hR="21600" stAng="-5400000" swAng="3481173"/>
                <a:lnTo>
                  <a:pt x="21316" y="16200"/>
                </a:lnTo>
                <a:lnTo>
                  <a:pt x="18415" y="21600"/>
                </a:lnTo>
                <a:lnTo>
                  <a:pt x="14945" y="16200"/>
                </a:lnTo>
                <a:lnTo>
                  <a:pt x="17580" y="16200"/>
                </a:lnTo>
                <a:arcTo wR="8932" hR="21600" stAng="-1918827" swAng="-3393410"/>
                <a:lnTo>
                  <a:pt x="9483" y="41"/>
                </a:lnTo>
                <a:arcTo wR="8932" hR="21600" stAng="-5487763" swAng="-5312237"/>
                <a:close/>
              </a:path>
              <a:path fill="darkenLess" w="21600" h="21600">
                <a:moveTo>
                  <a:pt x="0" y="21600"/>
                </a:moveTo>
                <a:arcTo wR="8932" hR="21600" stAng="10800000" swAng="5400000"/>
                <a:lnTo>
                  <a:pt x="8932" y="0"/>
                </a:lnTo>
                <a:arcTo wR="8932" hR="21600" stAng="-5400000" swAng="87763"/>
                <a:lnTo>
                  <a:pt x="9483" y="41"/>
                </a:lnTo>
                <a:arcTo wR="8932" hR="21600" stAng="-5487763" swAng="-5312237"/>
                <a:close/>
              </a:path>
            </a:pathLst>
          </a:cu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8" descr="https://encrypted-tbn2.gstatic.com/images?q=tbn:ANd9GcS8fNZ4pm-fb0zi_7cWtIBywTFBi9pxF0MnTwlOows0hb8WP1Yh"/>
          <p:cNvPicPr/>
          <p:nvPr/>
        </p:nvPicPr>
        <p:blipFill>
          <a:blip r:embed="rId2"/>
          <a:stretch/>
        </p:blipFill>
        <p:spPr>
          <a:xfrm>
            <a:off x="10188720" y="1386000"/>
            <a:ext cx="2393640" cy="3240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664920"/>
            <a:ext cx="1185840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ts val="10562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Планируемый   результат проекта:  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5" name="Объект 5" descr=""/>
          <p:cNvPicPr/>
          <p:nvPr/>
        </p:nvPicPr>
        <p:blipFill>
          <a:blip r:embed="rId3"/>
          <a:stretch/>
        </p:blipFill>
        <p:spPr>
          <a:xfrm>
            <a:off x="139680" y="3438360"/>
            <a:ext cx="11918880" cy="65408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"/>
          <p:cNvSpPr/>
          <p:nvPr/>
        </p:nvSpPr>
        <p:spPr>
          <a:xfrm>
            <a:off x="814320" y="-4618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1231200" y="7794720"/>
            <a:ext cx="414000" cy="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6436b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11"/>
          <p:cNvSpPr/>
          <p:nvPr/>
        </p:nvSpPr>
        <p:spPr>
          <a:xfrm>
            <a:off x="2891880" y="6570720"/>
            <a:ext cx="414000" cy="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6436b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12"/>
          <p:cNvSpPr/>
          <p:nvPr/>
        </p:nvSpPr>
        <p:spPr>
          <a:xfrm>
            <a:off x="9588960" y="4842000"/>
            <a:ext cx="414000" cy="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6436b"/>
                </a:solidFill>
                <a:latin typeface="Monotype Corsiv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449280"/>
            <a:ext cx="10904400" cy="1720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Реализация   данного  проекта     возможна   при: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1" name="Схема 7" descr=""/>
          <p:cNvPicPr/>
          <p:nvPr/>
        </p:nvPicPr>
        <p:blipFill>
          <a:blip r:embed="rId2"/>
          <a:stretch/>
        </p:blipFill>
        <p:spPr>
          <a:xfrm>
            <a:off x="426960" y="3249720"/>
            <a:ext cx="12739680" cy="657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Users\Детсад\AppData\Local\Microsoft\Windows\Temporary Internet Files\Content.IE5\BXT09ONC\MC900233935[1].wmf"/>
          <p:cNvPicPr/>
          <p:nvPr/>
        </p:nvPicPr>
        <p:blipFill>
          <a:blip r:embed="rId3"/>
          <a:stretch/>
        </p:blipFill>
        <p:spPr>
          <a:xfrm>
            <a:off x="8028000" y="1241280"/>
            <a:ext cx="3600360" cy="2305080"/>
          </a:xfrm>
          <a:prstGeom prst="rect">
            <a:avLst/>
          </a:prstGeom>
          <a:ln w="0">
            <a:noFill/>
          </a:ln>
        </p:spPr>
      </p:pic>
      <p:sp>
        <p:nvSpPr>
          <p:cNvPr id="293" name="Выгнутая вверх стрелка 10"/>
          <p:cNvSpPr/>
          <p:nvPr/>
        </p:nvSpPr>
        <p:spPr>
          <a:xfrm rot="882600">
            <a:off x="2734920" y="2469960"/>
            <a:ext cx="1874880" cy="1085760"/>
          </a:xfrm>
          <a:custGeom>
            <a:avLst/>
            <a:gdLst>
              <a:gd name="textAreaLeft" fmla="*/ 366840 w 1874880"/>
              <a:gd name="textAreaRight" fmla="*/ 1372320 w 1874880"/>
              <a:gd name="textAreaTop" fmla="*/ 145440 h 1085760"/>
              <a:gd name="textAreaBottom" fmla="*/ 9403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55" hR="21600" stAng="10800000" swAng="5400000"/>
                <a:lnTo>
                  <a:pt x="11582" y="0"/>
                </a:lnTo>
                <a:arcTo wR="8455" hR="21600" stAng="-5400000" swAng="3395325"/>
                <a:lnTo>
                  <a:pt x="21332" y="16200"/>
                </a:lnTo>
                <a:lnTo>
                  <a:pt x="18473" y="21600"/>
                </a:lnTo>
                <a:lnTo>
                  <a:pt x="15077" y="16200"/>
                </a:lnTo>
                <a:lnTo>
                  <a:pt x="16641" y="16200"/>
                </a:lnTo>
                <a:arcTo wR="8455" hR="21600" stAng="-2004675" swAng="-3142576"/>
                <a:lnTo>
                  <a:pt x="10018" y="373"/>
                </a:lnTo>
                <a:arcTo wR="8455" hR="21600" stAng="-5652750" swAng="-5147250"/>
                <a:close/>
              </a:path>
              <a:path fill="darkenLess" w="21600" h="21600">
                <a:moveTo>
                  <a:pt x="0" y="21600"/>
                </a:moveTo>
                <a:arcTo wR="8455" hR="21600" stAng="10800000" swAng="5400000"/>
                <a:lnTo>
                  <a:pt x="8455" y="0"/>
                </a:lnTo>
                <a:arcTo wR="8455" hR="21600" stAng="-5400000" swAng="252750"/>
                <a:lnTo>
                  <a:pt x="10018" y="373"/>
                </a:lnTo>
                <a:arcTo wR="8455" hR="21600" stAng="-5652750" swAng="-5147250"/>
                <a:close/>
              </a:path>
            </a:pathLst>
          </a:custGeom>
          <a:solidFill>
            <a:srgbClr val="2d83f4"/>
          </a:solidFill>
          <a:ln w="38160">
            <a:solidFill>
              <a:srgbClr val="052e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2021040" y="237960"/>
            <a:ext cx="108504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6400"/>
                <a:tab algn="l" pos="2692440"/>
                <a:tab algn="l" pos="314172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7400"/>
                <a:tab algn="l" pos="62866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2000"/>
                <a:tab algn="l" pos="9410760"/>
                <a:tab algn="l" pos="10134720"/>
                <a:tab algn="l" pos="10858680"/>
                <a:tab algn="l" pos="11579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Monotype Corsiva"/>
              </a:rPr>
              <a:t>Виды  компьютерных  игр: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782800" y="1468440"/>
            <a:ext cx="10120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6400"/>
                <a:tab algn="l" pos="2692440"/>
                <a:tab algn="l" pos="314172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7400"/>
                <a:tab algn="l" pos="62866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20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ЗВИВАЮЩИЕ 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6400"/>
                <a:tab algn="l" pos="2692440"/>
                <a:tab algn="l" pos="314172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7400"/>
                <a:tab algn="l" pos="62866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20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УЧАЮЩИЕ  ИГРЫ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ИГРЫ - ЗАБА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2759040" y="1414440"/>
            <a:ext cx="1927440" cy="1793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4869000" y="2465280"/>
            <a:ext cx="2690640" cy="2016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4"/>
          <a:stretch/>
        </p:blipFill>
        <p:spPr>
          <a:xfrm>
            <a:off x="3892680" y="1812960"/>
            <a:ext cx="1998360" cy="1930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https://encrypted-tbn1.gstatic.com/images?q=tbn:ANd9GcRzXC3thkyTTbAUikBB5eIcXzB1zYYEbkSg7et1TAx3ROFpRIdo"/>
          <p:cNvPicPr/>
          <p:nvPr/>
        </p:nvPicPr>
        <p:blipFill>
          <a:blip r:embed="rId5"/>
          <a:stretch/>
        </p:blipFill>
        <p:spPr>
          <a:xfrm>
            <a:off x="395280" y="3473280"/>
            <a:ext cx="2995560" cy="2665440"/>
          </a:xfrm>
          <a:prstGeom prst="rect">
            <a:avLst/>
          </a:prstGeom>
          <a:ln w="76320">
            <a:solidFill>
              <a:srgbClr val="0b87d6"/>
            </a:solidFill>
            <a:miter/>
          </a:ln>
        </p:spPr>
      </p:pic>
      <p:pic>
        <p:nvPicPr>
          <p:cNvPr id="300" name="Picture 11" descr="https://encrypted-tbn1.gstatic.com/images?q=tbn:ANd9GcTJRMMyTBC55pN_nE_DCRGbpzi04YQ_H7-T6OTonxPHRnSwrnpqeA"/>
          <p:cNvPicPr/>
          <p:nvPr/>
        </p:nvPicPr>
        <p:blipFill>
          <a:blip r:embed="rId6"/>
          <a:stretch/>
        </p:blipFill>
        <p:spPr>
          <a:xfrm>
            <a:off x="3778200" y="3486240"/>
            <a:ext cx="2576520" cy="2652480"/>
          </a:xfrm>
          <a:prstGeom prst="rect">
            <a:avLst/>
          </a:prstGeom>
          <a:ln w="76320">
            <a:solidFill>
              <a:srgbClr val="0b87d6"/>
            </a:solidFill>
            <a:miter/>
          </a:ln>
        </p:spPr>
      </p:pic>
      <p:pic>
        <p:nvPicPr>
          <p:cNvPr id="301" name="Picture 13" descr="https://encrypted-tbn3.gstatic.com/images?q=tbn:ANd9GcQajc6XyLUPV3YpPLMzsBK_g-H7TCa97cgyHPJp7DTTQ4mUbcBL"/>
          <p:cNvPicPr/>
          <p:nvPr/>
        </p:nvPicPr>
        <p:blipFill>
          <a:blip r:embed="rId7"/>
          <a:stretch/>
        </p:blipFill>
        <p:spPr>
          <a:xfrm>
            <a:off x="6804000" y="3492360"/>
            <a:ext cx="2664000" cy="2646360"/>
          </a:xfrm>
          <a:prstGeom prst="rect">
            <a:avLst/>
          </a:prstGeom>
          <a:ln w="76320">
            <a:solidFill>
              <a:srgbClr val="0b87d6"/>
            </a:solidFill>
            <a:miter/>
          </a:ln>
        </p:spPr>
      </p:pic>
      <p:pic>
        <p:nvPicPr>
          <p:cNvPr id="302" name="Picture 15" descr="http://www.sweetsdetki.ru/images/stories/razviv_igri/pervie_uroki_veselaya_shkola.jpg"/>
          <p:cNvPicPr/>
          <p:nvPr/>
        </p:nvPicPr>
        <p:blipFill>
          <a:blip r:embed="rId8"/>
          <a:stretch/>
        </p:blipFill>
        <p:spPr>
          <a:xfrm>
            <a:off x="9815400" y="3483000"/>
            <a:ext cx="3043440" cy="2655720"/>
          </a:xfrm>
          <a:prstGeom prst="rect">
            <a:avLst/>
          </a:prstGeom>
          <a:ln w="76320">
            <a:solidFill>
              <a:srgbClr val="0b87d6"/>
            </a:solidFill>
            <a:miter/>
          </a:ln>
        </p:spPr>
      </p:pic>
      <p:pic>
        <p:nvPicPr>
          <p:cNvPr id="303" name="Picture 3" descr=""/>
          <p:cNvPicPr/>
          <p:nvPr/>
        </p:nvPicPr>
        <p:blipFill>
          <a:blip r:embed="rId9"/>
          <a:stretch/>
        </p:blipFill>
        <p:spPr>
          <a:xfrm>
            <a:off x="101520" y="457200"/>
            <a:ext cx="2519280" cy="20080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2"/>
          <p:cNvSpPr/>
          <p:nvPr/>
        </p:nvSpPr>
        <p:spPr>
          <a:xfrm>
            <a:off x="373680" y="958680"/>
            <a:ext cx="130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1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2"/>
          <p:cNvSpPr/>
          <p:nvPr/>
        </p:nvSpPr>
        <p:spPr>
          <a:xfrm>
            <a:off x="803160" y="6443640"/>
            <a:ext cx="115207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Monotype Corsiva"/>
              </a:rPr>
              <a:t>Требования  к   компьютерным  программ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Схема 3" descr=""/>
          <p:cNvPicPr/>
          <p:nvPr/>
        </p:nvPicPr>
        <p:blipFill>
          <a:blip r:embed="rId10"/>
          <a:stretch/>
        </p:blipFill>
        <p:spPr>
          <a:xfrm>
            <a:off x="1895400" y="7070760"/>
            <a:ext cx="9137880" cy="2609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3"/>
          <p:cNvSpPr/>
          <p:nvPr/>
        </p:nvSpPr>
        <p:spPr>
          <a:xfrm>
            <a:off x="888840" y="306360"/>
            <a:ext cx="1221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епосредственно   образовательная деятельность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Схема 5" descr=""/>
          <p:cNvPicPr/>
          <p:nvPr/>
        </p:nvPicPr>
        <p:blipFill>
          <a:blip r:embed="rId2"/>
          <a:stretch/>
        </p:blipFill>
        <p:spPr>
          <a:xfrm>
            <a:off x="7345440" y="5059440"/>
            <a:ext cx="5827680" cy="5200560"/>
          </a:xfrm>
          <a:prstGeom prst="rect">
            <a:avLst/>
          </a:prstGeom>
          <a:ln w="0">
            <a:noFill/>
          </a:ln>
        </p:spPr>
      </p:pic>
      <p:pic>
        <p:nvPicPr>
          <p:cNvPr id="309" name="Схема 6" descr=""/>
          <p:cNvPicPr/>
          <p:nvPr/>
        </p:nvPicPr>
        <p:blipFill>
          <a:blip r:embed="rId3"/>
          <a:stretch/>
        </p:blipFill>
        <p:spPr>
          <a:xfrm>
            <a:off x="536400" y="2809800"/>
            <a:ext cx="7291440" cy="701676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7"/>
          <p:cNvSpPr/>
          <p:nvPr/>
        </p:nvSpPr>
        <p:spPr>
          <a:xfrm>
            <a:off x="27000" y="2792520"/>
            <a:ext cx="568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руктур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4"/>
          <a:stretch/>
        </p:blipFill>
        <p:spPr>
          <a:xfrm>
            <a:off x="4645080" y="3402000"/>
            <a:ext cx="8759880" cy="1461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2"/>
          <p:cNvSpPr/>
          <p:nvPr/>
        </p:nvSpPr>
        <p:spPr>
          <a:xfrm>
            <a:off x="204840" y="-892080"/>
            <a:ext cx="227628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357120" y="-739800"/>
            <a:ext cx="2276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09760" y="-587520"/>
            <a:ext cx="227628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662040" y="-434880"/>
            <a:ext cx="227628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04840" y="-708120"/>
            <a:ext cx="193356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2" descr="https://encrypted-tbn1.gstatic.com/images?q=tbn:ANd9GcT__HEM9qZeW7VRAKtSvar_Hg5SvQuIXcQG1OMqrDv4DnCZi6wC"/>
          <p:cNvPicPr/>
          <p:nvPr/>
        </p:nvPicPr>
        <p:blipFill>
          <a:blip r:embed="rId5"/>
          <a:stretch/>
        </p:blipFill>
        <p:spPr>
          <a:xfrm>
            <a:off x="4098960" y="2274840"/>
            <a:ext cx="2879640" cy="324000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  <p:pic>
        <p:nvPicPr>
          <p:cNvPr id="318" name="Picture 14" descr="http://saithappyfamily.ru/wp-content/uploads/bez-internet.jpg"/>
          <p:cNvPicPr/>
          <p:nvPr/>
        </p:nvPicPr>
        <p:blipFill>
          <a:blip r:embed="rId6"/>
          <a:stretch/>
        </p:blipFill>
        <p:spPr>
          <a:xfrm>
            <a:off x="509760" y="7772400"/>
            <a:ext cx="2622240" cy="1727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19" name="Picture 3" descr=""/>
          <p:cNvPicPr/>
          <p:nvPr/>
        </p:nvPicPr>
        <p:blipFill>
          <a:blip r:embed="rId7"/>
          <a:stretch/>
        </p:blipFill>
        <p:spPr>
          <a:xfrm>
            <a:off x="266760" y="0"/>
            <a:ext cx="2519280" cy="20080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1"/>
          <p:cNvSpPr/>
          <p:nvPr/>
        </p:nvSpPr>
        <p:spPr>
          <a:xfrm>
            <a:off x="587880" y="388800"/>
            <a:ext cx="130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2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8:30:59Z</dcterms:created>
  <dc:creator>sad31</dc:creator>
  <dc:description/>
  <dc:language>en-US</dc:language>
  <cp:lastModifiedBy>admin</cp:lastModifiedBy>
  <cp:lastPrinted>2012-12-05T08:41:31Z</cp:lastPrinted>
  <dcterms:modified xsi:type="dcterms:W3CDTF">2013-01-14T09:49:28Z</dcterms:modified>
  <cp:revision>158</cp:revision>
  <dc:subject/>
  <dc:title>Конкурс – это жизнь,   но жизнь – это не только конкурс…</dc:title>
</cp:coreProperties>
</file>