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png" ContentType="image/png"/>
  <Override PartName="/ppt/media/image6.jpeg" ContentType="image/jpeg"/>
  <Override PartName="/ppt/media/image27.jpeg" ContentType="image/jpeg"/>
  <Override PartName="/ppt/media/image13.wmf" ContentType="image/x-wmf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32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3176250" cy="9828213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9E2-D5A1-4944-A0A0-45EC8FF7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433-1B39-4D19-8CA8-9EDF7A07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950-043B-4337-9252-53063D60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6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47584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57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66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47584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766-238A-407E-B155-A2AB1A94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9162-99E1-4755-8003-DF38E1A9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2D27-2C29-4893-A07D-D8C800B2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6F9D-25EC-4672-8F4E-66CBCD9F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F479-3AC2-4CC2-974C-435F51A5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F1F0-901E-43D2-BC42-167D298F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8440" y="483840"/>
            <a:ext cx="11858760" cy="83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76BE-5F6D-4A7B-A8D3-32358A20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F992-2EE1-4B35-B877-0469FF6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7F0-4ABE-46DF-86C1-0EE20AC5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A5FF-2A11-431A-BE78-3A2E6015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796C-88A4-4519-8681-9A04FA30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15C3-9B7C-4989-846B-D10FF099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76A9-7F37-48D6-889D-83463228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6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47584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866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47584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D12D-9C02-484D-A285-FDB30D4F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A1A8-1E89-4A22-85F7-9329C3D4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D6D9-B234-4CAC-B33A-C75E02E2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DBD2-882B-4C0E-B89E-BB116BAA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023E-29C8-4D6D-8F68-7E4C9695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0CB6-8A70-4AF2-AD5C-9233674D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8EE-4CD1-40C2-BE88-6268F0F3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58440" y="483840"/>
            <a:ext cx="11858760" cy="83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BA7E-97E0-4F34-93A5-56D6243C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7F81-CB32-49FD-B143-1E23805E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01351-E359-4AF8-BFD7-6A32EDD5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95B54-4134-4DCA-AF9C-14E24561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AF7D-0CEB-454A-95C2-777A6F0F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2D6E9-5B97-4FDB-A163-A8A2C4D5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6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47584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257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866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47584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73708-E554-4E10-BB0C-489B009E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8318-C1CF-44FD-A0A9-0D8275DF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4DFF-02FF-4E82-BE95-284B0838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DD45-0EA9-439D-BF9D-E77807BA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F01-FCEE-4B20-946C-42DC0425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F37B-D6C7-4CF2-9A20-4A5B37A4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C49D-D1E1-4878-A427-D00D4D39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58440" y="483840"/>
            <a:ext cx="11858760" cy="83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F7EF8-287F-4D01-A094-6B122ACB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D3B9-1727-43DA-9F64-0F6290D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D8DE0-2DFC-43CC-AE81-62219A90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A91A-E461-4CE6-9948-DF4ECBF7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ADCB5-D9D6-4267-AF47-9847ADDA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43FF-7959-469A-8853-1BA22F5D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6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47584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257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866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47584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D522-0D01-42BD-8F21-7C150AE2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C493BE-E465-4E4B-BC82-40B9D6FCF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5663-DEA8-4680-9B7A-06DC9871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BD972-8189-43AD-8325-958C1DD19AA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ACF3D0-733B-47FA-9376-55CFB9B073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4972A1-AC7C-48D8-B55C-379743DD4C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BFD67F-4053-4BE5-8715-883888A1007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58440" y="483840"/>
            <a:ext cx="11858760" cy="83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1EB00D-7F7E-4A4D-97FE-4B3F22A0CF8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623911-7B34-441E-9368-2775DEB865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253E84-E65A-4B93-9E45-D681EF3489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4505FD-A7B7-4A7B-8ECC-D97C364A15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D03415-F73F-4784-A143-F2D8739D89F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515986-8D89-4B26-BAEE-85E75534B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58440" y="483840"/>
            <a:ext cx="11858760" cy="83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6D0-07DD-4751-A0EC-5E07A8AB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6648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475840" y="383328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257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86648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475840" y="6416640"/>
            <a:ext cx="343692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88E50B-29D7-4110-B8AA-1A5A617B0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CD6-1D7C-4106-B81E-424AC651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27320" y="641664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DB8-97EB-4D56-B466-C3DA0A31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748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27320" y="3833280"/>
            <a:ext cx="520884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7480" y="6416640"/>
            <a:ext cx="10674000" cy="23587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862-D6D0-4F83-A3FE-601293AC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328680" y="326880"/>
            <a:ext cx="12531600" cy="35388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304920" y="2406600"/>
            <a:ext cx="12569760" cy="1906560"/>
            <a:chOff x="304920" y="2406600"/>
            <a:chExt cx="12569760" cy="1906560"/>
          </a:xfrm>
        </p:grpSpPr>
        <p:sp>
          <p:nvSpPr>
            <p:cNvPr id="2" name="Freeform 14"/>
            <p:cNvSpPr/>
            <p:nvPr/>
          </p:nvSpPr>
          <p:spPr>
            <a:xfrm>
              <a:off x="8713800" y="2614320"/>
              <a:ext cx="4144680" cy="1023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3774240" y="2430360"/>
              <a:ext cx="7989120" cy="1218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4075920" y="2448000"/>
              <a:ext cx="7878960" cy="11098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8082720" y="2428920"/>
              <a:ext cx="4766400" cy="934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304920" y="2406600"/>
              <a:ext cx="12569760" cy="1906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7440120" y="8956440"/>
            <a:ext cx="545652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8F144C1-117D-40C7-837B-55B014FAB815}" type="datetime">
              <a:rPr b="0" lang="en-US" sz="1400" spc="-1" strike="noStrike">
                <a:solidFill>
                  <a:srgbClr val="073e87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79360" y="8956440"/>
            <a:ext cx="545616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751360" y="8956440"/>
            <a:ext cx="167328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6863D4B-7C36-47BF-9736-D9056EE9CF1E}" type="slidenum">
              <a:rPr b="0" lang="en-US" sz="14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marL="393840" indent="-39384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1" marL="826920" indent="-3934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2" marL="122868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3" marL="164304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4" marL="2101680" indent="-32832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5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6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328680" y="326880"/>
            <a:ext cx="12531600" cy="35388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304920" y="2406600"/>
            <a:ext cx="12569760" cy="1906560"/>
            <a:chOff x="304920" y="2406600"/>
            <a:chExt cx="12569760" cy="1906560"/>
          </a:xfrm>
        </p:grpSpPr>
        <p:sp>
          <p:nvSpPr>
            <p:cNvPr id="50" name="Freeform 14"/>
            <p:cNvSpPr/>
            <p:nvPr/>
          </p:nvSpPr>
          <p:spPr>
            <a:xfrm>
              <a:off x="8713800" y="2614320"/>
              <a:ext cx="4144680" cy="1023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3774240" y="2430360"/>
              <a:ext cx="7989120" cy="1218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4075920" y="2448000"/>
              <a:ext cx="7878960" cy="11098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8082720" y="2428920"/>
              <a:ext cx="4766400" cy="934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04920" y="2406600"/>
              <a:ext cx="12569760" cy="1906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Rounded Rectangle 14"/>
          <p:cNvSpPr/>
          <p:nvPr/>
        </p:nvSpPr>
        <p:spPr>
          <a:xfrm>
            <a:off x="328680" y="326880"/>
            <a:ext cx="12531600" cy="2044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23"/>
          <p:cNvGrpSpPr/>
          <p:nvPr/>
        </p:nvGrpSpPr>
        <p:grpSpPr>
          <a:xfrm>
            <a:off x="304920" y="1023840"/>
            <a:ext cx="12569760" cy="1908360"/>
            <a:chOff x="304920" y="1023840"/>
            <a:chExt cx="12569760" cy="1908360"/>
          </a:xfrm>
        </p:grpSpPr>
        <p:sp>
          <p:nvSpPr>
            <p:cNvPr id="57" name="Freeform 14"/>
            <p:cNvSpPr/>
            <p:nvPr/>
          </p:nvSpPr>
          <p:spPr>
            <a:xfrm>
              <a:off x="8724600" y="1231920"/>
              <a:ext cx="4150080" cy="1024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3778560" y="1047600"/>
              <a:ext cx="7999560" cy="1220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080600" y="1065240"/>
              <a:ext cx="7889040" cy="111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8092800" y="1046160"/>
              <a:ext cx="4772520" cy="93492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8"/>
            <p:cNvSpPr/>
            <p:nvPr/>
          </p:nvSpPr>
          <p:spPr>
            <a:xfrm>
              <a:off x="304920" y="1023840"/>
              <a:ext cx="12569760" cy="19083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marL="393840" indent="-39384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1" marL="826920" indent="-3934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2" marL="122868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3" marL="164304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4" marL="2101680" indent="-32832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5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6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7440120" y="8956440"/>
            <a:ext cx="545652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436114E-FBCF-48EC-800C-4B3E10A0DB2D}" type="datetime">
              <a:rPr b="0" lang="en-US" sz="1400" spc="-1" strike="noStrike">
                <a:solidFill>
                  <a:srgbClr val="073e87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279360" y="8956440"/>
            <a:ext cx="545616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5751360" y="8956440"/>
            <a:ext cx="167328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9A52F7F-54D8-401D-AD71-E323B829C267}" type="slidenum">
              <a:rPr b="0" lang="en-US" sz="14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/>
          <p:cNvSpPr/>
          <p:nvPr/>
        </p:nvSpPr>
        <p:spPr>
          <a:xfrm>
            <a:off x="328680" y="326880"/>
            <a:ext cx="12531600" cy="35388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304920" y="2406600"/>
            <a:ext cx="12569760" cy="1906560"/>
            <a:chOff x="304920" y="2406600"/>
            <a:chExt cx="12569760" cy="1906560"/>
          </a:xfrm>
        </p:grpSpPr>
        <p:sp>
          <p:nvSpPr>
            <p:cNvPr id="105" name="Freeform 14"/>
            <p:cNvSpPr/>
            <p:nvPr/>
          </p:nvSpPr>
          <p:spPr>
            <a:xfrm>
              <a:off x="8713800" y="2614320"/>
              <a:ext cx="4144680" cy="1023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3774240" y="2430360"/>
              <a:ext cx="7989120" cy="1218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4075920" y="2448000"/>
              <a:ext cx="7878960" cy="11098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8082720" y="2428920"/>
              <a:ext cx="4766400" cy="934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304920" y="2406600"/>
              <a:ext cx="12569760" cy="1906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Rounded Rectangle 14"/>
          <p:cNvSpPr/>
          <p:nvPr/>
        </p:nvSpPr>
        <p:spPr>
          <a:xfrm>
            <a:off x="328680" y="326880"/>
            <a:ext cx="12531600" cy="864900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304920" y="7672320"/>
            <a:ext cx="12569760" cy="1908360"/>
            <a:chOff x="304920" y="7672320"/>
            <a:chExt cx="12569760" cy="1908360"/>
          </a:xfrm>
        </p:grpSpPr>
        <p:sp>
          <p:nvSpPr>
            <p:cNvPr id="112" name="Freeform 14"/>
            <p:cNvSpPr/>
            <p:nvPr/>
          </p:nvSpPr>
          <p:spPr>
            <a:xfrm>
              <a:off x="8724600" y="7880400"/>
              <a:ext cx="4150080" cy="1024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3778560" y="7696080"/>
              <a:ext cx="7999560" cy="1220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4080600" y="7713720"/>
              <a:ext cx="7889040" cy="111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8092800" y="7694640"/>
              <a:ext cx="4772520" cy="93492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0"/>
            <p:cNvSpPr/>
            <p:nvPr/>
          </p:nvSpPr>
          <p:spPr>
            <a:xfrm>
              <a:off x="304920" y="7672320"/>
              <a:ext cx="12569760" cy="19083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marL="393840" indent="-39384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1" marL="826920" indent="-3934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2" marL="122868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3" marL="164304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4" marL="2101680" indent="-32832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5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6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440120" y="8956440"/>
            <a:ext cx="545652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CCF2F55-03B6-4665-85E6-60C42293E7F8}" type="datetime">
              <a:rPr b="0" lang="en-US" sz="1400" spc="-1" strike="noStrike">
                <a:solidFill>
                  <a:srgbClr val="073e87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279360" y="8956440"/>
            <a:ext cx="545616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5751360" y="8956440"/>
            <a:ext cx="167328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F65E9B0-7782-46C1-9AFE-095C65FF5888}" type="slidenum">
              <a:rPr b="0" lang="en-US" sz="14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ounded Rectangle 13"/>
          <p:cNvSpPr/>
          <p:nvPr/>
        </p:nvSpPr>
        <p:spPr>
          <a:xfrm>
            <a:off x="328680" y="326880"/>
            <a:ext cx="12531600" cy="35388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15"/>
          <p:cNvGrpSpPr/>
          <p:nvPr/>
        </p:nvGrpSpPr>
        <p:grpSpPr>
          <a:xfrm>
            <a:off x="304920" y="2406600"/>
            <a:ext cx="12569760" cy="1906560"/>
            <a:chOff x="304920" y="2406600"/>
            <a:chExt cx="12569760" cy="1906560"/>
          </a:xfrm>
        </p:grpSpPr>
        <p:sp>
          <p:nvSpPr>
            <p:cNvPr id="160" name="Freeform 14"/>
            <p:cNvSpPr/>
            <p:nvPr/>
          </p:nvSpPr>
          <p:spPr>
            <a:xfrm>
              <a:off x="8713800" y="2614320"/>
              <a:ext cx="4144680" cy="1023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8"/>
            <p:cNvSpPr/>
            <p:nvPr/>
          </p:nvSpPr>
          <p:spPr>
            <a:xfrm>
              <a:off x="3774240" y="2430360"/>
              <a:ext cx="7989120" cy="1218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2"/>
            <p:cNvSpPr/>
            <p:nvPr/>
          </p:nvSpPr>
          <p:spPr>
            <a:xfrm>
              <a:off x="4075920" y="2448000"/>
              <a:ext cx="7878960" cy="11098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6"/>
            <p:cNvSpPr/>
            <p:nvPr/>
          </p:nvSpPr>
          <p:spPr>
            <a:xfrm>
              <a:off x="8082720" y="2428920"/>
              <a:ext cx="4766400" cy="934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304920" y="2406600"/>
              <a:ext cx="12569760" cy="1906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ounded Rectangle 20"/>
          <p:cNvSpPr/>
          <p:nvPr/>
        </p:nvSpPr>
        <p:spPr>
          <a:xfrm>
            <a:off x="328680" y="326880"/>
            <a:ext cx="12531600" cy="204480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14"/>
          <p:cNvGrpSpPr/>
          <p:nvPr/>
        </p:nvGrpSpPr>
        <p:grpSpPr>
          <a:xfrm>
            <a:off x="304920" y="1023840"/>
            <a:ext cx="12569760" cy="1908360"/>
            <a:chOff x="304920" y="1023840"/>
            <a:chExt cx="12569760" cy="1908360"/>
          </a:xfrm>
        </p:grpSpPr>
        <p:sp>
          <p:nvSpPr>
            <p:cNvPr id="167" name="Freeform 14"/>
            <p:cNvSpPr/>
            <p:nvPr/>
          </p:nvSpPr>
          <p:spPr>
            <a:xfrm>
              <a:off x="8724600" y="1231920"/>
              <a:ext cx="4150080" cy="102456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3778560" y="1047600"/>
              <a:ext cx="7999560" cy="1220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22"/>
            <p:cNvSpPr/>
            <p:nvPr/>
          </p:nvSpPr>
          <p:spPr>
            <a:xfrm>
              <a:off x="4080600" y="1065240"/>
              <a:ext cx="7889040" cy="11109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8092800" y="1046160"/>
              <a:ext cx="4772520" cy="93492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04920" y="1023840"/>
              <a:ext cx="12569760" cy="19083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marL="393840" indent="-39384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1" marL="826920" indent="-3934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2" marL="122868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3" marL="164304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4" marL="2101680" indent="-32832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5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6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7440120" y="8956440"/>
            <a:ext cx="545652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DFDCAED-C462-411D-9C78-3E81FCEEFD47}" type="datetime">
              <a:rPr b="0" lang="en-US" sz="1400" spc="-1" strike="noStrike">
                <a:solidFill>
                  <a:srgbClr val="073e87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279360" y="8956440"/>
            <a:ext cx="545616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5751360" y="8956440"/>
            <a:ext cx="167328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14C416A-61F2-4958-A617-9DB4FF723FEF}" type="slidenum">
              <a:rPr b="0" lang="en-US" sz="14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ounded Rectangle 13"/>
          <p:cNvSpPr/>
          <p:nvPr/>
        </p:nvSpPr>
        <p:spPr>
          <a:xfrm>
            <a:off x="328680" y="326880"/>
            <a:ext cx="12531600" cy="35388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15"/>
          <p:cNvGrpSpPr/>
          <p:nvPr/>
        </p:nvGrpSpPr>
        <p:grpSpPr>
          <a:xfrm>
            <a:off x="304920" y="2406600"/>
            <a:ext cx="12569760" cy="1906560"/>
            <a:chOff x="304920" y="2406600"/>
            <a:chExt cx="12569760" cy="1906560"/>
          </a:xfrm>
        </p:grpSpPr>
        <p:sp>
          <p:nvSpPr>
            <p:cNvPr id="215" name="Freeform 14"/>
            <p:cNvSpPr/>
            <p:nvPr/>
          </p:nvSpPr>
          <p:spPr>
            <a:xfrm>
              <a:off x="8713800" y="2614320"/>
              <a:ext cx="4144680" cy="1023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8"/>
            <p:cNvSpPr/>
            <p:nvPr/>
          </p:nvSpPr>
          <p:spPr>
            <a:xfrm>
              <a:off x="3774240" y="2430360"/>
              <a:ext cx="7989120" cy="12189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4075920" y="2448000"/>
              <a:ext cx="7878960" cy="11098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8082720" y="2428920"/>
              <a:ext cx="4766400" cy="9342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0"/>
            <p:cNvSpPr/>
            <p:nvPr/>
          </p:nvSpPr>
          <p:spPr>
            <a:xfrm>
              <a:off x="304920" y="2406600"/>
              <a:ext cx="12569760" cy="1906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8440" y="483840"/>
            <a:ext cx="118587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6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57480" y="3833280"/>
            <a:ext cx="10674000" cy="494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t">
            <a:normAutofit/>
          </a:bodyPr>
          <a:p>
            <a:pPr marL="393840" indent="-39384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1" marL="826920" indent="-3934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2" marL="122868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3" marL="1643040" indent="-32868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4" marL="2101680" indent="-328320">
              <a:spcBef>
                <a:spcPts val="876"/>
              </a:spcBef>
              <a:buClr>
                <a:srgbClr val="31b6fd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5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  <a:p>
            <a:pPr lvl="6" marL="2101680" indent="-328320">
              <a:spcBef>
                <a:spcPts val="876"/>
              </a:spcBef>
              <a:buClr>
                <a:srgbClr val="000000"/>
              </a:buClr>
              <a:buFont typeface="Symbol" charset="2"/>
              <a:buChar char=""/>
              <a:tabLst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0" lang="en-US" sz="35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3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3"/>
          </p:nvPr>
        </p:nvSpPr>
        <p:spPr>
          <a:xfrm>
            <a:off x="5751360" y="8956440"/>
            <a:ext cx="1673280" cy="523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4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54CA8C9-3AE0-41FE-A16D-925E26A66BE6}" type="slidenum">
              <a:rPr b="0" lang="en-US" sz="14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http://ladypraid.ru/uploads/images/00/00/09/2012/09/21/612d0a.jpg"/>
          <p:cNvPicPr/>
          <p:nvPr/>
        </p:nvPicPr>
        <p:blipFill>
          <a:blip r:embed="rId2"/>
          <a:stretch/>
        </p:blipFill>
        <p:spPr>
          <a:xfrm>
            <a:off x="1692360" y="6066000"/>
            <a:ext cx="9685080" cy="3533760"/>
          </a:xfrm>
          <a:prstGeom prst="rect">
            <a:avLst/>
          </a:prstGeom>
          <a:ln w="76320">
            <a:solidFill>
              <a:srgbClr val="2d83f4"/>
            </a:solidFill>
            <a:miter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522000"/>
            <a:ext cx="9577080" cy="136836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Тема    проекта: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Подзаголовок 2"/>
          <p:cNvSpPr/>
          <p:nvPr/>
        </p:nvSpPr>
        <p:spPr>
          <a:xfrm>
            <a:off x="-150840" y="2538360"/>
            <a:ext cx="1332720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6000" spc="-1" strike="noStrike">
                <a:solidFill>
                  <a:srgbClr val="073e87"/>
                </a:solidFill>
                <a:latin typeface="Monotype Corsiva"/>
                <a:ea typeface="Times New Roman"/>
              </a:rPr>
              <a:t>«Развитие   познавательных  процессов   у    детей   старшего  дошкольного    возраста   через   внедрение  ИКТ   технологии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1" descr=""/>
          <p:cNvPicPr/>
          <p:nvPr/>
        </p:nvPicPr>
        <p:blipFill>
          <a:blip r:embed="rId3"/>
          <a:stretch/>
        </p:blipFill>
        <p:spPr>
          <a:xfrm>
            <a:off x="9828360" y="306360"/>
            <a:ext cx="309708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Схема 2" descr=""/>
          <p:cNvPicPr/>
          <p:nvPr/>
        </p:nvPicPr>
        <p:blipFill>
          <a:blip r:embed="rId2"/>
          <a:stretch/>
        </p:blipFill>
        <p:spPr>
          <a:xfrm>
            <a:off x="433440" y="2828880"/>
            <a:ext cx="12130200" cy="723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tretch/>
        </p:blipFill>
        <p:spPr>
          <a:xfrm>
            <a:off x="4443480" y="3182760"/>
            <a:ext cx="4149720" cy="31719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41600" y="88560"/>
            <a:ext cx="10274400" cy="229716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4600"/>
                <a:tab algn="l" pos="2690640"/>
                <a:tab algn="l" pos="31399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5600"/>
                <a:tab algn="l" pos="62848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0560"/>
                <a:tab algn="l" pos="9408960"/>
                <a:tab algn="l" pos="10132920"/>
                <a:tab algn="l" pos="105156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Monotype Corsiva"/>
              </a:rPr>
              <a:t>Работа  с   родителями</a:t>
            </a:r>
            <a:endParaRPr b="0" lang="en-US" sz="8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Стрелка вправо с вырезом 10"/>
          <p:cNvSpPr/>
          <p:nvPr/>
        </p:nvSpPr>
        <p:spPr>
          <a:xfrm rot="1261200">
            <a:off x="8865720" y="5541480"/>
            <a:ext cx="1568520" cy="201600"/>
          </a:xfrm>
          <a:custGeom>
            <a:avLst/>
            <a:gdLst>
              <a:gd name="textAreaLeft" fmla="*/ 50400 w 1568520"/>
              <a:gd name="textAreaRight" fmla="*/ 1518120 w 1568520"/>
              <a:gd name="textAreaTop" fmla="*/ 50400 h 201600"/>
              <a:gd name="textAreaBottom" fmla="*/ 1512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12" y="5400"/>
                </a:lnTo>
                <a:lnTo>
                  <a:pt x="20212" y="0"/>
                </a:lnTo>
                <a:lnTo>
                  <a:pt x="21600" y="10800"/>
                </a:lnTo>
                <a:lnTo>
                  <a:pt x="20212" y="21600"/>
                </a:lnTo>
                <a:lnTo>
                  <a:pt x="20212" y="16200"/>
                </a:lnTo>
                <a:lnTo>
                  <a:pt x="0" y="16200"/>
                </a:lnTo>
                <a:lnTo>
                  <a:pt x="69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трелка вправо с вырезом 11"/>
          <p:cNvSpPr/>
          <p:nvPr/>
        </p:nvSpPr>
        <p:spPr>
          <a:xfrm rot="20630400">
            <a:off x="8881560" y="4805280"/>
            <a:ext cx="1700280" cy="230400"/>
          </a:xfrm>
          <a:custGeom>
            <a:avLst/>
            <a:gdLst>
              <a:gd name="textAreaLeft" fmla="*/ 57240 w 1700280"/>
              <a:gd name="textAreaRight" fmla="*/ 1643040 w 1700280"/>
              <a:gd name="textAreaTop" fmla="*/ 57600 h 230400"/>
              <a:gd name="textAreaBottom" fmla="*/ 172800 h 230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138" y="5400"/>
                </a:lnTo>
                <a:lnTo>
                  <a:pt x="20138" y="0"/>
                </a:lnTo>
                <a:lnTo>
                  <a:pt x="21600" y="10800"/>
                </a:lnTo>
                <a:lnTo>
                  <a:pt x="20138" y="21600"/>
                </a:lnTo>
                <a:lnTo>
                  <a:pt x="20138" y="16200"/>
                </a:lnTo>
                <a:lnTo>
                  <a:pt x="0" y="16200"/>
                </a:lnTo>
                <a:lnTo>
                  <a:pt x="73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трелка вправо с вырезом 13"/>
          <p:cNvSpPr/>
          <p:nvPr/>
        </p:nvSpPr>
        <p:spPr>
          <a:xfrm rot="11746200">
            <a:off x="2346120" y="4762080"/>
            <a:ext cx="1871640" cy="216000"/>
          </a:xfrm>
          <a:custGeom>
            <a:avLst/>
            <a:gdLst>
              <a:gd name="textAreaLeft" fmla="*/ 53640 w 1871640"/>
              <a:gd name="textAreaRight" fmla="*/ 1818000 w 1871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354" y="5400"/>
                </a:lnTo>
                <a:lnTo>
                  <a:pt x="20354" y="0"/>
                </a:lnTo>
                <a:lnTo>
                  <a:pt x="21600" y="10800"/>
                </a:lnTo>
                <a:lnTo>
                  <a:pt x="20354" y="21600"/>
                </a:lnTo>
                <a:lnTo>
                  <a:pt x="20354" y="16200"/>
                </a:lnTo>
                <a:lnTo>
                  <a:pt x="0" y="16200"/>
                </a:lnTo>
                <a:lnTo>
                  <a:pt x="62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Стрелка вправо с вырезом 14"/>
          <p:cNvSpPr/>
          <p:nvPr/>
        </p:nvSpPr>
        <p:spPr>
          <a:xfrm rot="10027200">
            <a:off x="2339280" y="5595840"/>
            <a:ext cx="1871640" cy="216000"/>
          </a:xfrm>
          <a:custGeom>
            <a:avLst/>
            <a:gdLst>
              <a:gd name="textAreaLeft" fmla="*/ 53640 w 1871640"/>
              <a:gd name="textAreaRight" fmla="*/ 1818000 w 1871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354" y="5400"/>
                </a:lnTo>
                <a:lnTo>
                  <a:pt x="20354" y="0"/>
                </a:lnTo>
                <a:lnTo>
                  <a:pt x="21600" y="10800"/>
                </a:lnTo>
                <a:lnTo>
                  <a:pt x="20354" y="21600"/>
                </a:lnTo>
                <a:lnTo>
                  <a:pt x="20354" y="16200"/>
                </a:lnTo>
                <a:lnTo>
                  <a:pt x="0" y="16200"/>
                </a:lnTo>
                <a:lnTo>
                  <a:pt x="62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Стрелка вправо с вырезом 15"/>
          <p:cNvSpPr/>
          <p:nvPr/>
        </p:nvSpPr>
        <p:spPr>
          <a:xfrm flipV="1" rot="1881600">
            <a:off x="7157880" y="6781680"/>
            <a:ext cx="1060560" cy="239760"/>
          </a:xfrm>
          <a:custGeom>
            <a:avLst/>
            <a:gdLst>
              <a:gd name="textAreaLeft" fmla="*/ 59760 w 1060560"/>
              <a:gd name="textAreaRight" fmla="*/ 1000800 w 1060560"/>
              <a:gd name="textAreaTop" fmla="*/ 59760 h 239760"/>
              <a:gd name="textAreaBottom" fmla="*/ 180000 h 239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59" y="5400"/>
                </a:lnTo>
                <a:lnTo>
                  <a:pt x="19159" y="0"/>
                </a:lnTo>
                <a:lnTo>
                  <a:pt x="21600" y="10800"/>
                </a:lnTo>
                <a:lnTo>
                  <a:pt x="19159" y="21600"/>
                </a:lnTo>
                <a:lnTo>
                  <a:pt x="19159" y="16200"/>
                </a:lnTo>
                <a:lnTo>
                  <a:pt x="0" y="16200"/>
                </a:lnTo>
                <a:lnTo>
                  <a:pt x="122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Стрелка вправо с вырезом 16"/>
          <p:cNvSpPr/>
          <p:nvPr/>
        </p:nvSpPr>
        <p:spPr>
          <a:xfrm rot="8145600">
            <a:off x="5013000" y="6772320"/>
            <a:ext cx="922320" cy="217440"/>
          </a:xfrm>
          <a:custGeom>
            <a:avLst/>
            <a:gdLst>
              <a:gd name="textAreaLeft" fmla="*/ 54360 w 922320"/>
              <a:gd name="textAreaRight" fmla="*/ 867960 w 922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053" y="5400"/>
                </a:lnTo>
                <a:lnTo>
                  <a:pt x="19053" y="0"/>
                </a:lnTo>
                <a:lnTo>
                  <a:pt x="21600" y="10800"/>
                </a:lnTo>
                <a:lnTo>
                  <a:pt x="19053" y="21600"/>
                </a:lnTo>
                <a:lnTo>
                  <a:pt x="19053" y="16200"/>
                </a:lnTo>
                <a:lnTo>
                  <a:pt x="0" y="16200"/>
                </a:lnTo>
                <a:lnTo>
                  <a:pt x="12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4"/>
          <a:stretch/>
        </p:blipFill>
        <p:spPr>
          <a:xfrm>
            <a:off x="285840" y="378000"/>
            <a:ext cx="2520720" cy="200808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1"/>
          <p:cNvSpPr/>
          <p:nvPr/>
        </p:nvSpPr>
        <p:spPr>
          <a:xfrm>
            <a:off x="498600" y="831960"/>
            <a:ext cx="14637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2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>
            <a:off x="466560" y="2774880"/>
            <a:ext cx="6342120" cy="6429600"/>
          </a:xfrm>
          <a:prstGeom prst="rect">
            <a:avLst/>
          </a:prstGeom>
          <a:ln w="76320">
            <a:solidFill>
              <a:srgbClr val="0b87d6"/>
            </a:solidFill>
            <a:round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195120"/>
            <a:ext cx="11858760" cy="147816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marL="458640" indent="0" algn="r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4600"/>
                <a:tab algn="l" pos="2690640"/>
                <a:tab algn="l" pos="31399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5600"/>
                <a:tab algn="l" pos="62848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0560"/>
                <a:tab algn="l" pos="9190080"/>
                <a:tab algn="l" pos="105030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Monotype Corsiva"/>
              </a:rPr>
              <a:t>                       </a:t>
            </a: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Результаты: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204840" y="-679320"/>
            <a:ext cx="2286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10" descr="https://encrypted-tbn1.gstatic.com/images?q=tbn:ANd9GcSoflIrGhY6tUsXP6rHeaE4FZUDvv8Ayb6XSzaZQcr-tQzXHB0X"/>
          <p:cNvPicPr/>
          <p:nvPr/>
        </p:nvPicPr>
        <p:blipFill>
          <a:blip r:embed="rId3"/>
          <a:stretch/>
        </p:blipFill>
        <p:spPr>
          <a:xfrm>
            <a:off x="2048040" y="6913440"/>
            <a:ext cx="2841480" cy="2170080"/>
          </a:xfrm>
          <a:prstGeom prst="rect">
            <a:avLst/>
          </a:prstGeom>
          <a:ln w="0">
            <a:noFill/>
          </a:ln>
        </p:spPr>
      </p:pic>
      <p:sp>
        <p:nvSpPr>
          <p:cNvPr id="336" name="Стрелка влево 7"/>
          <p:cNvSpPr/>
          <p:nvPr/>
        </p:nvSpPr>
        <p:spPr>
          <a:xfrm>
            <a:off x="7020000" y="4241880"/>
            <a:ext cx="693720" cy="7556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2d83f4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6" descr="G:\2012-12-03\004.JPG"/>
          <p:cNvPicPr/>
          <p:nvPr/>
        </p:nvPicPr>
        <p:blipFill>
          <a:blip r:embed="rId4"/>
          <a:stretch/>
        </p:blipFill>
        <p:spPr>
          <a:xfrm>
            <a:off x="8172360" y="5273640"/>
            <a:ext cx="4444920" cy="3960720"/>
          </a:xfrm>
          <a:prstGeom prst="rect">
            <a:avLst/>
          </a:prstGeom>
          <a:ln w="57240">
            <a:solidFill>
              <a:srgbClr val="0293e0"/>
            </a:solidFill>
            <a:miter/>
          </a:ln>
        </p:spPr>
      </p:pic>
      <p:sp>
        <p:nvSpPr>
          <p:cNvPr id="338" name="Блок-схема: несколько документов 3"/>
          <p:cNvSpPr/>
          <p:nvPr/>
        </p:nvSpPr>
        <p:spPr>
          <a:xfrm>
            <a:off x="7921800" y="3828960"/>
            <a:ext cx="4914720" cy="2212920"/>
          </a:xfrm>
          <a:prstGeom prst="flowChartMultidocumen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Парциальная програм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5"/>
          <a:stretch/>
        </p:blipFill>
        <p:spPr>
          <a:xfrm>
            <a:off x="590400" y="233280"/>
            <a:ext cx="2519640" cy="200988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2"/>
          <p:cNvSpPr/>
          <p:nvPr/>
        </p:nvSpPr>
        <p:spPr>
          <a:xfrm>
            <a:off x="716760" y="569880"/>
            <a:ext cx="14637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3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640" y="483840"/>
            <a:ext cx="1130436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Monotype Corsiva"/>
              </a:rPr>
              <a:t>Основная  идея  проекта:</a:t>
            </a:r>
            <a:endParaRPr b="0" lang="en-US" sz="8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4" name="Picture 1" descr=""/>
          <p:cNvPicPr/>
          <p:nvPr/>
        </p:nvPicPr>
        <p:blipFill>
          <a:blip r:embed="rId2"/>
          <a:stretch/>
        </p:blipFill>
        <p:spPr>
          <a:xfrm>
            <a:off x="11125080" y="484200"/>
            <a:ext cx="1800360" cy="151452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8"/>
          <p:cNvSpPr/>
          <p:nvPr/>
        </p:nvSpPr>
        <p:spPr>
          <a:xfrm>
            <a:off x="0" y="2394000"/>
            <a:ext cx="1317636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6000" spc="-1" strike="noStrike">
                <a:solidFill>
                  <a:srgbClr val="073e87"/>
                </a:solidFill>
                <a:latin typeface="Monotype Corsiva"/>
                <a:ea typeface="Times New Roman"/>
              </a:rPr>
              <a:t>Гармоничное  соединение  компьютерных  технологий  с  традиционными средствами развития  дошкольни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466560" y="5705640"/>
            <a:ext cx="124938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Проблемный  вопрос  проекта: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10"/>
          <p:cNvSpPr/>
          <p:nvPr/>
        </p:nvSpPr>
        <p:spPr>
          <a:xfrm>
            <a:off x="4178160" y="6964200"/>
            <a:ext cx="8785440" cy="26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6000" spc="-1" strike="noStrike">
                <a:solidFill>
                  <a:srgbClr val="073e87"/>
                </a:solidFill>
                <a:latin typeface="Monotype Corsiva"/>
                <a:ea typeface="Times New Roman"/>
              </a:rPr>
              <a:t>Как   преподать   информацию   детя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2" descr="https://encrypted-tbn3.gstatic.com/images?q=tbn:ANd9GcRbDB5ugZQGUYoylpRqg0iLpPoeMkXlIIJs4GAsh_H9QFa3SCRY"/>
          <p:cNvPicPr/>
          <p:nvPr/>
        </p:nvPicPr>
        <p:blipFill>
          <a:blip r:embed="rId3"/>
          <a:stretch/>
        </p:blipFill>
        <p:spPr>
          <a:xfrm>
            <a:off x="1332000" y="6858000"/>
            <a:ext cx="3240000" cy="2587680"/>
          </a:xfrm>
          <a:prstGeom prst="rect">
            <a:avLst/>
          </a:prstGeom>
          <a:ln w="76320">
            <a:solidFill>
              <a:srgbClr val="2d83f4"/>
            </a:solidFill>
            <a:miter/>
          </a:ln>
        </p:spPr>
      </p:pic>
    </p:spTree>
  </p:cSld>
  <p:transition spd="slow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2916360" y="880920"/>
            <a:ext cx="9217080" cy="79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Заголовок 1"/>
          <p:cNvSpPr/>
          <p:nvPr/>
        </p:nvSpPr>
        <p:spPr>
          <a:xfrm>
            <a:off x="0" y="142920"/>
            <a:ext cx="12996720" cy="87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Цель    проекта: 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5400" spc="-1" strike="noStrike">
                <a:solidFill>
                  <a:srgbClr val="052e65"/>
                </a:solidFill>
                <a:latin typeface="Monotype Corsiva"/>
              </a:rPr>
              <a:t>Совершенствование  познавательных  процессов  у  детей   старшего   дошкольного   возраста  путём   внедрения  ИКТ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5400" spc="-1" strike="noStrike">
                <a:solidFill>
                  <a:srgbClr val="052e65"/>
                </a:solidFill>
                <a:latin typeface="Monotype Corsiva"/>
              </a:rPr>
              <a:t>в  образовательный    процесс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2"/>
          <a:stretch/>
        </p:blipFill>
        <p:spPr>
          <a:xfrm>
            <a:off x="9901080" y="88920"/>
            <a:ext cx="2951280" cy="194472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9252000" cy="140508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Задачи  проекта: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3" name="Схема 15" descr=""/>
          <p:cNvPicPr/>
          <p:nvPr/>
        </p:nvPicPr>
        <p:blipFill>
          <a:blip r:embed="rId2"/>
          <a:stretch/>
        </p:blipFill>
        <p:spPr>
          <a:xfrm>
            <a:off x="324000" y="3255840"/>
            <a:ext cx="12458520" cy="6845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http://paidagogos.com/wp-content/uploads/2012/07/1329302004_three-children-with-computer_not_just_a_phase.jpg"/>
          <p:cNvPicPr/>
          <p:nvPr/>
        </p:nvPicPr>
        <p:blipFill>
          <a:blip r:embed="rId3"/>
          <a:stretch/>
        </p:blipFill>
        <p:spPr>
          <a:xfrm>
            <a:off x="8483760" y="487440"/>
            <a:ext cx="4217760" cy="2627280"/>
          </a:xfrm>
          <a:prstGeom prst="rect">
            <a:avLst/>
          </a:prstGeom>
          <a:ln w="76320">
            <a:solidFill>
              <a:srgbClr val="2d83f4"/>
            </a:solidFill>
            <a:miter/>
          </a:ln>
        </p:spPr>
      </p:pic>
      <p:sp>
        <p:nvSpPr>
          <p:cNvPr id="275" name="Стрелка вниз 16"/>
          <p:cNvSpPr/>
          <p:nvPr/>
        </p:nvSpPr>
        <p:spPr>
          <a:xfrm>
            <a:off x="9488520" y="4992840"/>
            <a:ext cx="1395360" cy="122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Скругленный прямоугольник 17"/>
          <p:cNvGrpSpPr/>
          <p:nvPr/>
        </p:nvGrpSpPr>
        <p:grpSpPr>
          <a:xfrm>
            <a:off x="4114800" y="8174160"/>
            <a:ext cx="8742240" cy="1403280"/>
            <a:chOff x="4114800" y="8174160"/>
            <a:chExt cx="8742240" cy="1403280"/>
          </a:xfrm>
        </p:grpSpPr>
        <p:pic>
          <p:nvPicPr>
            <p:cNvPr id="277" name="Скругленный прямоугольник 17" descr=""/>
            <p:cNvPicPr/>
            <p:nvPr/>
          </p:nvPicPr>
          <p:blipFill>
            <a:blip r:embed="rId4"/>
            <a:stretch/>
          </p:blipFill>
          <p:spPr>
            <a:xfrm>
              <a:off x="4114800" y="8174160"/>
              <a:ext cx="87422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4229280" y="8290080"/>
              <a:ext cx="85071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Формирование начальных навыков работы за компьютеро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https://encrypted-tbn3.gstatic.com/images?q=tbn:ANd9GcT5HMziYpk1w7dLSBJqYGSMas5v-Qww6Y9Ddz-RZ5KHQRlSqiU"/>
          <p:cNvPicPr/>
          <p:nvPr/>
        </p:nvPicPr>
        <p:blipFill>
          <a:blip r:embed="rId2"/>
          <a:stretch/>
        </p:blipFill>
        <p:spPr>
          <a:xfrm>
            <a:off x="7253280" y="4554360"/>
            <a:ext cx="5329080" cy="4535640"/>
          </a:xfrm>
          <a:prstGeom prst="rect">
            <a:avLst/>
          </a:prstGeom>
          <a:ln w="76320">
            <a:solidFill>
              <a:srgbClr val="2d83f4"/>
            </a:solidFill>
            <a:miter/>
          </a:ln>
        </p:spPr>
      </p:pic>
      <p:sp>
        <p:nvSpPr>
          <p:cNvPr id="280" name=""/>
          <p:cNvSpPr txBox="1"/>
          <p:nvPr/>
        </p:nvSpPr>
        <p:spPr>
          <a:xfrm>
            <a:off x="539280" y="3186000"/>
            <a:ext cx="6264360" cy="5904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2d83f4"/>
            </a:solidFill>
            <a:miter/>
          </a:ln>
        </p:spPr>
        <p:txBody>
          <a:bodyPr lIns="131400" rIns="131400" tIns="65880" bIns="65880" anchor="t">
            <a:normAutofit fontScale="82000"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Учебно-воспитательный процесс В ДОУ может быть более успешным и  эффективным, если   в качестве дидактического средства на НОД или в совместной  деятельности использовать  ИКТ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4920" y="1386000"/>
            <a:ext cx="12457080" cy="129528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Гипотеза     проекта:</a:t>
            </a:r>
            <a:br>
              <a:rPr sz="9600"/>
            </a:b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Выгнутая вверх стрелка 3"/>
          <p:cNvSpPr/>
          <p:nvPr/>
        </p:nvSpPr>
        <p:spPr>
          <a:xfrm rot="762600">
            <a:off x="3725640" y="2454120"/>
            <a:ext cx="7056360" cy="1440000"/>
          </a:xfrm>
          <a:custGeom>
            <a:avLst/>
            <a:gdLst>
              <a:gd name="textAreaLeft" fmla="*/ 1458720 w 7056360"/>
              <a:gd name="textAreaRight" fmla="*/ 4736520 w 705636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32" hR="21600" stAng="10800000" swAng="5400000"/>
                <a:lnTo>
                  <a:pt x="10033" y="0"/>
                </a:lnTo>
                <a:arcTo wR="8932" hR="21600" stAng="-5400000" swAng="3481173"/>
                <a:lnTo>
                  <a:pt x="21316" y="16200"/>
                </a:lnTo>
                <a:lnTo>
                  <a:pt x="18415" y="21600"/>
                </a:lnTo>
                <a:lnTo>
                  <a:pt x="14945" y="16200"/>
                </a:lnTo>
                <a:lnTo>
                  <a:pt x="17580" y="16200"/>
                </a:lnTo>
                <a:arcTo wR="8932" hR="21600" stAng="-1918827" swAng="-3393410"/>
                <a:lnTo>
                  <a:pt x="9483" y="41"/>
                </a:lnTo>
                <a:arcTo wR="8932" hR="21600" stAng="-5487763" swAng="-5312237"/>
                <a:close/>
              </a:path>
              <a:path fill="darkenLess" w="21600" h="21600">
                <a:moveTo>
                  <a:pt x="0" y="21600"/>
                </a:moveTo>
                <a:arcTo wR="8932" hR="21600" stAng="10800000" swAng="5400000"/>
                <a:lnTo>
                  <a:pt x="8932" y="0"/>
                </a:lnTo>
                <a:arcTo wR="8932" hR="21600" stAng="-5400000" swAng="87763"/>
                <a:lnTo>
                  <a:pt x="9483" y="41"/>
                </a:lnTo>
                <a:arcTo wR="8932" hR="21600" stAng="-5487763" swAng="-5312237"/>
                <a:close/>
              </a:path>
            </a:pathLst>
          </a:cu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8" descr="https://encrypted-tbn2.gstatic.com/images?q=tbn:ANd9GcS8fNZ4pm-fb0zi_7cWtIBywTFBi9pxF0MnTwlOows0hb8WP1Yh"/>
          <p:cNvPicPr/>
          <p:nvPr/>
        </p:nvPicPr>
        <p:blipFill>
          <a:blip r:embed="rId2"/>
          <a:stretch/>
        </p:blipFill>
        <p:spPr>
          <a:xfrm>
            <a:off x="10188720" y="1386000"/>
            <a:ext cx="2393640" cy="3240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664920"/>
            <a:ext cx="11858400" cy="179532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 algn="ctr">
              <a:lnSpc>
                <a:spcPts val="10562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Monotype Corsiva"/>
              </a:rPr>
              <a:t>Планируемый   результат проекта:  </a:t>
            </a:r>
            <a:endParaRPr b="0" lang="en-US" sz="8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5" name="Объект 5" descr=""/>
          <p:cNvPicPr/>
          <p:nvPr/>
        </p:nvPicPr>
        <p:blipFill>
          <a:blip r:embed="rId3"/>
          <a:stretch/>
        </p:blipFill>
        <p:spPr>
          <a:xfrm>
            <a:off x="139680" y="3438360"/>
            <a:ext cx="11918880" cy="65408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"/>
          <p:cNvSpPr/>
          <p:nvPr/>
        </p:nvSpPr>
        <p:spPr>
          <a:xfrm>
            <a:off x="814320" y="-4618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ямоугольник 7"/>
          <p:cNvSpPr/>
          <p:nvPr/>
        </p:nvSpPr>
        <p:spPr>
          <a:xfrm>
            <a:off x="1231200" y="7794720"/>
            <a:ext cx="414000" cy="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6436b"/>
                </a:solidFill>
                <a:latin typeface="Monotype Corsiv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11"/>
          <p:cNvSpPr/>
          <p:nvPr/>
        </p:nvSpPr>
        <p:spPr>
          <a:xfrm>
            <a:off x="2891880" y="6570720"/>
            <a:ext cx="414000" cy="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6436b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оугольник 12"/>
          <p:cNvSpPr/>
          <p:nvPr/>
        </p:nvSpPr>
        <p:spPr>
          <a:xfrm>
            <a:off x="9588960" y="4842000"/>
            <a:ext cx="414000" cy="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3200" spc="-1" strike="noStrike">
                <a:solidFill>
                  <a:srgbClr val="06436b"/>
                </a:solidFill>
                <a:latin typeface="Monotype Corsiv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449280"/>
            <a:ext cx="10904400" cy="1720800"/>
          </a:xfrm>
          <a:prstGeom prst="rect">
            <a:avLst/>
          </a:prstGeom>
          <a:noFill/>
          <a:ln w="0">
            <a:noFill/>
          </a:ln>
        </p:spPr>
        <p:txBody>
          <a:bodyPr lIns="131400" rIns="131400" tIns="65880" bIns="65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314360"/>
                <a:tab algn="l" pos="2629080"/>
                <a:tab algn="l" pos="3943440"/>
                <a:tab algn="l" pos="5257800"/>
                <a:tab algn="l" pos="6572160"/>
                <a:tab algn="l" pos="7886880"/>
                <a:tab algn="l" pos="9201240"/>
                <a:tab algn="l" pos="105156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Реализация   данного  проекта     возможна   при: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91" name="Схема 7" descr=""/>
          <p:cNvPicPr/>
          <p:nvPr/>
        </p:nvPicPr>
        <p:blipFill>
          <a:blip r:embed="rId2"/>
          <a:stretch/>
        </p:blipFill>
        <p:spPr>
          <a:xfrm>
            <a:off x="426960" y="3249720"/>
            <a:ext cx="12739680" cy="6576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C:\Users\Детсад\AppData\Local\Microsoft\Windows\Temporary Internet Files\Content.IE5\BXT09ONC\MC900233935[1].wmf"/>
          <p:cNvPicPr/>
          <p:nvPr/>
        </p:nvPicPr>
        <p:blipFill>
          <a:blip r:embed="rId3"/>
          <a:stretch/>
        </p:blipFill>
        <p:spPr>
          <a:xfrm>
            <a:off x="8028000" y="1241280"/>
            <a:ext cx="3600360" cy="2305080"/>
          </a:xfrm>
          <a:prstGeom prst="rect">
            <a:avLst/>
          </a:prstGeom>
          <a:ln w="0">
            <a:noFill/>
          </a:ln>
        </p:spPr>
      </p:pic>
      <p:sp>
        <p:nvSpPr>
          <p:cNvPr id="293" name="Выгнутая вверх стрелка 10"/>
          <p:cNvSpPr/>
          <p:nvPr/>
        </p:nvSpPr>
        <p:spPr>
          <a:xfrm rot="882600">
            <a:off x="2734920" y="2469960"/>
            <a:ext cx="1874880" cy="1085760"/>
          </a:xfrm>
          <a:custGeom>
            <a:avLst/>
            <a:gdLst>
              <a:gd name="textAreaLeft" fmla="*/ 366840 w 1874880"/>
              <a:gd name="textAreaRight" fmla="*/ 1372320 w 1874880"/>
              <a:gd name="textAreaTop" fmla="*/ 145440 h 1085760"/>
              <a:gd name="textAreaBottom" fmla="*/ 9403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55" hR="21600" stAng="10800000" swAng="5400000"/>
                <a:lnTo>
                  <a:pt x="11582" y="0"/>
                </a:lnTo>
                <a:arcTo wR="8455" hR="21600" stAng="-5400000" swAng="3395325"/>
                <a:lnTo>
                  <a:pt x="21332" y="16200"/>
                </a:lnTo>
                <a:lnTo>
                  <a:pt x="18473" y="21600"/>
                </a:lnTo>
                <a:lnTo>
                  <a:pt x="15077" y="16200"/>
                </a:lnTo>
                <a:lnTo>
                  <a:pt x="16641" y="16200"/>
                </a:lnTo>
                <a:arcTo wR="8455" hR="21600" stAng="-2004675" swAng="-3142576"/>
                <a:lnTo>
                  <a:pt x="10018" y="373"/>
                </a:lnTo>
                <a:arcTo wR="8455" hR="21600" stAng="-5652750" swAng="-5147250"/>
                <a:close/>
              </a:path>
              <a:path fill="darkenLess" w="21600" h="21600">
                <a:moveTo>
                  <a:pt x="0" y="21600"/>
                </a:moveTo>
                <a:arcTo wR="8455" hR="21600" stAng="10800000" swAng="5400000"/>
                <a:lnTo>
                  <a:pt x="8455" y="0"/>
                </a:lnTo>
                <a:arcTo wR="8455" hR="21600" stAng="-5400000" swAng="252750"/>
                <a:lnTo>
                  <a:pt x="10018" y="373"/>
                </a:lnTo>
                <a:arcTo wR="8455" hR="21600" stAng="-5652750" swAng="-5147250"/>
                <a:close/>
              </a:path>
            </a:pathLst>
          </a:custGeom>
          <a:solidFill>
            <a:srgbClr val="2d83f4"/>
          </a:solidFill>
          <a:ln w="38160">
            <a:solidFill>
              <a:srgbClr val="052e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2021040" y="237960"/>
            <a:ext cx="108504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6400"/>
                <a:tab algn="l" pos="2692440"/>
                <a:tab algn="l" pos="314172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7400"/>
                <a:tab algn="l" pos="62866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2000"/>
                <a:tab algn="l" pos="9410760"/>
                <a:tab algn="l" pos="10134720"/>
                <a:tab algn="l" pos="10858680"/>
                <a:tab algn="l" pos="11579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Monotype Corsiva"/>
              </a:rPr>
              <a:t>Виды  компьютерных  игр: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782800" y="1468440"/>
            <a:ext cx="10120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6400"/>
                <a:tab algn="l" pos="2692440"/>
                <a:tab algn="l" pos="314172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7400"/>
                <a:tab algn="l" pos="62866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20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ЗВИВАЮЩИЕ 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6400"/>
                <a:tab algn="l" pos="2692440"/>
                <a:tab algn="l" pos="314172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7400"/>
                <a:tab algn="l" pos="628668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2000"/>
                <a:tab algn="l" pos="9410760"/>
                <a:tab algn="l" pos="9848880"/>
                <a:tab algn="l" pos="10296360"/>
                <a:tab algn="l" pos="107442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УЧАЮЩИЕ  ИГРЫ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ИГРЫ - ЗАБА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2759040" y="1414440"/>
            <a:ext cx="1927440" cy="1793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4869000" y="2465280"/>
            <a:ext cx="2690640" cy="2016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4"/>
          <a:stretch/>
        </p:blipFill>
        <p:spPr>
          <a:xfrm>
            <a:off x="3892680" y="1812960"/>
            <a:ext cx="1998360" cy="1930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https://encrypted-tbn1.gstatic.com/images?q=tbn:ANd9GcRzXC3thkyTTbAUikBB5eIcXzB1zYYEbkSg7et1TAx3ROFpRIdo"/>
          <p:cNvPicPr/>
          <p:nvPr/>
        </p:nvPicPr>
        <p:blipFill>
          <a:blip r:embed="rId5"/>
          <a:stretch/>
        </p:blipFill>
        <p:spPr>
          <a:xfrm>
            <a:off x="395280" y="3473280"/>
            <a:ext cx="2995560" cy="2665440"/>
          </a:xfrm>
          <a:prstGeom prst="rect">
            <a:avLst/>
          </a:prstGeom>
          <a:ln w="76320">
            <a:solidFill>
              <a:srgbClr val="0b87d6"/>
            </a:solidFill>
            <a:miter/>
          </a:ln>
        </p:spPr>
      </p:pic>
      <p:pic>
        <p:nvPicPr>
          <p:cNvPr id="300" name="Picture 11" descr="https://encrypted-tbn1.gstatic.com/images?q=tbn:ANd9GcTJRMMyTBC55pN_nE_DCRGbpzi04YQ_H7-T6OTonxPHRnSwrnpqeA"/>
          <p:cNvPicPr/>
          <p:nvPr/>
        </p:nvPicPr>
        <p:blipFill>
          <a:blip r:embed="rId6"/>
          <a:stretch/>
        </p:blipFill>
        <p:spPr>
          <a:xfrm>
            <a:off x="3778200" y="3486240"/>
            <a:ext cx="2576520" cy="2652480"/>
          </a:xfrm>
          <a:prstGeom prst="rect">
            <a:avLst/>
          </a:prstGeom>
          <a:ln w="76320">
            <a:solidFill>
              <a:srgbClr val="0b87d6"/>
            </a:solidFill>
            <a:miter/>
          </a:ln>
        </p:spPr>
      </p:pic>
      <p:pic>
        <p:nvPicPr>
          <p:cNvPr id="301" name="Picture 13" descr="https://encrypted-tbn3.gstatic.com/images?q=tbn:ANd9GcQajc6XyLUPV3YpPLMzsBK_g-H7TCa97cgyHPJp7DTTQ4mUbcBL"/>
          <p:cNvPicPr/>
          <p:nvPr/>
        </p:nvPicPr>
        <p:blipFill>
          <a:blip r:embed="rId7"/>
          <a:stretch/>
        </p:blipFill>
        <p:spPr>
          <a:xfrm>
            <a:off x="6804000" y="3492360"/>
            <a:ext cx="2664000" cy="2646360"/>
          </a:xfrm>
          <a:prstGeom prst="rect">
            <a:avLst/>
          </a:prstGeom>
          <a:ln w="76320">
            <a:solidFill>
              <a:srgbClr val="0b87d6"/>
            </a:solidFill>
            <a:miter/>
          </a:ln>
        </p:spPr>
      </p:pic>
      <p:pic>
        <p:nvPicPr>
          <p:cNvPr id="302" name="Picture 15" descr="http://www.sweetsdetki.ru/images/stories/razviv_igri/pervie_uroki_veselaya_shkola.jpg"/>
          <p:cNvPicPr/>
          <p:nvPr/>
        </p:nvPicPr>
        <p:blipFill>
          <a:blip r:embed="rId8"/>
          <a:stretch/>
        </p:blipFill>
        <p:spPr>
          <a:xfrm>
            <a:off x="9815400" y="3483000"/>
            <a:ext cx="3043440" cy="2655720"/>
          </a:xfrm>
          <a:prstGeom prst="rect">
            <a:avLst/>
          </a:prstGeom>
          <a:ln w="76320">
            <a:solidFill>
              <a:srgbClr val="0b87d6"/>
            </a:solidFill>
            <a:miter/>
          </a:ln>
        </p:spPr>
      </p:pic>
      <p:pic>
        <p:nvPicPr>
          <p:cNvPr id="303" name="Picture 3" descr=""/>
          <p:cNvPicPr/>
          <p:nvPr/>
        </p:nvPicPr>
        <p:blipFill>
          <a:blip r:embed="rId9"/>
          <a:stretch/>
        </p:blipFill>
        <p:spPr>
          <a:xfrm>
            <a:off x="101520" y="457200"/>
            <a:ext cx="2519280" cy="200808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2"/>
          <p:cNvSpPr/>
          <p:nvPr/>
        </p:nvSpPr>
        <p:spPr>
          <a:xfrm>
            <a:off x="373680" y="958680"/>
            <a:ext cx="130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1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2"/>
          <p:cNvSpPr/>
          <p:nvPr/>
        </p:nvSpPr>
        <p:spPr>
          <a:xfrm>
            <a:off x="803160" y="6443640"/>
            <a:ext cx="1152072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Monotype Corsiva"/>
              </a:rPr>
              <a:t>Требования  к   компьютерным  программа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Схема 3" descr=""/>
          <p:cNvPicPr/>
          <p:nvPr/>
        </p:nvPicPr>
        <p:blipFill>
          <a:blip r:embed="rId10"/>
          <a:stretch/>
        </p:blipFill>
        <p:spPr>
          <a:xfrm>
            <a:off x="1895400" y="7070760"/>
            <a:ext cx="9137880" cy="2609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3"/>
          <p:cNvSpPr/>
          <p:nvPr/>
        </p:nvSpPr>
        <p:spPr>
          <a:xfrm>
            <a:off x="888840" y="306360"/>
            <a:ext cx="1221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епосредственно   образовательная деятельность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Схема 5" descr=""/>
          <p:cNvPicPr/>
          <p:nvPr/>
        </p:nvPicPr>
        <p:blipFill>
          <a:blip r:embed="rId2"/>
          <a:stretch/>
        </p:blipFill>
        <p:spPr>
          <a:xfrm>
            <a:off x="7345440" y="5059440"/>
            <a:ext cx="5827680" cy="5200560"/>
          </a:xfrm>
          <a:prstGeom prst="rect">
            <a:avLst/>
          </a:prstGeom>
          <a:ln w="0">
            <a:noFill/>
          </a:ln>
        </p:spPr>
      </p:pic>
      <p:pic>
        <p:nvPicPr>
          <p:cNvPr id="309" name="Схема 6" descr=""/>
          <p:cNvPicPr/>
          <p:nvPr/>
        </p:nvPicPr>
        <p:blipFill>
          <a:blip r:embed="rId3"/>
          <a:stretch/>
        </p:blipFill>
        <p:spPr>
          <a:xfrm>
            <a:off x="536400" y="2809800"/>
            <a:ext cx="7291440" cy="701676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7"/>
          <p:cNvSpPr/>
          <p:nvPr/>
        </p:nvSpPr>
        <p:spPr>
          <a:xfrm>
            <a:off x="27000" y="2792520"/>
            <a:ext cx="568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руктур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4"/>
          <a:stretch/>
        </p:blipFill>
        <p:spPr>
          <a:xfrm>
            <a:off x="4645080" y="3402000"/>
            <a:ext cx="8759880" cy="146196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2"/>
          <p:cNvSpPr/>
          <p:nvPr/>
        </p:nvSpPr>
        <p:spPr>
          <a:xfrm>
            <a:off x="204840" y="-892080"/>
            <a:ext cx="227628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357120" y="-739800"/>
            <a:ext cx="227664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509760" y="-587520"/>
            <a:ext cx="227628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662040" y="-434880"/>
            <a:ext cx="227628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204840" y="-708120"/>
            <a:ext cx="193356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12" descr="https://encrypted-tbn1.gstatic.com/images?q=tbn:ANd9GcT__HEM9qZeW7VRAKtSvar_Hg5SvQuIXcQG1OMqrDv4DnCZi6wC"/>
          <p:cNvPicPr/>
          <p:nvPr/>
        </p:nvPicPr>
        <p:blipFill>
          <a:blip r:embed="rId5"/>
          <a:stretch/>
        </p:blipFill>
        <p:spPr>
          <a:xfrm>
            <a:off x="4098960" y="2274840"/>
            <a:ext cx="2879640" cy="3240000"/>
          </a:xfrm>
          <a:prstGeom prst="rect">
            <a:avLst/>
          </a:prstGeom>
          <a:ln w="76320">
            <a:solidFill>
              <a:srgbClr val="2d83f4"/>
            </a:solidFill>
            <a:miter/>
          </a:ln>
        </p:spPr>
      </p:pic>
      <p:pic>
        <p:nvPicPr>
          <p:cNvPr id="318" name="Picture 14" descr="http://saithappyfamily.ru/wp-content/uploads/bez-internet.jpg"/>
          <p:cNvPicPr/>
          <p:nvPr/>
        </p:nvPicPr>
        <p:blipFill>
          <a:blip r:embed="rId6"/>
          <a:stretch/>
        </p:blipFill>
        <p:spPr>
          <a:xfrm>
            <a:off x="509760" y="7772400"/>
            <a:ext cx="2622240" cy="17272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19" name="Picture 3" descr=""/>
          <p:cNvPicPr/>
          <p:nvPr/>
        </p:nvPicPr>
        <p:blipFill>
          <a:blip r:embed="rId7"/>
          <a:stretch/>
        </p:blipFill>
        <p:spPr>
          <a:xfrm>
            <a:off x="266760" y="0"/>
            <a:ext cx="2519280" cy="200808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1"/>
          <p:cNvSpPr/>
          <p:nvPr/>
        </p:nvSpPr>
        <p:spPr>
          <a:xfrm>
            <a:off x="587880" y="388800"/>
            <a:ext cx="130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2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8:30:59Z</dcterms:created>
  <dc:creator>sad31</dc:creator>
  <dc:description/>
  <dc:language>en-US</dc:language>
  <cp:lastModifiedBy>admin</cp:lastModifiedBy>
  <cp:lastPrinted>2012-12-05T08:41:31Z</cp:lastPrinted>
  <dcterms:modified xsi:type="dcterms:W3CDTF">2013-01-14T09:49:28Z</dcterms:modified>
  <cp:revision>158</cp:revision>
  <dc:subject/>
  <dc:title>Конкурс – это жизнь,   но жизнь – это не только конкурс…</dc:title>
</cp:coreProperties>
</file>