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4.jpeg" ContentType="image/jpeg"/>
  <Override PartName="/ppt/media/image13.png" ContentType="image/png"/>
  <Override PartName="/ppt/media/image3.jpeg" ContentType="image/jpeg"/>
  <Override PartName="/ppt/media/image15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DB8-0828-4248-A4CD-3D31A977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F26-14CA-46B5-842D-F3B5D6B3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0B5-ECE3-4385-9AB1-ADA14F75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0D9-F82C-41C1-B643-4AE34345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337-5C08-4330-B230-874C7320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677-09F4-4057-B155-9938D0D9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A5F-C4AA-45A3-AD01-D97C9D83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833-5D06-413D-B173-498B0F40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ED0-F93D-4CE7-A023-E0990F8C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556-A736-40EF-BA8C-F1101D6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668-A2FD-4A80-949F-815AA0D2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D4C-CD56-4B4C-86DB-4F363BB0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DA03-22FD-414F-8248-FD2E0A259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32000" y="407664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484360" y="46274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P1010021"/>
          <p:cNvPicPr/>
          <p:nvPr/>
        </p:nvPicPr>
        <p:blipFill>
          <a:blip r:embed="rId1"/>
          <a:stretch/>
        </p:blipFill>
        <p:spPr>
          <a:xfrm>
            <a:off x="1554120" y="171360"/>
            <a:ext cx="6400800" cy="4924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468360" y="542916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етод учебных проектов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образовательная технология ХХ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5000">
    <p:blinds dir="horz"/>
    <p:sndAc>
      <p:stSnd>
        <p:snd r:embed="rId2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27147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"/>
          <p:cNvPicPr/>
          <p:nvPr/>
        </p:nvPicPr>
        <p:blipFill>
          <a:blip r:embed="rId1"/>
          <a:stretch/>
        </p:blipFill>
        <p:spPr>
          <a:xfrm>
            <a:off x="195120" y="1066680"/>
            <a:ext cx="8777520" cy="5065920"/>
          </a:xfrm>
          <a:prstGeom prst="rect">
            <a:avLst/>
          </a:prstGeom>
          <a:ln w="0">
            <a:noFill/>
          </a:ln>
        </p:spPr>
      </p:pic>
    </p:spTree>
  </p:cSld>
  <p:transition spd="med" advTm="23000">
    <p:blinds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38160">
            <a:solidFill>
              <a:srgbClr val="16164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ассификация учеб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378000" y="1596960"/>
            <a:ext cx="8327880" cy="454824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blinds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одолжительности проекты различ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90716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857160" y="35712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ЭТАПЫ ВЫПОЛНЕН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Diagram 3"/>
          <p:cNvGrpSpPr/>
          <p:nvPr/>
        </p:nvGrpSpPr>
        <p:grpSpPr>
          <a:xfrm>
            <a:off x="1837440" y="1150920"/>
            <a:ext cx="5257800" cy="4429080"/>
            <a:chOff x="1837440" y="1150920"/>
            <a:chExt cx="5257800" cy="4429080"/>
          </a:xfrm>
        </p:grpSpPr>
        <p:sp>
          <p:nvSpPr>
            <p:cNvPr id="120" name="_s2052"/>
            <p:cNvSpPr/>
            <p:nvPr/>
          </p:nvSpPr>
          <p:spPr>
            <a:xfrm flipV="1">
              <a:off x="4465440" y="2341440"/>
              <a:ext cx="0" cy="59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3"/>
            <p:cNvSpPr/>
            <p:nvPr/>
          </p:nvSpPr>
          <p:spPr>
            <a:xfrm>
              <a:off x="3784680" y="1150920"/>
              <a:ext cx="1363680" cy="1192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чащим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4"/>
            <p:cNvSpPr/>
            <p:nvPr/>
          </p:nvSpPr>
          <p:spPr>
            <a:xfrm flipV="1">
              <a:off x="5112360" y="3165480"/>
              <a:ext cx="650880" cy="185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5"/>
            <p:cNvSpPr/>
            <p:nvPr/>
          </p:nvSpPr>
          <p:spPr>
            <a:xfrm>
              <a:off x="5731560" y="2387520"/>
              <a:ext cx="1363680" cy="1192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редел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 уч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бъема знани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выков дл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сущест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6"/>
            <p:cNvSpPr/>
            <p:nvPr/>
          </p:nvSpPr>
          <p:spPr>
            <a:xfrm>
              <a:off x="4865400" y="4015080"/>
              <a:ext cx="403560" cy="484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57"/>
            <p:cNvSpPr/>
            <p:nvPr/>
          </p:nvSpPr>
          <p:spPr>
            <a:xfrm>
              <a:off x="4987800" y="4387680"/>
              <a:ext cx="1363680" cy="1192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остав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лана рабо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 реал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8"/>
            <p:cNvSpPr/>
            <p:nvPr/>
          </p:nvSpPr>
          <p:spPr>
            <a:xfrm flipH="1">
              <a:off x="3664080" y="4015080"/>
              <a:ext cx="401760" cy="486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9"/>
            <p:cNvSpPr/>
            <p:nvPr/>
          </p:nvSpPr>
          <p:spPr>
            <a:xfrm>
              <a:off x="2581200" y="4387680"/>
              <a:ext cx="1363680" cy="1192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ы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сточн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 flipH="1" flipV="1">
              <a:off x="3165120" y="3166920"/>
              <a:ext cx="652680" cy="184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61"/>
            <p:cNvSpPr/>
            <p:nvPr/>
          </p:nvSpPr>
          <p:spPr>
            <a:xfrm>
              <a:off x="1837440" y="2385360"/>
              <a:ext cx="1364400" cy="1192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атери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тр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л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з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здел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62"/>
            <p:cNvSpPr/>
            <p:nvPr/>
          </p:nvSpPr>
          <p:spPr>
            <a:xfrm>
              <a:off x="3784680" y="2940840"/>
              <a:ext cx="1363680" cy="11923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дгот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итель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эта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2000">
    <p:cover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Diagram 2"/>
          <p:cNvGrpSpPr/>
          <p:nvPr/>
        </p:nvGrpSpPr>
        <p:grpSpPr>
          <a:xfrm>
            <a:off x="1252800" y="119160"/>
            <a:ext cx="6640560" cy="6616440"/>
            <a:chOff x="1252800" y="119160"/>
            <a:chExt cx="6640560" cy="6616440"/>
          </a:xfrm>
        </p:grpSpPr>
        <p:sp>
          <p:nvSpPr>
            <p:cNvPr id="132" name="_s3076"/>
            <p:cNvSpPr/>
            <p:nvPr/>
          </p:nvSpPr>
          <p:spPr>
            <a:xfrm flipH="1" flipV="1">
              <a:off x="2972880" y="2599560"/>
              <a:ext cx="801720" cy="41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3077"/>
            <p:cNvSpPr/>
            <p:nvPr/>
          </p:nvSpPr>
          <p:spPr>
            <a:xfrm>
              <a:off x="1252800" y="1362240"/>
              <a:ext cx="1845360" cy="1654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спредел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язанност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для группов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ллектив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ект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3078"/>
            <p:cNvSpPr/>
            <p:nvPr/>
          </p:nvSpPr>
          <p:spPr>
            <a:xfrm flipH="1">
              <a:off x="2973240" y="3840120"/>
              <a:ext cx="804240" cy="41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3079"/>
            <p:cNvSpPr/>
            <p:nvPr/>
          </p:nvSpPr>
          <p:spPr>
            <a:xfrm>
              <a:off x="1255320" y="3843000"/>
              <a:ext cx="1845360" cy="1654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ссмотр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скольк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змож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скизов в цве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чителем и выб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тималь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ариа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3080"/>
            <p:cNvSpPr/>
            <p:nvPr/>
          </p:nvSpPr>
          <p:spPr>
            <a:xfrm>
              <a:off x="4571640" y="4249800"/>
              <a:ext cx="2160" cy="830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3081"/>
            <p:cNvSpPr/>
            <p:nvPr/>
          </p:nvSpPr>
          <p:spPr>
            <a:xfrm>
              <a:off x="3652560" y="5081040"/>
              <a:ext cx="1846080" cy="16545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зработ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скиз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цветов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амм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3082"/>
            <p:cNvSpPr/>
            <p:nvPr/>
          </p:nvSpPr>
          <p:spPr>
            <a:xfrm>
              <a:off x="5367960" y="3837960"/>
              <a:ext cx="801720" cy="41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3083"/>
            <p:cNvSpPr/>
            <p:nvPr/>
          </p:nvSpPr>
          <p:spPr>
            <a:xfrm>
              <a:off x="6047280" y="3840120"/>
              <a:ext cx="1846080" cy="16549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ссмотр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скольк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змож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скизов в карандаш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чителем и выб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тималь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ариа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3084"/>
            <p:cNvSpPr/>
            <p:nvPr/>
          </p:nvSpPr>
          <p:spPr>
            <a:xfrm flipV="1">
              <a:off x="5367960" y="2599560"/>
              <a:ext cx="801720" cy="41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3085"/>
            <p:cNvSpPr/>
            <p:nvPr/>
          </p:nvSpPr>
          <p:spPr>
            <a:xfrm>
              <a:off x="6047280" y="1359360"/>
              <a:ext cx="1846080" cy="16549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зработ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олог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з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дума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3086"/>
            <p:cNvSpPr/>
            <p:nvPr/>
          </p:nvSpPr>
          <p:spPr>
            <a:xfrm flipV="1">
              <a:off x="4571640" y="1771200"/>
              <a:ext cx="0" cy="830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87"/>
            <p:cNvSpPr/>
            <p:nvPr/>
          </p:nvSpPr>
          <p:spPr>
            <a:xfrm>
              <a:off x="3650040" y="119160"/>
              <a:ext cx="1845360" cy="16545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ски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рт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карандаш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88"/>
            <p:cNvSpPr/>
            <p:nvPr/>
          </p:nvSpPr>
          <p:spPr>
            <a:xfrm>
              <a:off x="3650040" y="2602080"/>
              <a:ext cx="1845360" cy="16549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нструк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цио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эта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9000">
    <p:wheel spokes="3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Diagram 2"/>
          <p:cNvGrpSpPr/>
          <p:nvPr/>
        </p:nvGrpSpPr>
        <p:grpSpPr>
          <a:xfrm>
            <a:off x="875160" y="588240"/>
            <a:ext cx="7396200" cy="4732560"/>
            <a:chOff x="875160" y="588240"/>
            <a:chExt cx="7396200" cy="4732560"/>
          </a:xfrm>
        </p:grpSpPr>
        <p:sp>
          <p:nvSpPr>
            <p:cNvPr id="146" name="_s4100"/>
            <p:cNvSpPr/>
            <p:nvPr/>
          </p:nvSpPr>
          <p:spPr>
            <a:xfrm flipV="1">
              <a:off x="4571640" y="2041920"/>
              <a:ext cx="0" cy="7311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101"/>
            <p:cNvSpPr/>
            <p:nvPr/>
          </p:nvSpPr>
          <p:spPr>
            <a:xfrm>
              <a:off x="3545280" y="588240"/>
              <a:ext cx="2055240" cy="14558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чащими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екта с учет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ребова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ологии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изай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102"/>
            <p:cNvSpPr/>
            <p:nvPr/>
          </p:nvSpPr>
          <p:spPr>
            <a:xfrm>
              <a:off x="5458680" y="3862800"/>
              <a:ext cx="893160" cy="3664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103"/>
            <p:cNvSpPr/>
            <p:nvPr/>
          </p:nvSpPr>
          <p:spPr>
            <a:xfrm>
              <a:off x="6216120" y="3864600"/>
              <a:ext cx="2055240" cy="1456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кущий контро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 корректиров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его деят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ч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4"/>
            <p:cNvSpPr/>
            <p:nvPr/>
          </p:nvSpPr>
          <p:spPr>
            <a:xfrm flipH="1">
              <a:off x="2788560" y="3862800"/>
              <a:ext cx="895680" cy="364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4105"/>
            <p:cNvSpPr/>
            <p:nvPr/>
          </p:nvSpPr>
          <p:spPr>
            <a:xfrm>
              <a:off x="875160" y="3864600"/>
              <a:ext cx="2055240" cy="14562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облюдение прав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езопас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106"/>
            <p:cNvSpPr/>
            <p:nvPr/>
          </p:nvSpPr>
          <p:spPr>
            <a:xfrm>
              <a:off x="3545280" y="2773440"/>
              <a:ext cx="2055240" cy="145584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Технологиче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5000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Organization Chart 2"/>
          <p:cNvGrpSpPr/>
          <p:nvPr/>
        </p:nvGrpSpPr>
        <p:grpSpPr>
          <a:xfrm>
            <a:off x="0" y="1110240"/>
            <a:ext cx="9143280" cy="2865240"/>
            <a:chOff x="0" y="1110240"/>
            <a:chExt cx="9143280" cy="2865240"/>
          </a:xfrm>
        </p:grpSpPr>
        <p:cxnSp>
          <p:nvCxnSpPr>
            <p:cNvPr id="154" name="_s5124"/>
            <p:cNvCxnSpPr>
              <a:stCxn id="155" idx="0"/>
              <a:endCxn id="156" idx="2"/>
            </p:cNvCxnSpPr>
            <p:nvPr/>
          </p:nvCxnSpPr>
          <p:spPr>
            <a:xfrm flipV="1" rot="16200000">
              <a:off x="5893920" y="983880"/>
              <a:ext cx="557640" cy="3197880"/>
            </a:xfrm>
            <a:prstGeom prst="bentConnector3">
              <a:avLst>
                <a:gd name="adj1" fmla="val 204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_s5125"/>
            <p:cNvCxnSpPr>
              <a:stCxn id="158" idx="0"/>
              <a:endCxn id="156" idx="1"/>
            </p:cNvCxnSpPr>
            <p:nvPr/>
          </p:nvCxnSpPr>
          <p:spPr>
            <a:xfrm flipH="1" flipV="1" rot="5400000">
              <a:off x="4294080" y="2581200"/>
              <a:ext cx="557640" cy="3240"/>
            </a:xfrm>
            <a:prstGeom prst="bentConnector3">
              <a:avLst>
                <a:gd name="adj1" fmla="val 204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_s5126"/>
            <p:cNvCxnSpPr>
              <a:stCxn id="160" idx="0"/>
              <a:endCxn id="156" idx="0"/>
            </p:cNvCxnSpPr>
            <p:nvPr/>
          </p:nvCxnSpPr>
          <p:spPr>
            <a:xfrm flipH="1" flipV="1" rot="5400000">
              <a:off x="2693880" y="981000"/>
              <a:ext cx="557640" cy="3203640"/>
            </a:xfrm>
            <a:prstGeom prst="bentConnector3">
              <a:avLst>
                <a:gd name="adj1" fmla="val 2047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" name="_s5127"/>
            <p:cNvSpPr/>
            <p:nvPr/>
          </p:nvSpPr>
          <p:spPr>
            <a:xfrm>
              <a:off x="3202920" y="1110240"/>
              <a:ext cx="2739960" cy="119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680" bIns="58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Презентацион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(заключительный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этап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128"/>
            <p:cNvSpPr/>
            <p:nvPr/>
          </p:nvSpPr>
          <p:spPr>
            <a:xfrm>
              <a:off x="0" y="2861640"/>
              <a:ext cx="2742840" cy="111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680" bIns="58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аетс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амооценка качест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ыполнения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5129"/>
            <p:cNvSpPr/>
            <p:nvPr/>
          </p:nvSpPr>
          <p:spPr>
            <a:xfrm>
              <a:off x="3200040" y="2861640"/>
              <a:ext cx="2742840" cy="111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680" bIns="58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ыполняется расче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кономических затра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5130"/>
            <p:cNvSpPr/>
            <p:nvPr/>
          </p:nvSpPr>
          <p:spPr>
            <a:xfrm>
              <a:off x="6400440" y="2861640"/>
              <a:ext cx="2742840" cy="111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680" bIns="58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оект выста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 коллективную защит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1000">
    <p:wipe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5" descr="Desk_Top (31).jpg"/>
          <p:cNvPicPr/>
          <p:nvPr/>
        </p:nvPicPr>
        <p:blipFill>
          <a:blip r:embed="rId2"/>
          <a:srcRect l="0" t="11284" r="2418" b="21009"/>
          <a:stretch/>
        </p:blipFill>
        <p:spPr>
          <a:xfrm>
            <a:off x="285840" y="3000240"/>
            <a:ext cx="7572240" cy="3714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9298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«Всё, что я познаю,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я знаю, для чего это мне надо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 где, и как я могу эти знания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                                примени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9000">
    <p:cover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Чем же привлёк меня метод проек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622440" y="1420920"/>
            <a:ext cx="8186760" cy="505296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cover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142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  проектов   созвучен моим  жизненным  принци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928880"/>
            <a:ext cx="8400960" cy="457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ёнок делает с удовольствием только то, что сам выбрал, и то, что ему интере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– это не сосуд, который нужно наполнить, а факел, который надо 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blinds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42960" y="0"/>
            <a:ext cx="820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ектного обучения состоит в т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тобы создать условия, при которых учащие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 rot="1911600">
            <a:off x="5003640" y="1412640"/>
            <a:ext cx="1511640" cy="288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 rot="3433800">
            <a:off x="4068360" y="2636640"/>
            <a:ext cx="3600360" cy="289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 rot="9131400">
            <a:off x="2539440" y="1378800"/>
            <a:ext cx="1639800" cy="250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 rot="7698000">
            <a:off x="1160640" y="2650320"/>
            <a:ext cx="3887640" cy="289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 rot="5400000">
            <a:off x="3059640" y="2709000"/>
            <a:ext cx="3024360" cy="288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179280" y="1341360"/>
            <a:ext cx="2340000" cy="1800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0" y="128592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хот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рет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ющие 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 разных источ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250920" y="4508640"/>
            <a:ext cx="2340000" cy="1800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3419640" y="4581360"/>
            <a:ext cx="2339640" cy="1800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6372360" y="4581360"/>
            <a:ext cx="2340000" cy="1800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2"/>
          <p:cNvSpPr/>
          <p:nvPr/>
        </p:nvSpPr>
        <p:spPr>
          <a:xfrm>
            <a:off x="6588000" y="1341360"/>
            <a:ext cx="2340000" cy="1800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6357960" y="1214280"/>
            <a:ext cx="284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тся  польз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рет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ак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285840" y="4643280"/>
            <a:ext cx="230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рет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я, работ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зли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3071880" y="4941720"/>
            <a:ext cx="30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ют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тель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6072120" y="5013360"/>
            <a:ext cx="30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ют памя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л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3000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ученик должен быть готов к главным ролям в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8242560" cy="5005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Diagram 5"/>
          <p:cNvGrpSpPr/>
          <p:nvPr/>
        </p:nvGrpSpPr>
        <p:grpSpPr>
          <a:xfrm>
            <a:off x="227520" y="1323360"/>
            <a:ext cx="8688600" cy="4996440"/>
            <a:chOff x="227520" y="1323360"/>
            <a:chExt cx="8688600" cy="4996440"/>
          </a:xfrm>
        </p:grpSpPr>
        <p:sp>
          <p:nvSpPr>
            <p:cNvPr id="70" name="_s1028"/>
            <p:cNvSpPr/>
            <p:nvPr/>
          </p:nvSpPr>
          <p:spPr>
            <a:xfrm flipV="1">
              <a:off x="3848760" y="1323000"/>
              <a:ext cx="1446480" cy="832320"/>
            </a:xfrm>
            <a:custGeom>
              <a:avLst/>
              <a:gdLst>
                <a:gd name="textAreaLeft" fmla="*/ 519120 w 1446480"/>
                <a:gd name="textAreaRight" fmla="*/ 927360 w 1446480"/>
                <a:gd name="textAreaTop" fmla="*/ 298440 h 832320"/>
                <a:gd name="textAreaBottom" fmla="*/ 533880 h 8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ТРУДОЛЮБ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29"/>
            <p:cNvSpPr/>
            <p:nvPr/>
          </p:nvSpPr>
          <p:spPr>
            <a:xfrm flipV="1">
              <a:off x="3122280" y="2154960"/>
              <a:ext cx="2899080" cy="832680"/>
            </a:xfrm>
            <a:custGeom>
              <a:avLst/>
              <a:gdLst>
                <a:gd name="textAreaLeft" fmla="*/ 637560 w 2899080"/>
                <a:gd name="textAreaRight" fmla="*/ 2261520 w 2899080"/>
                <a:gd name="textAreaTop" fmla="*/ 182880 h 832680"/>
                <a:gd name="textAreaBottom" fmla="*/ 649800 h 83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ПОСОБНОСТЬ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АМОСТОЯТЕЛЬН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ИНИМАТЬ РЕШ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0"/>
            <p:cNvSpPr/>
            <p:nvPr/>
          </p:nvSpPr>
          <p:spPr>
            <a:xfrm flipV="1">
              <a:off x="2399760" y="2989080"/>
              <a:ext cx="4344120" cy="832320"/>
            </a:xfrm>
            <a:custGeom>
              <a:avLst/>
              <a:gdLst>
                <a:gd name="textAreaLeft" fmla="*/ 754200 w 4344120"/>
                <a:gd name="textAreaRight" fmla="*/ 3589920 w 4344120"/>
                <a:gd name="textAreaTop" fmla="*/ 144360 h 832320"/>
                <a:gd name="textAreaBottom" fmla="*/ 687960 h 8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ОТВЕТСТВЕНН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1"/>
            <p:cNvSpPr/>
            <p:nvPr/>
          </p:nvSpPr>
          <p:spPr>
            <a:xfrm flipV="1">
              <a:off x="1676520" y="3820320"/>
              <a:ext cx="5790960" cy="832680"/>
            </a:xfrm>
            <a:custGeom>
              <a:avLst/>
              <a:gdLst>
                <a:gd name="textAreaLeft" fmla="*/ 871200 w 5790960"/>
                <a:gd name="textAreaRight" fmla="*/ 4919760 w 5790960"/>
                <a:gd name="textAreaTop" fmla="*/ 125280 h 832680"/>
                <a:gd name="textAreaBottom" fmla="*/ 707400 h 83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ОММУНИКАБЕЛЬН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V="1">
              <a:off x="950400" y="4653360"/>
              <a:ext cx="7243200" cy="832680"/>
            </a:xfrm>
            <a:custGeom>
              <a:avLst/>
              <a:gdLst>
                <a:gd name="textAreaLeft" fmla="*/ 989280 w 7243200"/>
                <a:gd name="textAreaRight" fmla="*/ 6253920 w 7243200"/>
                <a:gd name="textAreaTop" fmla="*/ 113760 h 832680"/>
                <a:gd name="textAreaBottom" fmla="*/ 718920 h 83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ИЗОБРЕТАТЕЛЬН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3"/>
            <p:cNvSpPr/>
            <p:nvPr/>
          </p:nvSpPr>
          <p:spPr>
            <a:xfrm flipV="1">
              <a:off x="227520" y="5487120"/>
              <a:ext cx="8688600" cy="832320"/>
            </a:xfrm>
            <a:custGeom>
              <a:avLst/>
              <a:gdLst>
                <a:gd name="textAreaLeft" fmla="*/ 1105920 w 8688600"/>
                <a:gd name="textAreaRight" fmla="*/ 7582680 w 8688600"/>
                <a:gd name="textAreaTop" fmla="*/ 105840 h 832320"/>
                <a:gd name="textAreaBottom" fmla="*/ 726480 h 8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ФОРМИРУЮТСЯ ПОЛОЖИТЕЛЬНЫЕ ПОТРЕБНОСТИ И ИНТЕРЕС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12"/>
          <p:cNvSpPr/>
          <p:nvPr/>
        </p:nvSpPr>
        <p:spPr>
          <a:xfrm>
            <a:off x="222120" y="142920"/>
            <a:ext cx="848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езульт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ения  творческих 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школьников         воспитыв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32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208080" y="1268280"/>
            <a:ext cx="8727840" cy="379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1476360" y="476280"/>
            <a:ext cx="60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 проект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1557360"/>
            <a:ext cx="3024360" cy="647640"/>
          </a:xfrm>
          <a:custGeom>
            <a:avLst/>
            <a:gdLst>
              <a:gd name="textAreaLeft" fmla="*/ 76320 w 3024360"/>
              <a:gd name="textAreaRight" fmla="*/ 2948040 w 302436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1008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7224" y="21600"/>
                </a:lnTo>
                <a:arcTo wR="3600" hR="3600" stAng="10800000" swAng="5400000"/>
                <a:lnTo>
                  <a:pt x="10082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6227640" y="4149720"/>
            <a:ext cx="2737080" cy="647640"/>
          </a:xfrm>
          <a:custGeom>
            <a:avLst/>
            <a:gdLst>
              <a:gd name="textAreaLeft" fmla="*/ 76320 w 2737080"/>
              <a:gd name="textAreaRight" fmla="*/ 2660760 w 273708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91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648" y="21600"/>
                </a:lnTo>
                <a:arcTo wR="3600" hR="3600" stAng="10800000" swAng="5400000"/>
                <a:lnTo>
                  <a:pt x="91248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3203640" y="3357720"/>
            <a:ext cx="3024000" cy="647640"/>
          </a:xfrm>
          <a:custGeom>
            <a:avLst/>
            <a:gdLst>
              <a:gd name="textAreaLeft" fmla="*/ 76320 w 3024000"/>
              <a:gd name="textAreaRight" fmla="*/ 2947680 w 302400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1008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7212" y="21600"/>
                </a:lnTo>
                <a:arcTo wR="3600" hR="3600" stAng="10800000" swAng="5400000"/>
                <a:lnTo>
                  <a:pt x="10081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79280" y="2637000"/>
            <a:ext cx="2952720" cy="647640"/>
          </a:xfrm>
          <a:custGeom>
            <a:avLst/>
            <a:gdLst>
              <a:gd name="textAreaLeft" fmla="*/ 76320 w 2952720"/>
              <a:gd name="textAreaRight" fmla="*/ 2876400 w 295272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984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4836" y="21600"/>
                </a:lnTo>
                <a:arcTo wR="3600" hR="3600" stAng="10800000" swAng="5400000"/>
                <a:lnTo>
                  <a:pt x="9843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5940360" y="1628640"/>
            <a:ext cx="2808360" cy="648000"/>
          </a:xfrm>
          <a:custGeom>
            <a:avLst/>
            <a:gdLst>
              <a:gd name="textAreaLeft" fmla="*/ 76320 w 2808360"/>
              <a:gd name="textAreaRight" fmla="*/ 2732040 w 2808360"/>
              <a:gd name="textAreaTop" fmla="*/ 76320 h 648000"/>
              <a:gd name="textAreaBottom" fmla="*/ 571680 h 648000"/>
            </a:gdLst>
            <a:ahLst/>
            <a:rect l="textAreaLeft" t="textAreaTop" r="textAreaRight" b="textAreaBottom"/>
            <a:pathLst>
              <a:path w="935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9972" y="21600"/>
                </a:lnTo>
                <a:arcTo wR="3600" hR="3600" stAng="10800000" swAng="5400000"/>
                <a:lnTo>
                  <a:pt x="9357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6659640" y="5661000"/>
            <a:ext cx="1800000" cy="432000"/>
          </a:xfrm>
          <a:custGeom>
            <a:avLst/>
            <a:gdLst>
              <a:gd name="textAreaLeft" fmla="*/ 50760 w 1800000"/>
              <a:gd name="textAreaRight" fmla="*/ 1749240 w 18000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43" y="21600"/>
                </a:lnTo>
                <a:arcTo wR="3600" hR="3600" stAng="10800000" swAng="5400000"/>
                <a:lnTo>
                  <a:pt x="8994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6659640" y="5157720"/>
            <a:ext cx="1800000" cy="432000"/>
          </a:xfrm>
          <a:custGeom>
            <a:avLst/>
            <a:gdLst>
              <a:gd name="textAreaLeft" fmla="*/ 50760 w 1800000"/>
              <a:gd name="textAreaRight" fmla="*/ 1749240 w 18000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43" y="21600"/>
                </a:lnTo>
                <a:arcTo wR="3600" hR="3600" stAng="10800000" swAng="5400000"/>
                <a:lnTo>
                  <a:pt x="8994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6659640" y="6165720"/>
            <a:ext cx="1800000" cy="432000"/>
          </a:xfrm>
          <a:custGeom>
            <a:avLst/>
            <a:gdLst>
              <a:gd name="textAreaLeft" fmla="*/ 50760 w 1800000"/>
              <a:gd name="textAreaRight" fmla="*/ 1749240 w 18000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43" y="21600"/>
                </a:lnTo>
                <a:arcTo wR="3600" hR="3600" stAng="10800000" swAng="5400000"/>
                <a:lnTo>
                  <a:pt x="8994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1"/>
          <p:cNvSpPr/>
          <p:nvPr/>
        </p:nvSpPr>
        <p:spPr>
          <a:xfrm>
            <a:off x="6516720" y="2492280"/>
            <a:ext cx="1800360" cy="432000"/>
          </a:xfrm>
          <a:custGeom>
            <a:avLst/>
            <a:gdLst>
              <a:gd name="textAreaLeft" fmla="*/ 50760 w 1800360"/>
              <a:gd name="textAreaRight" fmla="*/ 1749600 w 180036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6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61" y="21600"/>
                </a:lnTo>
                <a:arcTo wR="3600" hR="3600" stAng="10800000" swAng="5400000"/>
                <a:lnTo>
                  <a:pt x="8996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3924360" y="4221000"/>
            <a:ext cx="1800000" cy="432000"/>
          </a:xfrm>
          <a:custGeom>
            <a:avLst/>
            <a:gdLst>
              <a:gd name="textAreaLeft" fmla="*/ 50760 w 1800000"/>
              <a:gd name="textAreaRight" fmla="*/ 1749240 w 18000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43" y="21600"/>
                </a:lnTo>
                <a:arcTo wR="3600" hR="3600" stAng="10800000" swAng="5400000"/>
                <a:lnTo>
                  <a:pt x="8994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3924360" y="5950080"/>
            <a:ext cx="1800000" cy="647640"/>
          </a:xfrm>
          <a:custGeom>
            <a:avLst/>
            <a:gdLst>
              <a:gd name="textAreaLeft" fmla="*/ 76320 w 1800000"/>
              <a:gd name="textAreaRight" fmla="*/ 1723680 w 180000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600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6412" y="21600"/>
                </a:lnTo>
                <a:arcTo wR="3600" hR="3600" stAng="10800000" swAng="5400000"/>
                <a:lnTo>
                  <a:pt x="6001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3924360" y="5229360"/>
            <a:ext cx="1800000" cy="647640"/>
          </a:xfrm>
          <a:custGeom>
            <a:avLst/>
            <a:gdLst>
              <a:gd name="textAreaLeft" fmla="*/ 76320 w 1800000"/>
              <a:gd name="textAreaRight" fmla="*/ 1723680 w 180000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600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6412" y="21600"/>
                </a:lnTo>
                <a:arcTo wR="3600" hR="3600" stAng="10800000" swAng="5400000"/>
                <a:lnTo>
                  <a:pt x="6001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"/>
          <p:cNvSpPr/>
          <p:nvPr/>
        </p:nvSpPr>
        <p:spPr>
          <a:xfrm>
            <a:off x="3924360" y="4724280"/>
            <a:ext cx="1800000" cy="432000"/>
          </a:xfrm>
          <a:custGeom>
            <a:avLst/>
            <a:gdLst>
              <a:gd name="textAreaLeft" fmla="*/ 50760 w 1800000"/>
              <a:gd name="textAreaRight" fmla="*/ 1749240 w 18000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43" y="21600"/>
                </a:lnTo>
                <a:arcTo wR="3600" hR="3600" stAng="10800000" swAng="5400000"/>
                <a:lnTo>
                  <a:pt x="8994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755640" y="4869000"/>
            <a:ext cx="1800360" cy="647640"/>
          </a:xfrm>
          <a:custGeom>
            <a:avLst/>
            <a:gdLst>
              <a:gd name="textAreaLeft" fmla="*/ 76320 w 1800360"/>
              <a:gd name="textAreaRight" fmla="*/ 1724040 w 180036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600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6424" y="21600"/>
                </a:lnTo>
                <a:arcTo wR="3600" hR="3600" stAng="10800000" swAng="5400000"/>
                <a:lnTo>
                  <a:pt x="6002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755640" y="4292640"/>
            <a:ext cx="1800360" cy="431640"/>
          </a:xfrm>
          <a:custGeom>
            <a:avLst/>
            <a:gdLst>
              <a:gd name="textAreaLeft" fmla="*/ 50760 w 1800360"/>
              <a:gd name="textAreaRight" fmla="*/ 1749600 w 180036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900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436" y="21600"/>
                </a:lnTo>
                <a:arcTo wR="3600" hR="3600" stAng="10800000" swAng="5400000"/>
                <a:lnTo>
                  <a:pt x="9003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>
            <a:off x="755640" y="3716280"/>
            <a:ext cx="1800360" cy="432000"/>
          </a:xfrm>
          <a:custGeom>
            <a:avLst/>
            <a:gdLst>
              <a:gd name="textAreaLeft" fmla="*/ 50760 w 1800360"/>
              <a:gd name="textAreaRight" fmla="*/ 1749600 w 180036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6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61" y="21600"/>
                </a:lnTo>
                <a:arcTo wR="3600" hR="3600" stAng="10800000" swAng="5400000"/>
                <a:lnTo>
                  <a:pt x="8996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689400" y="162864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ЗО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6283440" y="4221000"/>
            <a:ext cx="25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КУЛЬП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094280" y="3429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363720" y="170028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А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0" y="256536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НУМЕНТ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6807240" y="51577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6951240" y="566100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7022880" y="616572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973440" y="37162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ЗА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1044360" y="42926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Р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58520" y="4869000"/>
            <a:ext cx="17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ПИСЬ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6805080" y="24922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В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1"/>
          <p:cNvSpPr/>
          <p:nvPr/>
        </p:nvSpPr>
        <p:spPr>
          <a:xfrm>
            <a:off x="3926520" y="59500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МК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4358880" y="4221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Ж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4142160" y="47242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Х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3919680" y="522936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ОСТ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0:34:19Z</dcterms:created>
  <dc:creator>User</dc:creator>
  <dc:description/>
  <dc:language>en-US</dc:language>
  <cp:lastModifiedBy>Пользователь</cp:lastModifiedBy>
  <dcterms:modified xsi:type="dcterms:W3CDTF">2013-01-14T09:03:18Z</dcterms:modified>
  <cp:revision>163</cp:revision>
  <dc:subject/>
  <dc:title>Слайд 1</dc:title>
</cp:coreProperties>
</file>