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CE6A-CA21-4B98-A78D-C3370085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1C3-84C7-458B-ACE2-E03788B7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8CD-CF04-4E76-B6A3-8821C66B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F33-D854-480A-B7DD-5BD291A5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1D4-3C7C-40D2-B96F-2F1B7D1E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7C3-18DD-4024-AB61-235AA6A7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A140-1CF7-4FB4-BFA6-16E04A42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B8EA-3948-4525-9961-53E39888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00F-B10D-4B3D-A81E-6224D202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5F5-C3D7-402A-946D-80CD535B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AEC-989D-4705-A1CB-CD4F7297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61D-DFB2-46E2-9810-2C916F97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3A3E-FEB0-442B-A00A-94DC5DE722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Сложное пред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3933720"/>
            <a:ext cx="6761160" cy="50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Сложноподчиненные предлож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561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200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3440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201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920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67676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4901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07:35:23Z</dcterms:created>
  <dc:creator>ольга</dc:creator>
  <dc:description/>
  <dc:language>en-US</dc:language>
  <cp:lastModifiedBy>ольга</cp:lastModifiedBy>
  <dcterms:modified xsi:type="dcterms:W3CDTF">2012-12-10T07:50:37Z</dcterms:modified>
  <cp:revision>2</cp:revision>
  <dc:subject/>
  <dc:title>Сложное предложение</dc:title>
</cp:coreProperties>
</file>