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E3F-3AB3-496C-AD15-F1E1E6CE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493-60D8-4E1A-8FA2-3C39F831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339-BC66-4DB8-9B1D-BC9D565D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BD2-31DE-43BE-8F86-58C08ACB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80E-272C-4896-A6E3-B01A73F7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CE8-1381-47F2-9ADE-578CAD21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DEB-7B58-43F7-84DA-4F7B77C1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99C-FA11-4AFC-BB2A-E5D9F8B0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6F6-789C-4040-9DA9-CF6CDC9B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D17-F61A-4AD4-9A31-35B677DC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0A7-2CCC-4C99-A3C3-1055D2F7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3B8-276F-4059-9C94-019FA5F3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FE65-7629-403D-B66D-D874BD7275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Сложное пред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6761160" cy="50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Сложноподчиненные предлож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561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200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3440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201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920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67676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4901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07:35:23Z</dcterms:created>
  <dc:creator>ольга</dc:creator>
  <dc:description/>
  <dc:language>en-US</dc:language>
  <cp:lastModifiedBy>ольга</cp:lastModifiedBy>
  <dcterms:modified xsi:type="dcterms:W3CDTF">2012-12-10T07:50:37Z</dcterms:modified>
  <cp:revision>2</cp:revision>
  <dc:subject/>
  <dc:title>Сложное предложение</dc:title>
</cp:coreProperties>
</file>