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592-8CB9-4EA2-B32F-AF7045868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B24D-2F89-41BB-BE95-BA7B562B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D215-B870-4AD5-A6A5-CEA01D3D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EC18-AE8A-4369-9703-5C353C27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BCFB-7B4D-4A03-8E71-FEAE4BFE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C53D-E5CE-445D-B21B-9E5473AB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0636-214E-473C-A8B2-D74F853F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0A9B-1465-4FA1-8D60-F0C6C938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9F45-860B-4131-BB0B-2A5C4536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6CB6-4374-4535-9FAC-CA254E1B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2CA2-B382-456F-A956-5D0E6C2B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B924-9489-45FE-8FE9-A3B9B70A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CDBD-0AAB-4A07-947B-4B2CE1A9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8B47-FE56-47DD-992C-5DC5AFAF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DD02-A476-403A-A8F1-680B04EA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C3AA-EC26-400A-AE49-8F1CEC80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A9E1-1819-441F-87A0-45B5F054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3453-5D12-4C2E-AB39-2BF0F93E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755A-E16F-43B2-B360-4ED862B1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B23-01BB-4E6A-B47E-818B0D6D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C5B0-9F66-41B9-9D00-0ADC6F4F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3788-23C9-4E1A-807E-2A36DECF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4E96-AEED-4085-9858-A3E78159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9315-E11B-4000-9C4E-E2AB7697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933D-3613-4A99-BDB7-44919A2EEE7D}" type="slidenum"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7308720" y="1000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Times New Roman"/>
                <a:hlinkClick r:id="rId2"/>
              </a:rPr>
              <a:t>www.klyaksa.net</a:t>
            </a:r>
            <a:endParaRPr b="0" lang="en-US" sz="1400" spc="-1" strike="noStrike">
              <a:solidFill>
                <a:srgbClr val="00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4F8C-7F4B-4718-980D-476C83AE2E98}" type="slidenum">
              <a:rPr b="1" lang="en-US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659640" y="404640"/>
            <a:ext cx="1801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Verdana"/>
                <a:hlinkClick r:id="rId2"/>
              </a:rPr>
              <a:t>www.klyaksa.net</a:t>
            </a:r>
            <a:endParaRPr b="0" lang="en-US" sz="1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Устройство компьютера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Сканер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Times New Roman"/>
              </a:rPr>
              <a:t>Сканеры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служат для автоматического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ввода текстов и графики 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в компьютер.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Сканеры бывают двух типов: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-464760">
              <a:lnSpc>
                <a:spcPct val="8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ручные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-464760">
              <a:lnSpc>
                <a:spcPct val="80000"/>
              </a:lnSpc>
              <a:spcBef>
                <a:spcPts val="4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планшетные.</a:t>
            </a:r>
            <a:br>
              <a:rPr sz="2800"/>
            </a:br>
            <a:br>
              <a:rPr sz="2000"/>
            </a:b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Ручной сканер для компьютера похож на сканер, используемый в супермаркетах для считывания штрих-кода. Такой сканер перемещается по листу с информацией построчно вручную, и информация заносится в компьютер для дальнейшего редактирования. Планшетный сканер выглядит и работает  примерно также, как и ксерокс - приподнимается крышка, текст или рисунок помещается на рабочее поле, и информация считывается. Планшетные сканеры в наше время обычно все цветные. 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533920" y="2214720"/>
            <a:ext cx="3502080" cy="24382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Модем и DVB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Модем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или модемная плата служит для связи удалённых компьютеров по телефонной сети. Модем бывает внутренний (установлен внутри системного блока) и внешний (располагается рядом с системным блоком и соединяется с ним при помощи кабеля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DVB-карта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и </a:t>
            </a: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спутниковая антенна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 служат для так называемого «асинхронного» подключения компьютера к сети Интернет. При наличии DVB-карты и спутниковой антенны для соединения с Интернетом используется два канала связи: для передачи данных от пользователя используется модем, а для приема – спутниковый канал, скорость потока данных в котором в несколько раз превышает модемную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Что означает «персональный компьютер»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Что такое «базовая конфигурация ПК»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Какие виды мониторов вы знаете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Что такое разрешающая способность мыши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Чем отличаются оптико-механические и оптические мыши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Какие еще устройства ввода информации в компьютер вы знаете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Персональный компьютер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Иногда говорят «персональный компьютер».  Уточнение «персональный» здесь не случайно – это значит свой, личный, доступный большинству людей, ведь существует большое количество других видов компьютеров, которые персональными никак не назвать – рабочие станции для предприятий, серверы для связи множества компьютеров в сеть и др. в дальнейшем, говоря «компьютер» мы будем иметь в виду именно персональный компьютер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На современном рынке вычислительной техники разнообразие модификаций и вариантов компьютеров огромно, но любой, даже самый необычный комплект неизменно включает одни и те же виды устройств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Базовая конфигурация ПК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33"/>
                </a:solidFill>
                <a:uFillTx/>
                <a:latin typeface="Times New Roman"/>
              </a:rPr>
              <a:t>Базовая конфигурация ПК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- минимальный комплект аппаратный средств, достаточный для начала работы с компьютером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Системный блок;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Монитор;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Клавиатура;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Мышь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788000" y="3887640"/>
            <a:ext cx="3705120" cy="2021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Системный блок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6275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33"/>
                </a:solidFill>
                <a:latin typeface="Times New Roman"/>
              </a:rPr>
              <a:t>Системный блок</a:t>
            </a:r>
            <a:r>
              <a:rPr b="0" lang="en-US" sz="3000" spc="-1" strike="noStrike">
                <a:solidFill>
                  <a:srgbClr val="000033"/>
                </a:solidFill>
                <a:latin typeface="Times New Roman"/>
              </a:rPr>
              <a:t> – основной блок компьютерной системы. В нем располагаются устройства, считающиеся внутренними. Устройства подключающиеся к системному блоку снаружи, считаются внешними.</a:t>
            </a:r>
            <a:endParaRPr b="0" lang="en-US" sz="30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12000" y="2637000"/>
            <a:ext cx="2666880" cy="280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Монитор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554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Times New Roman"/>
              </a:rPr>
              <a:t>Монитор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– устройство для визуального воспроизведения символьной и графической информации. Служит в качестве устройства вывода. Они отдаленно напоминают бытовые телевизоры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84720" y="2421000"/>
            <a:ext cx="3059280" cy="3058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Клавиатура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7624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Клавиатура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–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клавишное устройство, предназначенное для управления работой компьютера и ввода в него информации. Информация вводиться в виде алфавитно-цифровых символьных данных.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13560" y="2997360"/>
            <a:ext cx="3430440" cy="22986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Мышь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591516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Мышь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– устройство «графического» управления.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При перемещении мыши по коврику на экране перемещается указатель мыши, при помощи которого можно указывать на объекты и/или выбирать их. Используя клавиши мыши (их может быть две или три) можно задать тот или другой тип операции с объектом.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56360" y="1989000"/>
            <a:ext cx="2448000" cy="1835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443640" y="4076640"/>
            <a:ext cx="2206800" cy="18972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Периферийные устройства ПК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Периферийными называют устройства, подключаемые к компьютеру извне. Обычно эти устройства предназначены для ввода и вывода информации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Вот некоторые из них: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Принтер;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Сканер;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Модем;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VB-карта и спутниковая антенна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Принтер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358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Times New Roman"/>
              </a:rPr>
              <a:t>Принтер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служит для вывода информации на бумажный носитель (бумагу).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Существуют три типа принтеров: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матричный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струйный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лазерный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665680" y="3154320"/>
            <a:ext cx="3083040" cy="30830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4:03:19Z</dcterms:created>
  <dc:creator>bas</dc:creator>
  <dc:description/>
  <dc:language>en-US</dc:language>
  <cp:lastModifiedBy>Пользователь</cp:lastModifiedBy>
  <dcterms:modified xsi:type="dcterms:W3CDTF">2012-03-02T19:36:24Z</dcterms:modified>
  <cp:revision>8</cp:revision>
  <dc:subject/>
  <dc:title>Устройство компьютера</dc:title>
</cp:coreProperties>
</file>