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6B13-8576-4571-8780-5C58CDE50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DC2D-9D72-490C-A840-49A21DCC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02D7-4743-406B-94A7-5D9E422A8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143A-B97E-48AD-8186-E26BE1B61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2AFB-5B0B-4C46-BD65-4EEC458AA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500A-47BA-498A-9029-24112E63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C362-43D9-4F36-A268-FA1DF2A5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07C5-128D-41C4-AE03-65875588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B571-3CB9-40AD-83FB-B284B376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7CEE-19CE-4625-BB06-61E59DCE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D01B-0C6C-42E5-B548-DE0759AF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1D42-C177-47DB-BA3A-CC092DCF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2C55-4545-431B-AE6C-19BE69B6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0014-B9BA-4CC2-8281-EC948363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7673-00FF-4CE8-862A-9E6A49E2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B8DB-D16C-4D10-8893-6602104AB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9B07-BF9A-42ED-B288-2586CF356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B318-CE9C-4C58-ADB4-7AA325C0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A8F9-97BF-40F9-80C5-5AA0FF23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DA55-E302-42D9-B764-04952B66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DECF-1CE6-4E0C-A4DD-79E7B4C0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8BD6-878D-4D5C-BBD4-0A907A96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6B14-FC1C-4999-8F9A-CA442899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063F-7706-4D3B-B076-13EFB790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klyaksa.net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klyaksa.net/" TargetMode="Externa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1448-107E-4120-B76F-2640EB9E3FDC}" type="slidenum"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7308720" y="10008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Times New Roman"/>
                <a:hlinkClick r:id="rId2"/>
              </a:rPr>
              <a:t>www.klyaksa.net</a:t>
            </a:r>
            <a:endParaRPr b="0" lang="en-US" sz="1400" spc="-1" strike="noStrike">
              <a:solidFill>
                <a:srgbClr val="00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C504-1FB1-4D51-98E1-DDA4883B6CF9}" type="slidenum">
              <a:rPr b="1" lang="en-US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659640" y="404640"/>
            <a:ext cx="1801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Verdana"/>
                <a:hlinkClick r:id="rId2"/>
              </a:rPr>
              <a:t>www.klyaksa.net</a:t>
            </a:r>
            <a:endParaRPr b="0" lang="en-US" sz="1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Устройство компьютера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Сканер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3"/>
                </a:solidFill>
                <a:latin typeface="Times New Roman"/>
              </a:rPr>
              <a:t>Сканеры</a:t>
            </a: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 служат для автоматического</a:t>
            </a:r>
            <a:br>
              <a:rPr sz="3200"/>
            </a:b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 ввода текстов и графики </a:t>
            </a:r>
            <a:br>
              <a:rPr sz="3200"/>
            </a:b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в компьютер.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4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marL="464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Сканеры бывают двух типов: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4760" indent="-464760">
              <a:lnSpc>
                <a:spcPct val="8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ручные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4760" indent="-464760">
              <a:lnSpc>
                <a:spcPct val="80000"/>
              </a:lnSpc>
              <a:spcBef>
                <a:spcPts val="4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планшетные.</a:t>
            </a:r>
            <a:br>
              <a:rPr sz="2800"/>
            </a:br>
            <a:br>
              <a:rPr sz="2000"/>
            </a:b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Ручной сканер для компьютера похож на сканер, используемый в супермаркетах для считывания штрих-кода. Такой сканер перемещается по листу с информацией построчно вручную, и информация заносится в компьютер для дальнейшего редактирования. Планшетный сканер выглядит и работает  примерно также, как и ксерокс - приподнимается крышка, текст или рисунок помещается на рабочее поле, и информация считывается. Планшетные сканеры в наше время обычно все цветные. 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533920" y="2214720"/>
            <a:ext cx="3502080" cy="24382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Модем и DVB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Times New Roman"/>
              </a:rPr>
              <a:t>Модем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или модемная плата служит для связи удалённых компьютеров по телефонной сети. Модем бывает внутренний (установлен внутри системного блока) и внешний (располагается рядом с системным блоком и соединяется с ним при помощи кабеля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4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4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Times New Roman"/>
              </a:rPr>
              <a:t>DVB-карта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и </a:t>
            </a:r>
            <a:r>
              <a:rPr b="1" lang="en-US" sz="2400" spc="-1" strike="noStrike">
                <a:solidFill>
                  <a:srgbClr val="000033"/>
                </a:solidFill>
                <a:latin typeface="Times New Roman"/>
              </a:rPr>
              <a:t>спутниковая антенна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 служат для так называемого «асинхронного» подключения компьютера к сети Интернет. При наличии DVB-карты и спутниковой антенны для соединения с Интернетом используется два канала связи: для передачи данных от пользователя используется модем, а для приема – спутниковый канал, скорость потока данных в котором в несколько раз превышает модемную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Что означает «персональный компьютер»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Что такое «базовая конфигурация ПК»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Какие виды мониторов вы знаете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Что такое разрешающая способность мыши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Чем отличаются оптико-механические и оптические мыши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Какие еще устройства ввода информации в компьютер вы знаете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Персональный компьютер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Иногда говорят «персональный компьютер».  Уточнение «персональный» здесь не случайно – это значит свой, личный, доступный большинству людей, ведь существует большое количество других видов компьютеров, которые персональными никак не назвать – рабочие станции для предприятий, серверы для связи множества компьютеров в сеть и др. в дальнейшем, говоря «компьютер» мы будем иметь в виду именно персональный компьютер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На современном рынке вычислительной техники разнообразие модификаций и вариантов компьютеров огромно, но любой, даже самый необычный комплект неизменно включает одни и те же виды устройств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Базовая конфигурация ПК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33"/>
                </a:solidFill>
                <a:uFillTx/>
                <a:latin typeface="Times New Roman"/>
              </a:rPr>
              <a:t>Базовая конфигурация ПК</a:t>
            </a: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 - минимальный комплект аппаратный средств, достаточный для начала работы с компьютером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Системный блок;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Монитор;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Клавиатура;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Мышь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788000" y="3887640"/>
            <a:ext cx="3705120" cy="20210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Системный блок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6275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33"/>
                </a:solidFill>
                <a:latin typeface="Times New Roman"/>
              </a:rPr>
              <a:t>Системный блок</a:t>
            </a:r>
            <a:r>
              <a:rPr b="0" lang="en-US" sz="3000" spc="-1" strike="noStrike">
                <a:solidFill>
                  <a:srgbClr val="000033"/>
                </a:solidFill>
                <a:latin typeface="Times New Roman"/>
              </a:rPr>
              <a:t> – основной блок компьютерной системы. В нем располагаются устройства, считающиеся внутренними. Устройства подключающиеся к системному блоку снаружи, считаются внешними.</a:t>
            </a:r>
            <a:endParaRPr b="0" lang="en-US" sz="30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012000" y="2637000"/>
            <a:ext cx="2666880" cy="280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Монитор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554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3"/>
                </a:solidFill>
                <a:latin typeface="Times New Roman"/>
              </a:rPr>
              <a:t>Монитор</a:t>
            </a: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 – устройство для визуального воспроизведения символьной и графической информации. Служит в качестве устройства вывода. Они отдаленно напоминают бытовые телевизоры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84720" y="2421000"/>
            <a:ext cx="3059280" cy="3058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Клавиатура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76244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Клавиатура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– 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клавишное устройство, предназначенное для управления работой компьютера и ввода в него информации. Информация вводиться в виде алфавитно-цифровых символьных данных.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713560" y="2997360"/>
            <a:ext cx="3430440" cy="22986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Мышь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591516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Мышь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– устройство «графического» управления.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При перемещении мыши по коврику на экране перемещается указатель мыши, при помощи которого можно указывать на объекты и/или выбирать их. Используя клавиши мыши (их может быть две или три) можно задать тот или другой тип операции с объектом.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56360" y="1989000"/>
            <a:ext cx="2448000" cy="1835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443640" y="4076640"/>
            <a:ext cx="2206800" cy="18972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Периферийные устройства ПК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Периферийными называют устройства, подключаемые к компьютеру извне. Обычно эти устройства предназначены для ввода и вывода информации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Вот некоторые из них: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Принтер;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Сканер;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Модем;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VB-карта и спутниковая антенна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Принтер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358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3"/>
                </a:solidFill>
                <a:latin typeface="Times New Roman"/>
              </a:rPr>
              <a:t>Принтер</a:t>
            </a: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 служит для вывода информации на бумажный носитель (бумагу).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Существуют три типа принтеров: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матричный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струйный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лазерный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665680" y="3154320"/>
            <a:ext cx="3083040" cy="30830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14:03:19Z</dcterms:created>
  <dc:creator>bas</dc:creator>
  <dc:description/>
  <dc:language>en-US</dc:language>
  <cp:lastModifiedBy>Пользователь</cp:lastModifiedBy>
  <dcterms:modified xsi:type="dcterms:W3CDTF">2012-03-02T19:36:24Z</dcterms:modified>
  <cp:revision>8</cp:revision>
  <dc:subject/>
  <dc:title>Устройство компьютера</dc:title>
</cp:coreProperties>
</file>