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12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360" y="-7785360"/>
            <a:ext cx="360" cy="169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E3E8-5D3D-4852-A7E1-D175C62D5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4719-80F7-4770-BE34-3EF668794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E74C-96AC-4C3F-B34E-3772A634E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2100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216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2100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216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8662-7E0C-4DE6-A8BB-01EF68864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360" y="-79200"/>
            <a:ext cx="670068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C5EC-9EEB-4CEC-AB07-B23C15B4E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2100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216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48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2100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216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C09D-D20F-4788-A73F-8F0991D1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9CAE-9A80-4CDB-BDA3-CC537C9CF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038E-0D62-410B-B71F-E5E5B6F4A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360" y="-79200"/>
            <a:ext cx="670068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69E4-523D-47DD-A536-26AF74D7C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C9DC-E8AA-4806-820D-461A724E1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2EEE-CD8D-4ABB-9426-608BB6785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6B3F-0F66-431B-B15F-C4D5C8409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38360" indent="-281160">
              <a:lnSpc>
                <a:spcPct val="103000"/>
              </a:lnSpc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338520"/>
            <a:ext cx="2128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90020-90E0-4072-80E8-BAC8FB17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961760" y="16920"/>
            <a:ext cx="736560" cy="734400"/>
            <a:chOff x="7961760" y="16920"/>
            <a:chExt cx="736560" cy="734400"/>
          </a:xfrm>
        </p:grpSpPr>
        <p:sp>
          <p:nvSpPr>
            <p:cNvPr id="18" name=""/>
            <p:cNvSpPr/>
            <p:nvPr/>
          </p:nvSpPr>
          <p:spPr>
            <a:xfrm rot="120000">
              <a:off x="8194320" y="250200"/>
              <a:ext cx="277920" cy="268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8440560" y="480960"/>
              <a:ext cx="158400" cy="139680"/>
              <a:chOff x="8440560" y="480960"/>
              <a:chExt cx="158400" cy="139680"/>
            </a:xfrm>
          </p:grpSpPr>
          <p:sp>
            <p:nvSpPr>
              <p:cNvPr id="20" name=""/>
              <p:cNvSpPr/>
              <p:nvPr/>
            </p:nvSpPr>
            <p:spPr>
              <a:xfrm rot="360000">
                <a:off x="8518320" y="543600"/>
                <a:ext cx="45000" cy="45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360000">
                <a:off x="8560440" y="586440"/>
                <a:ext cx="37080" cy="32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60000">
                <a:off x="8443440" y="484560"/>
                <a:ext cx="73080" cy="6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3" name=""/>
            <p:cNvGrpSpPr/>
            <p:nvPr/>
          </p:nvGrpSpPr>
          <p:grpSpPr>
            <a:xfrm>
              <a:off x="8439120" y="332280"/>
              <a:ext cx="259200" cy="146160"/>
              <a:chOff x="8439120" y="332280"/>
              <a:chExt cx="259200" cy="146160"/>
            </a:xfrm>
          </p:grpSpPr>
          <p:sp>
            <p:nvSpPr>
              <p:cNvPr id="24" name=""/>
              <p:cNvSpPr/>
              <p:nvPr/>
            </p:nvSpPr>
            <p:spPr>
              <a:xfrm rot="19500000">
                <a:off x="8573040" y="361080"/>
                <a:ext cx="54000" cy="81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9500000">
                <a:off x="8641800" y="372960"/>
                <a:ext cx="43200" cy="5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500000">
                <a:off x="8464320" y="347040"/>
                <a:ext cx="88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451000" y="162720"/>
              <a:ext cx="165960" cy="158760"/>
              <a:chOff x="8451000" y="162720"/>
              <a:chExt cx="165960" cy="158760"/>
            </a:xfrm>
          </p:grpSpPr>
          <p:sp>
            <p:nvSpPr>
              <p:cNvPr id="28" name=""/>
              <p:cNvSpPr/>
              <p:nvPr/>
            </p:nvSpPr>
            <p:spPr>
              <a:xfrm rot="16920000">
                <a:off x="8525160" y="201960"/>
                <a:ext cx="48240" cy="50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6920000">
                <a:off x="8576280" y="167400"/>
                <a:ext cx="38520" cy="35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20000">
                <a:off x="8454960" y="239040"/>
                <a:ext cx="78840" cy="7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8255880" y="489960"/>
              <a:ext cx="145080" cy="261360"/>
              <a:chOff x="8255880" y="489960"/>
              <a:chExt cx="145080" cy="261360"/>
            </a:xfrm>
          </p:grpSpPr>
          <p:sp>
            <p:nvSpPr>
              <p:cNvPr id="32" name=""/>
              <p:cNvSpPr/>
              <p:nvPr/>
            </p:nvSpPr>
            <p:spPr>
              <a:xfrm rot="2940000">
                <a:off x="8314200" y="612000"/>
                <a:ext cx="54720" cy="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2940000">
                <a:off x="8338680" y="687240"/>
                <a:ext cx="43560" cy="57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40000">
                <a:off x="8283600" y="504000"/>
                <a:ext cx="89640" cy="11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5" name=""/>
            <p:cNvGrpSpPr/>
            <p:nvPr/>
          </p:nvGrpSpPr>
          <p:grpSpPr>
            <a:xfrm>
              <a:off x="8273880" y="16920"/>
              <a:ext cx="147600" cy="266040"/>
              <a:chOff x="8273880" y="16920"/>
              <a:chExt cx="147600" cy="266040"/>
            </a:xfrm>
          </p:grpSpPr>
          <p:sp>
            <p:nvSpPr>
              <p:cNvPr id="36" name=""/>
              <p:cNvSpPr/>
              <p:nvPr/>
            </p:nvSpPr>
            <p:spPr>
              <a:xfrm rot="13680000">
                <a:off x="8306280" y="81720"/>
                <a:ext cx="53280" cy="81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3680000">
                <a:off x="8299440" y="23400"/>
                <a:ext cx="44280" cy="5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680000">
                <a:off x="8303400" y="150840"/>
                <a:ext cx="88560" cy="118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8083080" y="127440"/>
              <a:ext cx="159480" cy="169200"/>
              <a:chOff x="8083080" y="127440"/>
              <a:chExt cx="159480" cy="169200"/>
            </a:xfrm>
          </p:grpSpPr>
          <p:sp>
            <p:nvSpPr>
              <p:cNvPr id="40" name=""/>
              <p:cNvSpPr/>
              <p:nvPr/>
            </p:nvSpPr>
            <p:spPr>
              <a:xfrm rot="11520000">
                <a:off x="8124480" y="171000"/>
                <a:ext cx="48600" cy="48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1520000">
                <a:off x="8086320" y="130680"/>
                <a:ext cx="385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20000">
                <a:off x="8157240" y="217080"/>
                <a:ext cx="78480" cy="72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7961760" y="309600"/>
              <a:ext cx="254520" cy="142560"/>
              <a:chOff x="7961760" y="309600"/>
              <a:chExt cx="254520" cy="142560"/>
            </a:xfrm>
          </p:grpSpPr>
          <p:sp>
            <p:nvSpPr>
              <p:cNvPr id="44" name=""/>
              <p:cNvSpPr/>
              <p:nvPr/>
            </p:nvSpPr>
            <p:spPr>
              <a:xfrm rot="8880000">
                <a:off x="8036280" y="334440"/>
                <a:ext cx="54000" cy="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8880000">
                <a:off x="7973640" y="342360"/>
                <a:ext cx="42840" cy="5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0000">
                <a:off x="8105040" y="324000"/>
                <a:ext cx="87840" cy="113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8049240" y="455400"/>
              <a:ext cx="192600" cy="160560"/>
              <a:chOff x="8049240" y="455400"/>
              <a:chExt cx="192600" cy="160560"/>
            </a:xfrm>
          </p:grpSpPr>
          <p:sp>
            <p:nvSpPr>
              <p:cNvPr id="48" name=""/>
              <p:cNvSpPr/>
              <p:nvPr/>
            </p:nvSpPr>
            <p:spPr>
              <a:xfrm rot="6540000">
                <a:off x="8103960" y="529200"/>
                <a:ext cx="50400" cy="53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6540000">
                <a:off x="8052840" y="571320"/>
                <a:ext cx="41040" cy="37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40000">
                <a:off x="8150400" y="469080"/>
                <a:ext cx="83520" cy="7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1" name=""/>
          <p:cNvSpPr/>
          <p:nvPr/>
        </p:nvSpPr>
        <p:spPr>
          <a:xfrm>
            <a:off x="0" y="7621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848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-4680" y="5105520"/>
            <a:ext cx="46656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6648480"/>
            <a:ext cx="180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6019920"/>
            <a:ext cx="38088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5400000">
            <a:off x="790884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057400"/>
            <a:ext cx="57866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47440" y="573120"/>
            <a:ext cx="2117520" cy="2183400"/>
            <a:chOff x="847440" y="573120"/>
            <a:chExt cx="2117520" cy="2183400"/>
          </a:xfrm>
        </p:grpSpPr>
        <p:sp>
          <p:nvSpPr>
            <p:cNvPr id="98" name=""/>
            <p:cNvSpPr/>
            <p:nvPr/>
          </p:nvSpPr>
          <p:spPr>
            <a:xfrm rot="300000">
              <a:off x="1515600" y="1249200"/>
              <a:ext cx="790560" cy="841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186280" y="1968840"/>
              <a:ext cx="461880" cy="465120"/>
              <a:chOff x="2186280" y="1968840"/>
              <a:chExt cx="461880" cy="465120"/>
            </a:xfrm>
          </p:grpSpPr>
          <p:sp>
            <p:nvSpPr>
              <p:cNvPr id="100" name=""/>
              <p:cNvSpPr/>
              <p:nvPr/>
            </p:nvSpPr>
            <p:spPr>
              <a:xfrm rot="480000">
                <a:off x="2401560" y="2178000"/>
                <a:ext cx="13068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480000">
                <a:off x="2533680" y="2319120"/>
                <a:ext cx="107280" cy="10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480000">
                <a:off x="2199960" y="1982520"/>
                <a:ext cx="214560" cy="213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02480" y="1525680"/>
              <a:ext cx="762480" cy="429120"/>
              <a:chOff x="2202480" y="1525680"/>
              <a:chExt cx="762480" cy="429120"/>
            </a:xfrm>
          </p:grpSpPr>
          <p:sp>
            <p:nvSpPr>
              <p:cNvPr id="104" name=""/>
              <p:cNvSpPr/>
              <p:nvPr/>
            </p:nvSpPr>
            <p:spPr>
              <a:xfrm rot="19620000">
                <a:off x="2592000" y="1651320"/>
                <a:ext cx="152640" cy="242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9620000">
                <a:off x="2801520" y="1709640"/>
                <a:ext cx="125640" cy="175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9620000">
                <a:off x="2276640" y="1566360"/>
                <a:ext cx="253440" cy="347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231280" y="991800"/>
              <a:ext cx="545400" cy="478080"/>
              <a:chOff x="2231280" y="991800"/>
              <a:chExt cx="545400" cy="478080"/>
            </a:xfrm>
          </p:grpSpPr>
          <p:sp>
            <p:nvSpPr>
              <p:cNvPr id="108" name=""/>
              <p:cNvSpPr/>
              <p:nvPr/>
            </p:nvSpPr>
            <p:spPr>
              <a:xfrm rot="17100000">
                <a:off x="2498400" y="1095480"/>
                <a:ext cx="140400" cy="160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7100000">
                <a:off x="2648160" y="1005480"/>
                <a:ext cx="116280" cy="11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100000">
                <a:off x="2255760" y="1213200"/>
                <a:ext cx="232200" cy="228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660320" y="2009520"/>
              <a:ext cx="421560" cy="747000"/>
              <a:chOff x="1660320" y="2009520"/>
              <a:chExt cx="421560" cy="747000"/>
            </a:xfrm>
          </p:grpSpPr>
          <p:sp>
            <p:nvSpPr>
              <p:cNvPr id="112" name=""/>
              <p:cNvSpPr/>
              <p:nvPr/>
            </p:nvSpPr>
            <p:spPr>
              <a:xfrm rot="3540000">
                <a:off x="1746720" y="2346840"/>
                <a:ext cx="152280" cy="238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540000">
                <a:off x="1724040" y="2574720"/>
                <a:ext cx="125280" cy="169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540000">
                <a:off x="1746360" y="2032920"/>
                <a:ext cx="248760" cy="34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785960" y="573120"/>
              <a:ext cx="422280" cy="751320"/>
              <a:chOff x="1785960" y="573120"/>
              <a:chExt cx="422280" cy="751320"/>
            </a:xfrm>
          </p:grpSpPr>
          <p:sp>
            <p:nvSpPr>
              <p:cNvPr id="116" name=""/>
              <p:cNvSpPr/>
              <p:nvPr/>
            </p:nvSpPr>
            <p:spPr>
              <a:xfrm rot="14340000">
                <a:off x="1962720" y="745560"/>
                <a:ext cx="151920" cy="237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4340000">
                <a:off x="2002320" y="585720"/>
                <a:ext cx="126720" cy="171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4340000">
                <a:off x="1872000" y="957600"/>
                <a:ext cx="249840" cy="342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18240" y="843120"/>
              <a:ext cx="477000" cy="538200"/>
              <a:chOff x="1218240" y="843120"/>
              <a:chExt cx="477000" cy="538200"/>
            </a:xfrm>
          </p:grpSpPr>
          <p:sp>
            <p:nvSpPr>
              <p:cNvPr id="120" name=""/>
              <p:cNvSpPr/>
              <p:nvPr/>
            </p:nvSpPr>
            <p:spPr>
              <a:xfrm rot="11640000">
                <a:off x="1333440" y="972720"/>
                <a:ext cx="139320" cy="158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1640000">
                <a:off x="1230120" y="855000"/>
                <a:ext cx="115560" cy="11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1640000">
                <a:off x="1441440" y="1128600"/>
                <a:ext cx="229680" cy="22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847440" y="1444680"/>
              <a:ext cx="739800" cy="407520"/>
              <a:chOff x="847440" y="1444680"/>
              <a:chExt cx="739800" cy="407520"/>
            </a:xfrm>
          </p:grpSpPr>
          <p:sp>
            <p:nvSpPr>
              <p:cNvPr id="124" name=""/>
              <p:cNvSpPr/>
              <p:nvPr/>
            </p:nvSpPr>
            <p:spPr>
              <a:xfrm rot="9000000">
                <a:off x="1060200" y="1476000"/>
                <a:ext cx="149040" cy="22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9000000">
                <a:off x="880200" y="1476000"/>
                <a:ext cx="122040" cy="1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9000000">
                <a:off x="1275480" y="1483920"/>
                <a:ext cx="245880" cy="328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050120" y="1874520"/>
              <a:ext cx="611640" cy="477720"/>
              <a:chOff x="1050120" y="1874520"/>
              <a:chExt cx="611640" cy="477720"/>
            </a:xfrm>
          </p:grpSpPr>
          <p:sp>
            <p:nvSpPr>
              <p:cNvPr id="128" name=""/>
              <p:cNvSpPr/>
              <p:nvPr/>
            </p:nvSpPr>
            <p:spPr>
              <a:xfrm rot="6720000">
                <a:off x="1215360" y="2084760"/>
                <a:ext cx="151920" cy="1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6720000">
                <a:off x="1065240" y="2212200"/>
                <a:ext cx="126720" cy="11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6720000">
                <a:off x="1378800" y="1917000"/>
                <a:ext cx="251640" cy="236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2554200" y="655812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-220428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-56592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56280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-4680" y="4952880"/>
            <a:ext cx="46656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1752480"/>
            <a:ext cx="38088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1905120"/>
            <a:ext cx="38088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3040" y="6553080"/>
            <a:ext cx="180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72240" y="-5040"/>
            <a:ext cx="1440" cy="31428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38360" indent="-281160">
              <a:lnSpc>
                <a:spcPct val="103000"/>
              </a:lnSpc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5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5.xml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5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4.xml"/><Relationship Id="rId5" Type="http://schemas.openxmlformats.org/officeDocument/2006/relationships/slide" Target="slide19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9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70200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Итоговый урок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о курсу</a:t>
            </a:r>
            <a:br>
              <a:rPr sz="4000"/>
            </a:br>
            <a:r>
              <a:rPr b="1" i="1" lang="en-US" sz="4000" spc="-1" strike="noStrike">
                <a:solidFill>
                  <a:srgbClr val="113f71"/>
                </a:solidFill>
                <a:latin typeface="Monotype Corsiva"/>
              </a:rPr>
              <a:t> </a:t>
            </a:r>
            <a:r>
              <a:rPr b="1" i="1" lang="en-US" sz="5400" spc="-1" strike="noStrike">
                <a:solidFill>
                  <a:srgbClr val="113f71"/>
                </a:solidFill>
                <a:latin typeface="Monotype Corsiva"/>
              </a:rPr>
              <a:t>«Природоведение»</a:t>
            </a:r>
            <a:endParaRPr b="1" i="1" lang="en-US" sz="54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Опят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4844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Маслят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174920" cy="3103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Верб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Берёз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00000" y="1166760"/>
            <a:ext cx="75708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Дуб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095640" cy="2321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376520" cy="5761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90720" y="-69840"/>
            <a:ext cx="67053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113f71"/>
                </a:solidFill>
                <a:latin typeface="Verdana"/>
              </a:rPr>
              <a:t>Царства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Царств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720720" y="1260360"/>
            <a:ext cx="774072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Определить царства и относящиеся к ним организмы из предложенных рисунков на доске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451640" y="3645000"/>
            <a:ext cx="765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4524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340000" y="115920"/>
            <a:ext cx="4537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квариу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000" y="-211320"/>
            <a:ext cx="733572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реда и место обитани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20720" y="1260360"/>
            <a:ext cx="7740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Изобразить пантомимой животное на предложенной карточке, а команды должны угадать его и назвать среду и мето обитания.  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26920" y="4437000"/>
            <a:ext cx="216072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3348000" y="4437000"/>
            <a:ext cx="21607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6084720" y="4437000"/>
            <a:ext cx="216072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7236000" y="981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Охрана природы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684360" y="1197000"/>
            <a:ext cx="2340000" cy="1620720"/>
          </a:xfrm>
          <a:prstGeom prst="roundRect">
            <a:avLst>
              <a:gd name="adj" fmla="val 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3203640" y="2924280"/>
            <a:ext cx="2340000" cy="1620720"/>
          </a:xfrm>
          <a:prstGeom prst="roundRect">
            <a:avLst>
              <a:gd name="adj" fmla="val 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5724360" y="4724280"/>
            <a:ext cx="2340000" cy="1621080"/>
          </a:xfrm>
          <a:prstGeom prst="roundRect">
            <a:avLst>
              <a:gd name="adj" fmla="val 9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900000" y="4680000"/>
            <a:ext cx="1656000" cy="1528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7308720" y="1197000"/>
            <a:ext cx="765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1636560"/>
            <a:ext cx="82296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Book Antiqua"/>
              </a:rPr>
              <a:t>Закрепить, повторить и расширить знания и умения, полученные при изучении животного и растительного мира, охраны природы, экологии.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8920" y="115920"/>
            <a:ext cx="35287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20720" y="58680"/>
            <a:ext cx="72010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Правила поведения в лесу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5952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4720" y="-70200"/>
            <a:ext cx="76500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Правила разведения костр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430360" cy="2952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740560" y="1052640"/>
            <a:ext cx="2503440" cy="295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91636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-47520"/>
            <a:ext cx="882000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Arial"/>
              </a:rPr>
              <a:t>Правила утилизации мусора в походе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92360" y="1287360"/>
            <a:ext cx="6011640" cy="45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09080" cy="445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635280" y="115920"/>
            <a:ext cx="18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280" y="-211320"/>
            <a:ext cx="882180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Verdana"/>
              </a:rPr>
              <a:t>Разнообразие животного мира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1371600"/>
            <a:ext cx="540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«Черный ящик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619280" y="2340000"/>
            <a:ext cx="4500360" cy="3240000"/>
          </a:xfrm>
          <a:prstGeom prst="roundRect">
            <a:avLst>
              <a:gd name="adj" fmla="val 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826920" y="6669000"/>
            <a:ext cx="289080" cy="189000"/>
          </a:xfrm>
          <a:custGeom>
            <a:avLst/>
            <a:gdLst>
              <a:gd name="textAreaLeft" fmla="*/ 12240 w 289080"/>
              <a:gd name="textAreaRight" fmla="*/ 276840 w 28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3016" h="21600">
                <a:moveTo>
                  <a:pt x="0" y="0"/>
                </a:moveTo>
                <a:lnTo>
                  <a:pt x="33016" y="0"/>
                </a:lnTo>
                <a:lnTo>
                  <a:pt x="33016" y="21600"/>
                </a:lnTo>
                <a:lnTo>
                  <a:pt x="0" y="21600"/>
                </a:lnTo>
                <a:close/>
              </a:path>
              <a:path fill="lightenLess" w="33016" h="21600">
                <a:moveTo>
                  <a:pt x="0" y="0"/>
                </a:moveTo>
                <a:lnTo>
                  <a:pt x="33016" y="0"/>
                </a:lnTo>
                <a:lnTo>
                  <a:pt x="31616" y="1400"/>
                </a:lnTo>
                <a:lnTo>
                  <a:pt x="1400" y="1400"/>
                </a:lnTo>
                <a:close/>
              </a:path>
              <a:path fill="darken" w="33016" h="21600">
                <a:moveTo>
                  <a:pt x="33016" y="0"/>
                </a:moveTo>
                <a:lnTo>
                  <a:pt x="33016" y="21600"/>
                </a:lnTo>
                <a:lnTo>
                  <a:pt x="31616" y="20200"/>
                </a:lnTo>
                <a:lnTo>
                  <a:pt x="31616" y="1400"/>
                </a:lnTo>
                <a:close/>
              </a:path>
              <a:path fill="darkenLess" w="33016" h="21600">
                <a:moveTo>
                  <a:pt x="3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6" y="20200"/>
                </a:lnTo>
                <a:close/>
              </a:path>
              <a:path fill="lighten" w="3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6" h="21600">
                <a:moveTo>
                  <a:pt x="9502" y="3794"/>
                </a:moveTo>
                <a:lnTo>
                  <a:pt x="23514" y="10800"/>
                </a:lnTo>
                <a:lnTo>
                  <a:pt x="9502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1332000" y="6669000"/>
            <a:ext cx="288720" cy="18900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2975" h="21600">
                <a:moveTo>
                  <a:pt x="0" y="0"/>
                </a:moveTo>
                <a:lnTo>
                  <a:pt x="32975" y="0"/>
                </a:lnTo>
                <a:lnTo>
                  <a:pt x="32975" y="21600"/>
                </a:lnTo>
                <a:lnTo>
                  <a:pt x="0" y="21600"/>
                </a:lnTo>
                <a:close/>
              </a:path>
              <a:path fill="lightenLess" w="32975" h="21600">
                <a:moveTo>
                  <a:pt x="0" y="0"/>
                </a:moveTo>
                <a:lnTo>
                  <a:pt x="32975" y="0"/>
                </a:lnTo>
                <a:lnTo>
                  <a:pt x="31575" y="1400"/>
                </a:lnTo>
                <a:lnTo>
                  <a:pt x="1400" y="1400"/>
                </a:lnTo>
                <a:close/>
              </a:path>
              <a:path fill="darken" w="32975" h="21600">
                <a:moveTo>
                  <a:pt x="32975" y="0"/>
                </a:moveTo>
                <a:lnTo>
                  <a:pt x="32975" y="21600"/>
                </a:lnTo>
                <a:lnTo>
                  <a:pt x="31575" y="20200"/>
                </a:lnTo>
                <a:lnTo>
                  <a:pt x="31575" y="1400"/>
                </a:lnTo>
                <a:close/>
              </a:path>
              <a:path fill="darkenLess" w="32975" h="21600">
                <a:moveTo>
                  <a:pt x="3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5" y="20200"/>
                </a:lnTo>
                <a:close/>
              </a:path>
              <a:path fill="lighten" w="3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5" h="21600">
                <a:moveTo>
                  <a:pt x="9481" y="3794"/>
                </a:moveTo>
                <a:lnTo>
                  <a:pt x="23494" y="10800"/>
                </a:lnTo>
                <a:lnTo>
                  <a:pt x="9481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5" name="">
            <a:hlinkClick r:id="rId5" action="ppaction://hlinksldjump"/>
          </p:cNvPr>
          <p:cNvSpPr/>
          <p:nvPr/>
        </p:nvSpPr>
        <p:spPr>
          <a:xfrm>
            <a:off x="1835280" y="6669000"/>
            <a:ext cx="288720" cy="18900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2975" h="21600">
                <a:moveTo>
                  <a:pt x="0" y="0"/>
                </a:moveTo>
                <a:lnTo>
                  <a:pt x="32975" y="0"/>
                </a:lnTo>
                <a:lnTo>
                  <a:pt x="32975" y="21600"/>
                </a:lnTo>
                <a:lnTo>
                  <a:pt x="0" y="21600"/>
                </a:lnTo>
                <a:close/>
              </a:path>
              <a:path fill="lightenLess" w="32975" h="21600">
                <a:moveTo>
                  <a:pt x="0" y="0"/>
                </a:moveTo>
                <a:lnTo>
                  <a:pt x="32975" y="0"/>
                </a:lnTo>
                <a:lnTo>
                  <a:pt x="31575" y="1400"/>
                </a:lnTo>
                <a:lnTo>
                  <a:pt x="1400" y="1400"/>
                </a:lnTo>
                <a:close/>
              </a:path>
              <a:path fill="darken" w="32975" h="21600">
                <a:moveTo>
                  <a:pt x="32975" y="0"/>
                </a:moveTo>
                <a:lnTo>
                  <a:pt x="32975" y="21600"/>
                </a:lnTo>
                <a:lnTo>
                  <a:pt x="31575" y="20200"/>
                </a:lnTo>
                <a:lnTo>
                  <a:pt x="31575" y="1400"/>
                </a:lnTo>
                <a:close/>
              </a:path>
              <a:path fill="darkenLess" w="32975" h="21600">
                <a:moveTo>
                  <a:pt x="3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5" y="20200"/>
                </a:lnTo>
                <a:close/>
              </a:path>
              <a:path fill="lighten" w="3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5" h="21600">
                <a:moveTo>
                  <a:pt x="9481" y="3794"/>
                </a:moveTo>
                <a:lnTo>
                  <a:pt x="23494" y="10800"/>
                </a:lnTo>
                <a:lnTo>
                  <a:pt x="9481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лон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68980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рокодил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76108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Заяц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735280" cy="2592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5148360" y="3789360"/>
            <a:ext cx="266544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ит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292720" y="393228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464000" cy="347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331164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rId4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енгуру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72472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971640" y="112536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292720" y="112536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5292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5292720" y="292428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971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971640" y="292428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Жираф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2879640" cy="2447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457440" cy="2822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2952720" cy="244764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2060640"/>
            <a:ext cx="7561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Пегас»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76720" y="4076640"/>
            <a:ext cx="2520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488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93000"/>
              </a:lnSpc>
              <a:spcBef>
                <a:spcPts val="33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Котопёс»</a:t>
            </a:r>
            <a:endParaRPr b="0" lang="en-US" sz="54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2539800" cy="2241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93824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93000"/>
              </a:lnSpc>
              <a:spcBef>
                <a:spcPts val="33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Гепард»</a:t>
            </a:r>
            <a:endParaRPr b="0" lang="en-US" sz="54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2305080" cy="1740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80215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113f71"/>
                </a:solidFill>
                <a:latin typeface="Verdana"/>
              </a:rPr>
              <a:t>Победила дружба</a:t>
            </a:r>
            <a:endParaRPr b="0" lang="en-US" sz="6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3744720" cy="2825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105264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105264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4720" y="285264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105264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285264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285264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68436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3419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6084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ем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0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-258840"/>
            <a:ext cx="9145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Размножение и распространение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228680"/>
            <a:ext cx="8307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Как распространяются и какие приспособления имеют плоды и семена изображенные на рисунке?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6408720" cy="5761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948360" y="1197000"/>
            <a:ext cx="194472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ерник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Брусник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Одуванчик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Клён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Лапух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Черед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льх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Бешенный огурец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Фасоль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Земл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887640" cy="3132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08360" y="-47520"/>
            <a:ext cx="765036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Игра «Конкурс знатоков»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612800"/>
            <a:ext cx="64803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«Пегас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3deb3d"/>
                </a:solidFill>
                <a:latin typeface="Arial"/>
              </a:rPr>
              <a:t>«Котопёс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0099ff"/>
                </a:solidFill>
                <a:latin typeface="Arial"/>
              </a:rPr>
              <a:t>«Гепард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447920" cy="132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07964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Питание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3059280" y="1341360"/>
            <a:ext cx="2592360" cy="237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971640" y="3716280"/>
            <a:ext cx="2592360" cy="237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3645000"/>
            <a:ext cx="259236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схему поступления… веществ из корня к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побегу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Опиши опыт доказывающий содержание…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веществ в почве.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поступление… веществ из листьев к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корню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Благодаря чему… вещества образуются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клетку зеленого листа и назови ее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основные части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летк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376720" cy="1901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376720" cy="1855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24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219640" y="3860640"/>
            <a:ext cx="2376720" cy="1924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1640" y="3141720"/>
            <a:ext cx="30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леного листа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141720"/>
            <a:ext cx="252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ровой ткан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16000" y="6021360"/>
            <a:ext cx="216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 кож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48360" y="6021360"/>
            <a:ext cx="30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шечной ткан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летк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113f71"/>
                </a:solidFill>
                <a:latin typeface="Verdana"/>
              </a:rPr>
              <a:t>«Кто быстрей»</a:t>
            </a:r>
            <a:endParaRPr b="0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42920" y="2637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971640" y="112536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5292720" y="112536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292720" y="292428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971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971640" y="292428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01080" y="6597720"/>
            <a:ext cx="323640" cy="260280"/>
          </a:xfrm>
          <a:custGeom>
            <a:avLst/>
            <a:gdLst>
              <a:gd name="textAreaLeft" fmla="*/ 16560 w 323640"/>
              <a:gd name="textAreaRight" fmla="*/ 307080 w 323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51" h="21600">
                <a:moveTo>
                  <a:pt x="0" y="0"/>
                </a:moveTo>
                <a:lnTo>
                  <a:pt x="26851" y="0"/>
                </a:lnTo>
                <a:lnTo>
                  <a:pt x="26851" y="21600"/>
                </a:lnTo>
                <a:lnTo>
                  <a:pt x="0" y="21600"/>
                </a:lnTo>
                <a:close/>
              </a:path>
              <a:path fill="lightenLess" w="26851" h="21600">
                <a:moveTo>
                  <a:pt x="0" y="0"/>
                </a:moveTo>
                <a:lnTo>
                  <a:pt x="26851" y="0"/>
                </a:lnTo>
                <a:lnTo>
                  <a:pt x="25451" y="1400"/>
                </a:lnTo>
                <a:lnTo>
                  <a:pt x="1400" y="1400"/>
                </a:lnTo>
                <a:close/>
              </a:path>
              <a:path fill="darken" w="26851" h="21600">
                <a:moveTo>
                  <a:pt x="26851" y="0"/>
                </a:moveTo>
                <a:lnTo>
                  <a:pt x="26851" y="21600"/>
                </a:lnTo>
                <a:lnTo>
                  <a:pt x="25451" y="20200"/>
                </a:lnTo>
                <a:lnTo>
                  <a:pt x="25451" y="1400"/>
                </a:lnTo>
                <a:close/>
              </a:path>
              <a:path fill="darkenLess" w="26851" h="21600">
                <a:moveTo>
                  <a:pt x="26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1" y="20200"/>
                </a:lnTo>
                <a:close/>
              </a:path>
              <a:path fill="lighten" w="26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6597720"/>
            <a:ext cx="360360" cy="260280"/>
          </a:xfrm>
          <a:custGeom>
            <a:avLst/>
            <a:gdLst>
              <a:gd name="textAreaLeft" fmla="*/ 16560 w 360360"/>
              <a:gd name="textAreaRight" fmla="*/ 343800 w 360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3794"/>
                </a:moveTo>
                <a:lnTo>
                  <a:pt x="21953" y="10800"/>
                </a:lnTo>
                <a:lnTo>
                  <a:pt x="7940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20720" y="192240"/>
            <a:ext cx="77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71280"/>
            <a:ext cx="4319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Эколог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0720" y="1260360"/>
            <a:ext cx="79200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Arial"/>
              </a:rPr>
              <a:t>Построить цепь питания из как можно большего числа компонентов.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236000" y="3213000"/>
            <a:ext cx="7650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Лес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960720" cy="27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819600" cy="26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Что растёт в лесу?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1260360"/>
            <a:ext cx="7848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Arial"/>
              </a:rPr>
              <a:t>Задание</a:t>
            </a:r>
            <a:r>
              <a:rPr b="0" lang="en-US" sz="1800" spc="-1" strike="noStrike">
                <a:solidFill>
                  <a:srgbClr val="113f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113f71"/>
                </a:solidFill>
                <a:latin typeface="Arial"/>
              </a:rPr>
              <a:t>«Угадай по описанию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ыроежк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805200" cy="511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0039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08-04-16T01:31:18Z</dcterms:modified>
  <cp:revision>4</cp:revision>
  <dc:subject/>
  <dc:title>PowerPoint Template</dc:title>
</cp:coreProperties>
</file>