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140-61C9-4182-80DC-11277482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F57-D96D-478B-879E-352C24D8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E045B-0A4D-45C1-84EE-C5976F97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66815-4345-456B-905E-8EA09F59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5371B-B1DB-4CEA-ACA7-24467C9B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A35E8-CCFC-4755-9525-5FDDE86A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2A033-6DEA-4CAC-94C1-71F4C140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66230-B3C0-4203-A0B5-A0C3E872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48541-0A08-4D58-8045-1AA91D01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3BE6F-F9A0-42D3-8FB7-CA99B26D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F00F0-EB52-42EA-BF62-253DDCF0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87E-A68C-4FA3-8EA4-E6EFD724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F57-5B08-4706-BC44-52A3AE71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A78F-BB2F-4600-8748-4F95A60E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54A8-BE77-458C-AECF-397C69E2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A4A7-13C7-42E3-A574-A521E4B2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AD9B-01A7-44C6-B242-7532EF7B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8D16-93A2-4069-88E0-C1378B6E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A664-5D90-4660-BD2C-771E4855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E04F-DA4C-4C41-8196-A2D34374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9FE-1117-41C6-BFC4-6135936B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A571-4261-40A6-AEA1-0D1138C9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8B15-1866-4859-9BAA-7556EE8E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7080-737E-49C5-9482-04D264AD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82CD-5732-4CE6-8117-646E7597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E5D2-72B9-4793-99C1-5C72B1D3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C7FC-3A1E-4D92-8EF0-0829BE40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6EC5-B541-433A-8D31-0A38BDA4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B2E3-839C-445C-B0F4-597C107C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FECB-3726-4994-8DE9-3C8E4D94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25207-A4DB-440E-BFDA-229A5420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6AC-3250-4C52-A00B-0CB0B675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6F90-80A4-4937-A6D1-889C66A2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0B3C6-33CB-4287-9133-721EB856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AE79-9335-404A-8480-8D62B8C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6A063-22D7-4CA5-8A50-DEB3CC23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5E2D5-6A4B-4E74-8012-6256EF51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EBBB7-FA34-4B9B-B244-7C70041F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8F45-6065-4D04-A586-84474B72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0D12C-2012-444F-AFD4-8B6F2F6C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F4CA0-66C3-4508-B267-11EE5603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9F0EE-1DD8-4F3F-BCF3-AEB9D53B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2DA-B0AF-4ADA-B6CB-E677CD4B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C2306-4D69-40AB-AD17-5185C835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1092A-0B61-4D9C-A204-9A66FB94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C0EC-722E-414D-A873-0F2C245F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9E37E-F460-4183-8429-79A5808F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B3133-DDCD-449D-B0F7-F194194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A823E-CE77-4BCC-938A-6187E93F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6D346-B4EE-4CCE-BFB6-04A90EF1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55803-F30B-43BE-9AA2-80EEC2DB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EBF8B-E18E-4F37-B1AD-62469C89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EB88E-B863-46FA-90B7-E702791B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74F-539D-4270-9363-E90AC67D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9534B-BD65-4994-98A9-12D887FB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DBA50-9F3E-4512-A719-449E25D7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8AB5A-917C-4010-BC72-9733D50C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29CD7-0823-45B9-B8E5-A537BB06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5E2C5-59F7-402D-91ED-30881D93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A16D4-2523-4827-8849-71533E10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4D12-9FA5-429C-8150-DCD07BA1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8B2DE-5C35-4479-84F6-8DDB6CF6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16AED-C4F4-4413-A8B4-F32832A8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2F54B-276E-4EC9-8BAA-B2B06C08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F0D-9940-4D62-8D58-101C06A4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478DC-C0D8-4D41-9778-27A1C376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0E716-8983-41F5-ACA2-A6AF5A6C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584D0-6F68-43D1-BFDE-AD959BC3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7C2D8-399A-402B-8E59-59D4038B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ABD94-C27A-43D7-95FB-E5162C4E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30C68-AA34-438F-8778-34E50314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9224F-E852-4561-9B91-0C9FF35B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7CB56-A639-48DD-9A59-6EC2C29D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B0078-4DD9-4A1D-91ED-0EF112B9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D1583-6180-485E-99CB-CAC06252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1FF-FBD8-49D4-B437-E369F745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2FB0C-5F7E-4F31-BFD1-19607316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DE7AC-95A5-4B82-BC53-9B96DE80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B7A01-6DDC-41D3-BC9A-6D0EA7D0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A1FE2-DFCA-423E-8C0C-EB11C938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16E39-69AE-4611-A1B6-234CEDE4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9815C-34B1-4EAD-854B-4C002CAE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3E943-BCB3-453D-95E2-CCD09CC6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85312-9C1E-4FCD-9444-14061A69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1B546-34E2-4ACE-B3FA-D890B8FD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BE029-D100-4A19-9E1E-0905E570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C67-70FD-4EA1-B4FD-A4560321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7164A-F1BE-48C6-8AE4-57188D01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A8234-94CD-459F-95D1-5CCF893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CA827-14CE-4F1A-B1B4-CED727BD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F47EA-DD63-4C5C-BBC7-61EF2031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D80FD-7EAC-4CE8-8146-7C912545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206BE-ED0E-42D0-9DBA-60675D5B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88C47-20E3-4474-86F6-82DFE97C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73DE0-4F0C-4527-8515-9F2CB584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E01B3-30C1-410D-8089-38EEB648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2E083-42C5-43CD-B058-9E7AA736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8EC-32A3-4A8D-8EA6-CC2E7AAF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A6683-DEE2-4FFF-AA4E-8CF16C76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BBC9A-E00D-4C82-9F02-9F6F2058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1691E-1327-4431-851D-76D9E615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199E7-49E6-470B-B0D2-E8D2A43D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87521-9A36-487B-9EAA-27B0DC42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A392A-00EA-4C92-A862-BC0FE184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0D725-B399-4F0D-B7D0-F96CD60A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E42F1-795C-4EC9-9681-3493876D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95C7A-7C30-4BE2-BBDF-7D6C159B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645CE-D7AD-4881-9F18-41ED73DA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4873-9CDB-410B-B2B9-CDE61EE3CA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A271-87B6-4592-AEF1-28BDF07CD21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4775-4919-463A-941D-F65ACAAAFE5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D52E-FB77-4349-B948-DE2F94C9A6E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C1C1-D87F-449E-94B6-4EB4476FC4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23E6-C209-4AF0-8B01-334E55C58F3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1BB9-603F-47C3-B3D6-0E86A5E1243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33BB-0A18-44F9-A88B-0EA7C4E0CAC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D649-190D-4541-93EE-E35921B687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25360" y="2048040"/>
            <a:ext cx="8669520" cy="13237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28840" y="5143680"/>
            <a:ext cx="6400800" cy="97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Franklin Gothic Book"/>
              </a:rPr>
              <a:t>МБОУ ДОД станция юных натуралист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Franklin Gothic Book"/>
              </a:rPr>
              <a:t>Педагог дополнительного образования Шилина Е.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1" descr=""/>
          <p:cNvPicPr/>
          <p:nvPr/>
        </p:nvPicPr>
        <p:blipFill>
          <a:blip r:embed="rId2"/>
          <a:stretch/>
        </p:blipFill>
        <p:spPr>
          <a:xfrm>
            <a:off x="357120" y="428760"/>
            <a:ext cx="13510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C:\Documents and Settings\User\Рабочий стол\свеча\DSC00891.JPG"/>
          <p:cNvPicPr/>
          <p:nvPr/>
        </p:nvPicPr>
        <p:blipFill>
          <a:blip r:embed="rId1"/>
          <a:stretch/>
        </p:blipFill>
        <p:spPr>
          <a:xfrm>
            <a:off x="1071720" y="1428840"/>
            <a:ext cx="2346120" cy="17762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" descr="C:\Documents and Settings\User\Рабочий стол\свеча\DSC00892.JPG"/>
          <p:cNvPicPr/>
          <p:nvPr/>
        </p:nvPicPr>
        <p:blipFill>
          <a:blip r:embed="rId2"/>
          <a:stretch/>
        </p:blipFill>
        <p:spPr>
          <a:xfrm>
            <a:off x="1143000" y="3857760"/>
            <a:ext cx="2238480" cy="209844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6"/>
          <p:cNvSpPr/>
          <p:nvPr/>
        </p:nvSpPr>
        <p:spPr>
          <a:xfrm>
            <a:off x="4143240" y="22860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1.  Разрезать свечу и вытащить фитиль.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7"/>
          <p:cNvSpPr/>
          <p:nvPr/>
        </p:nvSpPr>
        <p:spPr>
          <a:xfrm>
            <a:off x="3925800" y="457200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. Расплавить воск (парафин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Прямоугольник 8" descr=""/>
          <p:cNvPicPr/>
          <p:nvPr/>
        </p:nvPicPr>
        <p:blipFill>
          <a:blip r:embed="rId3"/>
          <a:stretch/>
        </p:blipFill>
        <p:spPr>
          <a:xfrm>
            <a:off x="2120760" y="304920"/>
            <a:ext cx="535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3" descr="C:\Documents and Settings\User\Рабочий стол\свеча\DSC00893.JPG"/>
          <p:cNvPicPr/>
          <p:nvPr/>
        </p:nvPicPr>
        <p:blipFill>
          <a:blip r:embed="rId1"/>
          <a:stretch/>
        </p:blipFill>
        <p:spPr>
          <a:xfrm>
            <a:off x="1143000" y="1285920"/>
            <a:ext cx="2076480" cy="208260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C:\Documents and Settings\User\Рабочий стол\свеча\DSC00894.JPG"/>
          <p:cNvPicPr/>
          <p:nvPr/>
        </p:nvPicPr>
        <p:blipFill>
          <a:blip r:embed="rId2"/>
          <a:stretch/>
        </p:blipFill>
        <p:spPr>
          <a:xfrm>
            <a:off x="1143000" y="3929040"/>
            <a:ext cx="2063880" cy="156204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9"/>
          <p:cNvSpPr/>
          <p:nvPr/>
        </p:nvSpPr>
        <p:spPr>
          <a:xfrm>
            <a:off x="3889440" y="192888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3. Перелить воск в фор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0"/>
          <p:cNvSpPr/>
          <p:nvPr/>
        </p:nvSpPr>
        <p:spPr>
          <a:xfrm>
            <a:off x="3670200" y="457200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4. Опустить фитиль в жидкий во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5" descr="C:\Documents and Settings\User\Рабочий стол\свеча\DSC00896.JPG"/>
          <p:cNvPicPr/>
          <p:nvPr/>
        </p:nvPicPr>
        <p:blipFill>
          <a:blip r:embed="rId1"/>
          <a:stretch/>
        </p:blipFill>
        <p:spPr>
          <a:xfrm>
            <a:off x="1571760" y="1000080"/>
            <a:ext cx="2020680" cy="17114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7" descr="C:\Documents and Settings\User\Рабочий стол\свеча\DSC00897.JPG"/>
          <p:cNvPicPr/>
          <p:nvPr/>
        </p:nvPicPr>
        <p:blipFill>
          <a:blip r:embed="rId2"/>
          <a:stretch/>
        </p:blipFill>
        <p:spPr>
          <a:xfrm>
            <a:off x="1428840" y="4000680"/>
            <a:ext cx="2020680" cy="180792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6"/>
          <p:cNvSpPr/>
          <p:nvPr/>
        </p:nvSpPr>
        <p:spPr>
          <a:xfrm>
            <a:off x="3857760" y="1500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5. Закрепить фитиль в вертикальном поло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7"/>
          <p:cNvSpPr/>
          <p:nvPr/>
        </p:nvSpPr>
        <p:spPr>
          <a:xfrm>
            <a:off x="4226040" y="471492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6. Застывший воск в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9" descr="C:\Documents and Settings\User\Рабочий стол\свеча\DSC00990.JPG"/>
          <p:cNvPicPr/>
          <p:nvPr/>
        </p:nvPicPr>
        <p:blipFill>
          <a:blip r:embed="rId1"/>
          <a:stretch/>
        </p:blipFill>
        <p:spPr>
          <a:xfrm>
            <a:off x="1571760" y="3786120"/>
            <a:ext cx="2065320" cy="191304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8" descr="C:\Documents and Settings\User\Рабочий стол\свеча\DSC00901.JPG"/>
          <p:cNvPicPr/>
          <p:nvPr/>
        </p:nvPicPr>
        <p:blipFill>
          <a:blip r:embed="rId2"/>
          <a:stretch/>
        </p:blipFill>
        <p:spPr>
          <a:xfrm>
            <a:off x="1643040" y="1143000"/>
            <a:ext cx="2001960" cy="20304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5"/>
          <p:cNvSpPr/>
          <p:nvPr/>
        </p:nvSpPr>
        <p:spPr>
          <a:xfrm>
            <a:off x="3857760" y="1571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7. Нагреть форму на водяной бане и вытащить све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6"/>
          <p:cNvSpPr/>
          <p:nvPr/>
        </p:nvSpPr>
        <p:spPr>
          <a:xfrm>
            <a:off x="4205880" y="450072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8. Заготовка св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2214720" y="571680"/>
            <a:ext cx="4500360" cy="36828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Ламинирование св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2" descr="C:\Documents and Settings\User\Рабочий стол\СВЕЧКА\DSC01798.JPG"/>
          <p:cNvPicPr/>
          <p:nvPr/>
        </p:nvPicPr>
        <p:blipFill>
          <a:blip r:embed="rId1"/>
          <a:stretch/>
        </p:blipFill>
        <p:spPr>
          <a:xfrm>
            <a:off x="1285920" y="1285920"/>
            <a:ext cx="2789280" cy="20937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3" descr="C:\Documents and Settings\User\Рабочий стол\СВЕЧКА\DSC01801.JPG"/>
          <p:cNvPicPr/>
          <p:nvPr/>
        </p:nvPicPr>
        <p:blipFill>
          <a:blip r:embed="rId2"/>
          <a:stretch/>
        </p:blipFill>
        <p:spPr>
          <a:xfrm>
            <a:off x="1285920" y="3714840"/>
            <a:ext cx="2787480" cy="209376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4"/>
          <p:cNvSpPr/>
          <p:nvPr/>
        </p:nvSpPr>
        <p:spPr>
          <a:xfrm>
            <a:off x="4642200" y="492912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. Свеча с готовым коллаж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5"/>
          <p:cNvSpPr/>
          <p:nvPr/>
        </p:nvSpPr>
        <p:spPr>
          <a:xfrm>
            <a:off x="4071960" y="1714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1. Приклеиваем прессованные цветы  и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1" descr="C:\Documents and Settings\User\Рабочий стол\СВЕЧКА\DSC01802.JPG"/>
          <p:cNvPicPr/>
          <p:nvPr/>
        </p:nvPicPr>
        <p:blipFill>
          <a:blip r:embed="rId1"/>
          <a:stretch/>
        </p:blipFill>
        <p:spPr>
          <a:xfrm>
            <a:off x="714240" y="642960"/>
            <a:ext cx="2724120" cy="20527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2" descr="C:\Documents and Settings\User\Рабочий стол\СВЕЧКА\DSC01800.JPG"/>
          <p:cNvPicPr/>
          <p:nvPr/>
        </p:nvPicPr>
        <p:blipFill>
          <a:blip r:embed="rId2"/>
          <a:stretch/>
        </p:blipFill>
        <p:spPr>
          <a:xfrm>
            <a:off x="785880" y="3571920"/>
            <a:ext cx="2744640" cy="205272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3"/>
          <p:cNvSpPr/>
          <p:nvPr/>
        </p:nvSpPr>
        <p:spPr>
          <a:xfrm>
            <a:off x="3500640" y="1357200"/>
            <a:ext cx="45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3. Расплавляем ламинирующий со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4"/>
          <p:cNvSpPr/>
          <p:nvPr/>
        </p:nvSpPr>
        <p:spPr>
          <a:xfrm>
            <a:off x="3929040" y="435780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4. Ламинируем све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Рисунок 1" descr="C:\Documents and Settings\User\Рабочий стол\СВЕЧКА\DSC01804.JPG"/>
          <p:cNvPicPr/>
          <p:nvPr/>
        </p:nvPicPr>
        <p:blipFill>
          <a:blip r:embed="rId1"/>
          <a:stretch/>
        </p:blipFill>
        <p:spPr>
          <a:xfrm>
            <a:off x="714240" y="428760"/>
            <a:ext cx="2979720" cy="22320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"/>
          <p:cNvSpPr/>
          <p:nvPr/>
        </p:nvSpPr>
        <p:spPr>
          <a:xfrm>
            <a:off x="4712040" y="121500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5. Готовая свеч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D:\АЛЁНКА  Z (мам-ба)\Елена ART\IMG_0567.jpg"/>
          <p:cNvPicPr/>
          <p:nvPr/>
        </p:nvPicPr>
        <p:blipFill>
          <a:blip r:embed="rId2"/>
          <a:stretch/>
        </p:blipFill>
        <p:spPr>
          <a:xfrm>
            <a:off x="2857680" y="328608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Прямоугольник 1" descr=""/>
          <p:cNvPicPr/>
          <p:nvPr/>
        </p:nvPicPr>
        <p:blipFill>
          <a:blip r:embed="rId1"/>
          <a:stretch/>
        </p:blipFill>
        <p:spPr>
          <a:xfrm>
            <a:off x="1852560" y="609480"/>
            <a:ext cx="5207040" cy="438120"/>
          </a:xfrm>
          <a:prstGeom prst="rect">
            <a:avLst/>
          </a:prstGeom>
          <a:ln w="0">
            <a:noFill/>
          </a:ln>
        </p:spPr>
      </p:pic>
      <p:sp>
        <p:nvSpPr>
          <p:cNvPr id="432" name="TextBox 3"/>
          <p:cNvSpPr/>
          <p:nvPr/>
        </p:nvSpPr>
        <p:spPr>
          <a:xfrm>
            <a:off x="1500120" y="2357280"/>
            <a:ext cx="69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1.М.Быстрицкая  «Цветы от  коллажа к  декупажу»  - Москва «ЭКСМО», 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. Авторские фотографии 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3:32:20Z</dcterms:created>
  <dc:creator>ВАНЁК</dc:creator>
  <dc:description/>
  <dc:language>en-US</dc:language>
  <cp:lastModifiedBy>dom</cp:lastModifiedBy>
  <dcterms:modified xsi:type="dcterms:W3CDTF">2013-01-16T17:53:05Z</dcterms:modified>
  <cp:revision>10</cp:revision>
  <dc:subject/>
  <dc:title>Слайд 1</dc:title>
</cp:coreProperties>
</file>