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CAD-82E5-4D2E-9C06-A0413AC0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FBB-EE86-498B-B9ED-4F6825F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39E0C-8635-4DF0-860D-6F7598B3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F8083-DDFC-435B-8818-7FA1C3E1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B204-EA65-4E19-AC54-4667841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9B3D-9D18-4C0D-AA63-0D66914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918A-EB97-4B0C-A7FF-B4813D0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37E7-0B5A-4B9F-BF06-D70A3C6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AC87A-2196-4322-8418-5118EFD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83ED-2992-49A5-9CC4-1C6A3D4D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50D9C-0EB7-429E-B90F-99BCBFAA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E6A-518E-4E9C-A3CC-2A8F8DA2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EEF-A6D7-4833-94F7-E627F56F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6B19-5AB7-4340-AAA6-DCD72EB7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9B30-1A64-457C-A189-1D1211D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CF9-1495-4ECB-BA6A-73CA24A3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865-6504-4F49-9BD0-3AF01416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CEC8-10E4-4716-B4C6-B7456B8F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D01D-70F3-4A69-9ECA-733D829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0AA9-AF9E-42B8-A59F-585A983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2F9-FEB2-4335-8CB2-3D08CA6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B52-6B8C-489C-9BA6-23569CD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79B9-B906-4F9A-9370-47F702A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83C6-52F1-43BA-B452-ED29D81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D71-EE05-4909-8218-744CB5C4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BAE-22C7-4423-BE06-991E5367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61F2-5B22-4A61-9DA4-5D093C38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9AFC-2859-47A2-B3AD-8FD17FE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AFBD-BD2A-49B0-B2A5-63696F3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60C1-B9A7-40A4-86C2-12E33FA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69AD-1166-40C4-8A22-F2AC2B0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ED1-8867-49A2-90B1-62588D4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7D81-68A6-4E2E-8276-18BF7588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8865-094B-4069-95BF-0896B19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5446-D307-46D3-A149-1ADAE15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7730-1FAB-4A1E-8DEA-5771ED7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56CA-5E54-43B0-9DA2-A8108DF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EE5A-8EFE-4991-A134-845D9A36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9FB6-C45D-4AB0-9EFE-74290697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FDCB-33A5-4687-B63F-270656E8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3F19-B74D-4370-88C9-0CAAB262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E411-4544-48B6-BCD4-41CA1A4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00E-F309-4657-9A10-C45D81D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4EC8-A975-4D0C-AF7E-B992091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562A-74E1-4B1F-9E7B-27E428C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6831-586E-4180-8505-5B64EF0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F4BA-0A2C-412E-8207-F7DFB8B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7985-F27B-4781-9D4B-235B62D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08BB-4A67-4A3D-AE74-4AFCE96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FAA7-697C-49C3-AD2C-55CBF26C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C0E7-E217-4644-8A4D-90CA4011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3AD7-4354-410A-B80E-FD35C77F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17727-63ED-4411-A31E-1B6F7A0E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09E-A36A-4A09-A1D4-986C5C46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2875E-8098-4DD3-99E0-C6B2FE6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A52A-087C-418A-8343-852AA9C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CFBE-5F64-4309-B7AA-65CF735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9D2C-B8C9-4D46-A813-A6C2983C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74ED-07AE-48A6-8FBA-D289D387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71CC-9970-48CB-A811-75EBFB6F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2520-5D81-4079-A410-642E7A0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0EAEC-34EA-4B6F-9757-8ED2D5B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D9A9-3609-4A35-B252-632D96C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6C0B2-1A74-498E-A1CF-D2B21DBB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5E9-4E27-4C54-A699-8D6748E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1222-E9B2-4585-9E20-28DFA25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9376-ADC5-4776-A20C-AC81ABA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458D-3A3D-47FD-A09A-AC15764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B11F-BE05-4AB8-9D80-3E8324D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B2A68-90CA-40EA-8FEE-548BB8F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AE45-6607-4C0F-92CE-D06E429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D334-6599-4C10-AC1A-9B2BECE3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BFD6-20A8-4DE0-9EC9-BA30827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E2CD-DEE8-43AA-856A-8236BCF9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843F-54F3-42EB-8079-6FC051D2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CD0-B020-4C4C-A91A-A975E025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24D5-B34A-407F-A2EF-FAF680A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0866-71CF-4C40-9D6F-7379AC38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2AEB-D969-416B-B1F8-60CC30D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77AC-BFB9-4B98-91B2-524296B1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C7CB-13B3-4F41-B7A2-D2D439D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06FB-971C-43D7-8FFB-C22BBDE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7F78-A7A5-4EDD-B4E5-74E63B5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3BBA3-131C-4345-92C5-9E22298E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CFE8C-2537-4F7C-83EC-C0D5A25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6C83-4576-48CC-81F1-8942259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589-FB87-49D2-85EB-E00A5FA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A398-788F-4EE5-9144-13CA9FE9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C24AB-86D1-4693-AADD-7464E40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1227-17AB-4F5C-B440-86F34EE5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17973-E59F-4ED0-A9BF-2C1FA281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73A7-E995-4BC5-ACA3-00270F2B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C945C-26BF-41F6-A931-7FACFB23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98DD-58D4-43DC-A209-EC1B3B2A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2C671-1099-403D-9EAA-4C3B7856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1B947-1750-4353-B6FE-A82B7B7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C5599-9D53-4FE9-A701-4D161B2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DC6-EBA1-4603-9C9B-6B54372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5FE6-429F-4294-8404-A4EEBEC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96F7-C4DA-4548-8CF4-C0D0C6A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BB5CF-5D71-479F-8B4F-B42DFA65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3563-6353-4EA9-9B9E-7E51D17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204C-FA60-4736-9665-3CF1FFE6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7FCE6-EA7A-45E7-AE9C-417ADBD9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9D3A-942B-44FC-9E41-92698BE6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A26B4-4C06-4889-A35D-EC220567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71F97-4A22-4BD8-98A5-C2828933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31C38-3E43-47A6-8E41-F7EE8BD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A78-6F2B-4FBC-AF86-429A033511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17B2-FE20-4218-85BB-7343446CB2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DF4-9584-4EDE-9C54-A2475B0730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AD6-C4A4-43F5-A0B0-4F2BDE6662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137-4A95-4D0F-99D1-DD68D9287D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1492-778D-4623-B697-181D5BFE6D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854-21C2-4CEB-B037-FA5F392B8E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6B2-6783-45A7-B98C-435AAB66C1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9A9A-005A-4FD5-9DF0-1B85D67D71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5360" y="2048040"/>
            <a:ext cx="8669520" cy="1323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5143680"/>
            <a:ext cx="64008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МБОУ ДОД станция юных натуралис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Педагог дополнительного образования Шилина Е.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1351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C:\Documents and Settings\User\Рабочий стол\свеча\DSC00891.JPG"/>
          <p:cNvPicPr/>
          <p:nvPr/>
        </p:nvPicPr>
        <p:blipFill>
          <a:blip r:embed="rId1"/>
          <a:stretch/>
        </p:blipFill>
        <p:spPr>
          <a:xfrm>
            <a:off x="1071720" y="1428840"/>
            <a:ext cx="2346120" cy="17762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C:\Documents and Settings\User\Рабочий стол\свеча\DSC00892.JPG"/>
          <p:cNvPicPr/>
          <p:nvPr/>
        </p:nvPicPr>
        <p:blipFill>
          <a:blip r:embed="rId2"/>
          <a:stretch/>
        </p:blipFill>
        <p:spPr>
          <a:xfrm>
            <a:off x="1143000" y="3857760"/>
            <a:ext cx="2238480" cy="2098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6"/>
          <p:cNvSpPr/>
          <p:nvPr/>
        </p:nvSpPr>
        <p:spPr>
          <a:xfrm>
            <a:off x="4143240" y="2286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  Разрезать свечу и вытащить фитиль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3925800" y="457200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Расплавить воск (парафи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Прямоугольник 8" descr=""/>
          <p:cNvPicPr/>
          <p:nvPr/>
        </p:nvPicPr>
        <p:blipFill>
          <a:blip r:embed="rId3"/>
          <a:stretch/>
        </p:blipFill>
        <p:spPr>
          <a:xfrm>
            <a:off x="2120760" y="304920"/>
            <a:ext cx="535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C:\Documents and Settings\User\Рабочий стол\свеча\DSC00893.JPG"/>
          <p:cNvPicPr/>
          <p:nvPr/>
        </p:nvPicPr>
        <p:blipFill>
          <a:blip r:embed="rId1"/>
          <a:stretch/>
        </p:blipFill>
        <p:spPr>
          <a:xfrm>
            <a:off x="1143000" y="1285920"/>
            <a:ext cx="2076480" cy="20826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:\Documents and Settings\User\Рабочий стол\свеча\DSC00894.JPG"/>
          <p:cNvPicPr/>
          <p:nvPr/>
        </p:nvPicPr>
        <p:blipFill>
          <a:blip r:embed="rId2"/>
          <a:stretch/>
        </p:blipFill>
        <p:spPr>
          <a:xfrm>
            <a:off x="1143000" y="3929040"/>
            <a:ext cx="2063880" cy="15620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9"/>
          <p:cNvSpPr/>
          <p:nvPr/>
        </p:nvSpPr>
        <p:spPr>
          <a:xfrm>
            <a:off x="3889440" y="192888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3. Перелить воск в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0"/>
          <p:cNvSpPr/>
          <p:nvPr/>
        </p:nvSpPr>
        <p:spPr>
          <a:xfrm>
            <a:off x="3670200" y="457200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4. Опустить фитиль в жидкий во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5" descr="C:\Documents and Settings\User\Рабочий стол\свеча\DSC00896.JPG"/>
          <p:cNvPicPr/>
          <p:nvPr/>
        </p:nvPicPr>
        <p:blipFill>
          <a:blip r:embed="rId1"/>
          <a:stretch/>
        </p:blipFill>
        <p:spPr>
          <a:xfrm>
            <a:off x="1571760" y="1000080"/>
            <a:ext cx="2020680" cy="1711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7" descr="C:\Documents and Settings\User\Рабочий стол\свеча\DSC00897.JPG"/>
          <p:cNvPicPr/>
          <p:nvPr/>
        </p:nvPicPr>
        <p:blipFill>
          <a:blip r:embed="rId2"/>
          <a:stretch/>
        </p:blipFill>
        <p:spPr>
          <a:xfrm>
            <a:off x="1428840" y="4000680"/>
            <a:ext cx="2020680" cy="18079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6"/>
          <p:cNvSpPr/>
          <p:nvPr/>
        </p:nvSpPr>
        <p:spPr>
          <a:xfrm>
            <a:off x="385776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. Закрепить фитиль в вертикаль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4226040" y="471492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6. Застывший воск в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9" descr="C:\Documents and Settings\User\Рабочий стол\свеча\DSC00990.JPG"/>
          <p:cNvPicPr/>
          <p:nvPr/>
        </p:nvPicPr>
        <p:blipFill>
          <a:blip r:embed="rId1"/>
          <a:stretch/>
        </p:blipFill>
        <p:spPr>
          <a:xfrm>
            <a:off x="1571760" y="3786120"/>
            <a:ext cx="2065320" cy="19130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C:\Documents and Settings\User\Рабочий стол\свеча\DSC00901.JPG"/>
          <p:cNvPicPr/>
          <p:nvPr/>
        </p:nvPicPr>
        <p:blipFill>
          <a:blip r:embed="rId2"/>
          <a:stretch/>
        </p:blipFill>
        <p:spPr>
          <a:xfrm>
            <a:off x="1643040" y="1143000"/>
            <a:ext cx="2001960" cy="2030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5"/>
          <p:cNvSpPr/>
          <p:nvPr/>
        </p:nvSpPr>
        <p:spPr>
          <a:xfrm>
            <a:off x="3857760" y="1571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. Нагреть форму на водяной бане и вытащить св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4205880" y="450072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8. Заготовка св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2214720" y="571680"/>
            <a:ext cx="4500360" cy="36828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Ламинирование св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C:\Documents and Settings\User\Рабочий стол\СВЕЧКА\DSC01798.JPG"/>
          <p:cNvPicPr/>
          <p:nvPr/>
        </p:nvPicPr>
        <p:blipFill>
          <a:blip r:embed="rId1"/>
          <a:stretch/>
        </p:blipFill>
        <p:spPr>
          <a:xfrm>
            <a:off x="1285920" y="1285920"/>
            <a:ext cx="2789280" cy="20937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3" descr="C:\Documents and Settings\User\Рабочий стол\СВЕЧКА\DSC01801.JPG"/>
          <p:cNvPicPr/>
          <p:nvPr/>
        </p:nvPicPr>
        <p:blipFill>
          <a:blip r:embed="rId2"/>
          <a:stretch/>
        </p:blipFill>
        <p:spPr>
          <a:xfrm>
            <a:off x="1285920" y="3714840"/>
            <a:ext cx="2787480" cy="20937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4642200" y="492912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Свеча с готовым колла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4071960" y="1714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 Приклеиваем прессованные цветы  и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C:\Documents and Settings\User\Рабочий стол\СВЕЧКА\DSC01802.JPG"/>
          <p:cNvPicPr/>
          <p:nvPr/>
        </p:nvPicPr>
        <p:blipFill>
          <a:blip r:embed="rId1"/>
          <a:stretch/>
        </p:blipFill>
        <p:spPr>
          <a:xfrm>
            <a:off x="714240" y="642960"/>
            <a:ext cx="2724120" cy="2052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" descr="C:\Documents and Settings\User\Рабочий стол\СВЕЧКА\DSC01800.JPG"/>
          <p:cNvPicPr/>
          <p:nvPr/>
        </p:nvPicPr>
        <p:blipFill>
          <a:blip r:embed="rId2"/>
          <a:stretch/>
        </p:blipFill>
        <p:spPr>
          <a:xfrm>
            <a:off x="785880" y="3571920"/>
            <a:ext cx="2744640" cy="2052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500640" y="1357200"/>
            <a:ext cx="45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3. Расплавляем ламинирующий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929040" y="435780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4. Ламинируем св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1" descr="C:\Documents and Settings\User\Рабочий стол\СВЕЧКА\DSC01804.JPG"/>
          <p:cNvPicPr/>
          <p:nvPr/>
        </p:nvPicPr>
        <p:blipFill>
          <a:blip r:embed="rId1"/>
          <a:stretch/>
        </p:blipFill>
        <p:spPr>
          <a:xfrm>
            <a:off x="714240" y="428760"/>
            <a:ext cx="2979720" cy="2232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4712040" y="121500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5. Готовая све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АЛЁНКА  Z (мам-ба)\Елена ART\IMG_0567.jpg"/>
          <p:cNvPicPr/>
          <p:nvPr/>
        </p:nvPicPr>
        <p:blipFill>
          <a:blip r:embed="rId2"/>
          <a:stretch/>
        </p:blipFill>
        <p:spPr>
          <a:xfrm>
            <a:off x="2857680" y="328608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1852560" y="609480"/>
            <a:ext cx="5207040" cy="4381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"/>
          <p:cNvSpPr/>
          <p:nvPr/>
        </p:nvSpPr>
        <p:spPr>
          <a:xfrm>
            <a:off x="1500120" y="235728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1.М.Быстрицкая  «Цветы от  коллажа к  декупажу»  - Москва «ЭКСМО»,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. Авторские фотографии 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3:32:20Z</dcterms:created>
  <dc:creator>ВАНЁК</dc:creator>
  <dc:description/>
  <dc:language>en-US</dc:language>
  <cp:lastModifiedBy>dom</cp:lastModifiedBy>
  <dcterms:modified xsi:type="dcterms:W3CDTF">2013-01-16T17:53:05Z</dcterms:modified>
  <cp:revision>10</cp:revision>
  <dc:subject/>
  <dc:title>Слайд 1</dc:title>
</cp:coreProperties>
</file>