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click.wav" ContentType="audio/x-wav"/>
  <Override PartName="/ppt/media/image11.wmf" ContentType="image/x-wmf"/>
  <Override PartName="/ppt/media/image10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6.gif" ContentType="image/gif"/>
  <Override PartName="/ppt/media/image9.png" ContentType="image/png"/>
  <Override PartName="/ppt/media/image17.wmf" ContentType="image/x-wmf"/>
  <Override PartName="/ppt/media/image4.jpeg" ContentType="image/jpeg"/>
  <Override PartName="/ppt/media/image22.gif" ContentType="image/gif"/>
  <Override PartName="/ppt/media/image24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.wmf" ContentType="image/x-wmf"/>
  <Override PartName="/ppt/media/image16.jpeg" ContentType="image/jpeg"/>
  <Override PartName="/ppt/media/image13.gif" ContentType="image/gif"/>
  <Override PartName="/ppt/media/image12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C0D4-10B5-4F9E-8419-1B00B278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A393-8E44-40FA-B198-94A98752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1A73-F84F-4C29-8BD1-D9ECABC5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45D1-6B11-4EA9-819F-CFBCBEE3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E4D2-8DC5-440C-9F08-A185702F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5387-B644-4C80-85B9-2AF91F0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5952-973F-44D1-9458-6F828A6F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3A2F-89F1-429B-AC63-B62BBADD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6E5-2FC8-42DF-A2A7-AD6A3C67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3300-9AD7-426A-9C84-C1498B6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D52D-D046-4F70-932A-EB41800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3561-E070-4763-AA3B-ECE7F1F3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6E7A-44F8-4E89-A4FB-3978525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F3C4-09D4-428F-87DD-2D9C3A9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FD3-4836-4F17-AF7F-20851BE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1072-5A3A-4030-B8BB-00C309BA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787F-FD7B-4102-8803-BD92AB59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47EB-92F6-4708-BE8E-383729D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0194-54FC-4EC5-BE91-321C537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D77A-2F3D-4B32-A021-95F381A6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9064-197F-4B06-8054-D21F8ED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8E81-2086-42B3-85AA-36C0BAE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F66B-5A12-4F05-85E7-0E65BFC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DAB5-DB75-49EF-94D0-5AED0C0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955-53DC-490F-9388-90F5655CCB8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14B5-02C2-4BDB-83DB-FE132DD1376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627280" y="1125360"/>
            <a:ext cx="7772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Урок – сказка по 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математике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в 3  класс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5616360"/>
          </a:xfrm>
          <a:prstGeom prst="rect">
            <a:avLst/>
          </a:prstGeom>
          <a:ln w="0">
            <a:noFill/>
          </a:ln>
        </p:spPr>
      </p:pic>
      <p:sp>
        <p:nvSpPr>
          <p:cNvPr id="128" name="WordArt 4"/>
          <p:cNvSpPr txBox="1"/>
          <p:nvPr/>
        </p:nvSpPr>
        <p:spPr>
          <a:xfrm>
            <a:off x="755640" y="5950080"/>
            <a:ext cx="78487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: Клецкова Наталия Викторов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642960" y="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то прямоугольник со сторонами 6 см и 4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85880" y="4287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делим его на квадратные сантим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509920" y="2076480"/>
            <a:ext cx="215892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287028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323064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359100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394956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4309920" y="20764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2509920" y="2508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2509920" y="243684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2509920" y="279576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2509920" y="315612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2"/>
          <p:cNvSpPr/>
          <p:nvPr/>
        </p:nvSpPr>
        <p:spPr>
          <a:xfrm>
            <a:off x="6039000" y="312732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5800"/>
              <a:gd name="adj5" fmla="val 17189"/>
              <a:gd name="adj6" fmla="val -5278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ирина прямоуг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0"/>
          <p:cNvSpPr/>
          <p:nvPr/>
        </p:nvSpPr>
        <p:spPr>
          <a:xfrm>
            <a:off x="5940360" y="177336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7634"/>
              <a:gd name="adj5" fmla="val 33592"/>
              <a:gd name="adj6" fmla="val -70791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ина прямоуг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500040" y="385776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лько полос с квадратами получил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6"/>
          <p:cNvSpPr/>
          <p:nvPr/>
        </p:nvSpPr>
        <p:spPr>
          <a:xfrm>
            <a:off x="642960" y="421488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лько квадратов в каждой полос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7"/>
          <p:cNvSpPr/>
          <p:nvPr/>
        </p:nvSpPr>
        <p:spPr>
          <a:xfrm>
            <a:off x="714240" y="46432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узнать, сколько всего квадра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8"/>
          <p:cNvSpPr/>
          <p:nvPr/>
        </p:nvSpPr>
        <p:spPr>
          <a:xfrm>
            <a:off x="714240" y="5000760"/>
            <a:ext cx="47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 такое 6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9"/>
          <p:cNvSpPr/>
          <p:nvPr/>
        </p:nvSpPr>
        <p:spPr>
          <a:xfrm>
            <a:off x="642960" y="5357880"/>
            <a:ext cx="47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 такое 4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20"/>
          <p:cNvSpPr/>
          <p:nvPr/>
        </p:nvSpPr>
        <p:spPr>
          <a:xfrm>
            <a:off x="642960" y="56912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делайте вывод, как найти площадь прямоугольни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7091280" y="384660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 rot="21097200">
            <a:off x="7169040" y="43048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 rot="21430800">
            <a:off x="6446880" y="46958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 * 4 = 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476360" y="1341360"/>
            <a:ext cx="5761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 = a  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5508720" y="3357720"/>
            <a:ext cx="50328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2340000" y="4797360"/>
            <a:ext cx="647640" cy="43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5500800" y="3357720"/>
            <a:ext cx="50328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785880" y="1429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прямо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500040" y="928800"/>
            <a:ext cx="7858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Чтобы найти площадь прямоугольника, измеряют его длину и ширину (в одинаковых единицах) и находят произведение полученных чисе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Чтобы найти площадь прямоугольника, надо его длину умножить на ширин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1882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642600"/>
            <a:ext cx="64008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ФИЗМИНУТКА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Рисунок18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избушкаБЯ"/>
          <p:cNvPicPr/>
          <p:nvPr/>
        </p:nvPicPr>
        <p:blipFill>
          <a:blip r:embed="rId2"/>
          <a:stretch/>
        </p:blipFill>
        <p:spPr>
          <a:xfrm>
            <a:off x="5580000" y="3716280"/>
            <a:ext cx="2236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Баба яга"/>
          <p:cNvPicPr/>
          <p:nvPr/>
        </p:nvPicPr>
        <p:blipFill>
          <a:blip r:embed="rId1"/>
          <a:stretch/>
        </p:blipFill>
        <p:spPr>
          <a:xfrm>
            <a:off x="4211640" y="692280"/>
            <a:ext cx="4133880" cy="5715000"/>
          </a:xfrm>
          <a:prstGeom prst="rect">
            <a:avLst/>
          </a:prstGeom>
          <a:ln w="0">
            <a:noFill/>
          </a:ln>
        </p:spPr>
      </p:pic>
      <p:pic>
        <p:nvPicPr>
          <p:cNvPr id="257" name="голос яги.wav" descr=""/>
          <p:cNvPicPr/>
          <p:nvPr/>
        </p:nvPicPr>
        <p:blipFill>
          <a:blip r:embed="rId2"/>
          <a:stretch/>
        </p:blipFill>
        <p:spPr>
          <a:xfrm>
            <a:off x="324000" y="6326280"/>
            <a:ext cx="215640" cy="2156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6"/>
          <p:cNvSpPr/>
          <p:nvPr/>
        </p:nvSpPr>
        <p:spPr>
          <a:xfrm>
            <a:off x="324000" y="1052640"/>
            <a:ext cx="4249440" cy="48243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Задача № 3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стр. 5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832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1" descr="zmei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2"/>
          <p:cNvSpPr/>
          <p:nvPr/>
        </p:nvSpPr>
        <p:spPr>
          <a:xfrm>
            <a:off x="2987640" y="692280"/>
            <a:ext cx="417672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полностью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2195640" y="3284640"/>
            <a:ext cx="489744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1, 2, 3 столбик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47640" y="5373720"/>
            <a:ext cx="417672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1, 2  столбик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 flipH="1">
            <a:off x="394920" y="4941720"/>
            <a:ext cx="1871640" cy="167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 rot="21095400">
            <a:off x="6587640" y="2636640"/>
            <a:ext cx="2016360" cy="180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 rot="1983000">
            <a:off x="7128000" y="2852640"/>
            <a:ext cx="2016000" cy="1801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4"/>
          <a:stretch/>
        </p:blipFill>
        <p:spPr>
          <a:xfrm flipH="1">
            <a:off x="1042560" y="260280"/>
            <a:ext cx="1871640" cy="1673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tretch/>
        </p:blipFill>
        <p:spPr>
          <a:xfrm flipH="1" rot="1560000">
            <a:off x="1258920" y="1052280"/>
            <a:ext cx="1871640" cy="167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6"/>
          <a:stretch/>
        </p:blipFill>
        <p:spPr>
          <a:xfrm flipH="1" rot="19380000">
            <a:off x="178920" y="765000"/>
            <a:ext cx="187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5580000" y="836640"/>
            <a:ext cx="3240000" cy="24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050920" y="4292640"/>
            <a:ext cx="5256360" cy="223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95280" y="1628640"/>
            <a:ext cx="3311640" cy="22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терем"/>
          <p:cNvPicPr/>
          <p:nvPr/>
        </p:nvPicPr>
        <p:blipFill>
          <a:blip r:embed="rId5"/>
          <a:stretch/>
        </p:blipFill>
        <p:spPr>
          <a:xfrm>
            <a:off x="6372360" y="1197000"/>
            <a:ext cx="1827000" cy="1871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город"/>
          <p:cNvPicPr/>
          <p:nvPr/>
        </p:nvPicPr>
        <p:blipFill>
          <a:blip r:embed="rId6"/>
          <a:stretch/>
        </p:blipFill>
        <p:spPr>
          <a:xfrm>
            <a:off x="1116000" y="1628640"/>
            <a:ext cx="1760400" cy="207972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0"/>
          <p:cNvSpPr txBox="1"/>
          <p:nvPr/>
        </p:nvSpPr>
        <p:spPr>
          <a:xfrm>
            <a:off x="1619280" y="83664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5" name="WordArt 11"/>
          <p:cNvSpPr txBox="1"/>
          <p:nvPr/>
        </p:nvSpPr>
        <p:spPr>
          <a:xfrm>
            <a:off x="3851280" y="213372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5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6" name="WordArt 12"/>
          <p:cNvSpPr txBox="1"/>
          <p:nvPr/>
        </p:nvSpPr>
        <p:spPr>
          <a:xfrm>
            <a:off x="7164360" y="18900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7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7" name="WordArt 13"/>
          <p:cNvSpPr txBox="1"/>
          <p:nvPr/>
        </p:nvSpPr>
        <p:spPr>
          <a:xfrm>
            <a:off x="4211640" y="364500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9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8" name="WordArt 14"/>
          <p:cNvSpPr txBox="1"/>
          <p:nvPr/>
        </p:nvSpPr>
        <p:spPr>
          <a:xfrm>
            <a:off x="1258920" y="5084640"/>
            <a:ext cx="571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4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9" name="WordArt 15"/>
          <p:cNvSpPr txBox="1"/>
          <p:nvPr/>
        </p:nvSpPr>
        <p:spPr>
          <a:xfrm>
            <a:off x="4932360" y="105264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4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80" name="Picture 16" descr="ВасилисаПрем"/>
          <p:cNvPicPr/>
          <p:nvPr/>
        </p:nvPicPr>
        <p:blipFill>
          <a:blip r:embed="rId7"/>
          <a:stretch/>
        </p:blipFill>
        <p:spPr>
          <a:xfrm>
            <a:off x="0" y="0"/>
            <a:ext cx="1150920" cy="152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зааамок"/>
          <p:cNvPicPr/>
          <p:nvPr/>
        </p:nvPicPr>
        <p:blipFill>
          <a:blip r:embed="rId8"/>
          <a:stretch/>
        </p:blipFill>
        <p:spPr>
          <a:xfrm>
            <a:off x="3203640" y="4437000"/>
            <a:ext cx="2743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город"/>
          <p:cNvPicPr/>
          <p:nvPr/>
        </p:nvPicPr>
        <p:blipFill>
          <a:blip r:embed="rId1"/>
          <a:stretch/>
        </p:blipFill>
        <p:spPr>
          <a:xfrm>
            <a:off x="0" y="-674640"/>
            <a:ext cx="9828360" cy="827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В звездных пучина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В звездных пучинах"/>
          <p:cNvPicPr/>
          <p:nvPr/>
        </p:nvPicPr>
        <p:blipFill>
          <a:blip r:embed="rId2"/>
          <a:stretch/>
        </p:blipFill>
        <p:spPr>
          <a:xfrm rot="18892200">
            <a:off x="2124000" y="1123560"/>
            <a:ext cx="4605480" cy="475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В звездных пучинах"/>
          <p:cNvPicPr/>
          <p:nvPr/>
        </p:nvPicPr>
        <p:blipFill>
          <a:blip r:embed="rId3"/>
          <a:stretch/>
        </p:blipFill>
        <p:spPr>
          <a:xfrm>
            <a:off x="2050920" y="1341360"/>
            <a:ext cx="4751640" cy="460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В звездных пучинах"/>
          <p:cNvPicPr/>
          <p:nvPr/>
        </p:nvPicPr>
        <p:blipFill>
          <a:blip r:embed="rId4"/>
          <a:stretch/>
        </p:blipFill>
        <p:spPr>
          <a:xfrm rot="17780400">
            <a:off x="2827080" y="1932840"/>
            <a:ext cx="3488040" cy="359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В звездных пучинах"/>
          <p:cNvPicPr/>
          <p:nvPr/>
        </p:nvPicPr>
        <p:blipFill>
          <a:blip r:embed="rId5"/>
          <a:stretch/>
        </p:blipFill>
        <p:spPr>
          <a:xfrm rot="20177400">
            <a:off x="3780000" y="2852280"/>
            <a:ext cx="146520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аним звёзды"/>
          <p:cNvPicPr/>
          <p:nvPr/>
        </p:nvPicPr>
        <p:blipFill>
          <a:blip r:embed="rId6"/>
          <a:stretch/>
        </p:blipFill>
        <p:spPr>
          <a:xfrm>
            <a:off x="7740720" y="54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аним звёзды"/>
          <p:cNvPicPr/>
          <p:nvPr/>
        </p:nvPicPr>
        <p:blipFill>
          <a:blip r:embed="rId7"/>
          <a:stretch/>
        </p:blipFill>
        <p:spPr>
          <a:xfrm>
            <a:off x="7596360" y="2205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аним звёзды"/>
          <p:cNvPicPr/>
          <p:nvPr/>
        </p:nvPicPr>
        <p:blipFill>
          <a:blip r:embed="rId8"/>
          <a:stretch/>
        </p:blipFill>
        <p:spPr>
          <a:xfrm>
            <a:off x="5508720" y="2225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аним звёзды"/>
          <p:cNvPicPr/>
          <p:nvPr/>
        </p:nvPicPr>
        <p:blipFill>
          <a:blip r:embed="rId9"/>
          <a:stretch/>
        </p:blipFill>
        <p:spPr>
          <a:xfrm rot="19116600">
            <a:off x="2340000" y="188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аним звёзды"/>
          <p:cNvPicPr/>
          <p:nvPr/>
        </p:nvPicPr>
        <p:blipFill>
          <a:blip r:embed="rId10"/>
          <a:stretch/>
        </p:blipFill>
        <p:spPr>
          <a:xfrm>
            <a:off x="738036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аним звёзды"/>
          <p:cNvPicPr/>
          <p:nvPr/>
        </p:nvPicPr>
        <p:blipFill>
          <a:blip r:embed="rId11"/>
          <a:stretch/>
        </p:blipFill>
        <p:spPr>
          <a:xfrm>
            <a:off x="468360" y="54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аним звёзды"/>
          <p:cNvPicPr/>
          <p:nvPr/>
        </p:nvPicPr>
        <p:blipFill>
          <a:blip r:embed="rId12"/>
          <a:stretch/>
        </p:blipFill>
        <p:spPr>
          <a:xfrm>
            <a:off x="755640" y="2637000"/>
            <a:ext cx="668520" cy="66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аним звёзды"/>
          <p:cNvPicPr/>
          <p:nvPr/>
        </p:nvPicPr>
        <p:blipFill>
          <a:blip r:embed="rId13"/>
          <a:stretch/>
        </p:blipFill>
        <p:spPr>
          <a:xfrm>
            <a:off x="539640" y="55371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аним звёзды"/>
          <p:cNvPicPr/>
          <p:nvPr/>
        </p:nvPicPr>
        <p:blipFill>
          <a:blip r:embed="rId14"/>
          <a:stretch/>
        </p:blipFill>
        <p:spPr>
          <a:xfrm>
            <a:off x="7451640" y="3860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аним звёзды"/>
          <p:cNvPicPr/>
          <p:nvPr/>
        </p:nvPicPr>
        <p:blipFill>
          <a:blip r:embed="rId15"/>
          <a:stretch/>
        </p:blipFill>
        <p:spPr>
          <a:xfrm rot="2466600">
            <a:off x="539280" y="364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аним звёзды"/>
          <p:cNvPicPr/>
          <p:nvPr/>
        </p:nvPicPr>
        <p:blipFill>
          <a:blip r:embed="rId16"/>
          <a:stretch/>
        </p:blipFill>
        <p:spPr>
          <a:xfrm>
            <a:off x="2268360" y="494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аним звёзды"/>
          <p:cNvPicPr/>
          <p:nvPr/>
        </p:nvPicPr>
        <p:blipFill>
          <a:blip r:embed="rId17"/>
          <a:stretch/>
        </p:blipFill>
        <p:spPr>
          <a:xfrm rot="18764400">
            <a:off x="5580000" y="54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аним звёзды"/>
          <p:cNvPicPr/>
          <p:nvPr/>
        </p:nvPicPr>
        <p:blipFill>
          <a:blip r:embed="rId18"/>
          <a:stretch/>
        </p:blipFill>
        <p:spPr>
          <a:xfrm>
            <a:off x="4572000" y="45813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аним звёзды"/>
          <p:cNvPicPr/>
          <p:nvPr/>
        </p:nvPicPr>
        <p:blipFill>
          <a:blip r:embed="rId19"/>
          <a:stretch/>
        </p:blipFill>
        <p:spPr>
          <a:xfrm>
            <a:off x="3564000" y="1700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аним звёзды"/>
          <p:cNvPicPr/>
          <p:nvPr/>
        </p:nvPicPr>
        <p:blipFill>
          <a:blip r:embed="rId20"/>
          <a:stretch/>
        </p:blipFill>
        <p:spPr>
          <a:xfrm>
            <a:off x="2340000" y="234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аним звёзды"/>
          <p:cNvPicPr/>
          <p:nvPr/>
        </p:nvPicPr>
        <p:blipFill>
          <a:blip r:embed="rId21"/>
          <a:stretch/>
        </p:blipFill>
        <p:spPr>
          <a:xfrm>
            <a:off x="2987640" y="61135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аним звёзды"/>
          <p:cNvPicPr/>
          <p:nvPr/>
        </p:nvPicPr>
        <p:blipFill>
          <a:blip r:embed="rId22"/>
          <a:stretch/>
        </p:blipFill>
        <p:spPr>
          <a:xfrm>
            <a:off x="4211640" y="30178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аним звёзды"/>
          <p:cNvPicPr/>
          <p:nvPr/>
        </p:nvPicPr>
        <p:blipFill>
          <a:blip r:embed="rId23"/>
          <a:stretch/>
        </p:blipFill>
        <p:spPr>
          <a:xfrm>
            <a:off x="2124000" y="3716280"/>
            <a:ext cx="1604880" cy="1604880"/>
          </a:xfrm>
          <a:prstGeom prst="rect">
            <a:avLst/>
          </a:prstGeom>
          <a:ln w="0">
            <a:noFill/>
          </a:ln>
        </p:spPr>
      </p:pic>
      <p:pic>
        <p:nvPicPr>
          <p:cNvPr id="152" name="08 Дорожка 8.wma" descr=""/>
          <p:cNvPicPr/>
          <p:nvPr/>
        </p:nvPicPr>
        <p:blipFill>
          <a:blip r:embed="rId24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59253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5" name="Picture 9" descr="Рисунок48"/>
          <p:cNvPicPr/>
          <p:nvPr/>
        </p:nvPicPr>
        <p:blipFill>
          <a:blip r:embed="rId1"/>
          <a:stretch/>
        </p:blipFill>
        <p:spPr>
          <a:xfrm>
            <a:off x="0" y="130320"/>
            <a:ext cx="10764720" cy="672768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3" descr="Изображение 008.jpg"/>
          <p:cNvPicPr/>
          <p:nvPr/>
        </p:nvPicPr>
        <p:blipFill>
          <a:blip r:embed="rId2"/>
          <a:stretch/>
        </p:blipFill>
        <p:spPr>
          <a:xfrm>
            <a:off x="3708360" y="3760920"/>
            <a:ext cx="2631960" cy="309708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6" descr="Голубь.gif"/>
          <p:cNvPicPr/>
          <p:nvPr/>
        </p:nvPicPr>
        <p:blipFill>
          <a:blip r:embed="rId3"/>
          <a:stretch/>
        </p:blipFill>
        <p:spPr>
          <a:xfrm rot="825600">
            <a:off x="3059280" y="2924280"/>
            <a:ext cx="2003400" cy="187308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6" descr="Голубь.gif"/>
          <p:cNvPicPr/>
          <p:nvPr/>
        </p:nvPicPr>
        <p:blipFill>
          <a:blip r:embed="rId4"/>
          <a:stretch/>
        </p:blipFill>
        <p:spPr>
          <a:xfrm flipH="1" rot="21247200">
            <a:off x="5434920" y="2636640"/>
            <a:ext cx="2160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787640" y="836280"/>
            <a:ext cx="3344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НАУЧИЛ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ПОНЯЛ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ЗАДУМАЛ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Comic Sans MS"/>
              </a:rPr>
              <a:t>УЗНАЛ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684360" y="907920"/>
            <a:ext cx="23032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635280" y="907920"/>
            <a:ext cx="432000" cy="4103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Спасибо за старание,</a:t>
            </a: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 </a:t>
            </a: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Ведь главное – желание,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А навык и умения 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9900ff"/>
                </a:solidFill>
                <a:latin typeface="Times New Roman"/>
              </a:rPr>
              <a:t>С годами к вам придут.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3" name="Picture 3" descr="звоночки"/>
          <p:cNvPicPr/>
          <p:nvPr/>
        </p:nvPicPr>
        <p:blipFill>
          <a:blip r:embed="rId1"/>
          <a:stretch/>
        </p:blipFill>
        <p:spPr>
          <a:xfrm>
            <a:off x="7236000" y="5300640"/>
            <a:ext cx="1439640" cy="1297080"/>
          </a:xfrm>
          <a:prstGeom prst="rect">
            <a:avLst/>
          </a:prstGeom>
          <a:ln w="0">
            <a:noFill/>
          </a:ln>
        </p:spPr>
      </p:pic>
      <p:pic>
        <p:nvPicPr>
          <p:cNvPr id="294" name="069. Дорогою Доб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0000ff"/>
                </a:solidFill>
                <a:latin typeface="Monotype Corsiva"/>
              </a:rPr>
              <a:t>Спасибо!</a:t>
            </a:r>
            <a:br>
              <a:rPr sz="7600"/>
            </a:br>
            <a:r>
              <a:rPr b="1" lang="ru-RU" sz="7600" spc="-1" strike="noStrike">
                <a:solidFill>
                  <a:srgbClr val="0000ff"/>
                </a:solidFill>
                <a:latin typeface="Monotype Corsiva"/>
              </a:rPr>
              <a:t>Урок закончен!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6" name="Picture 7" descr="пятерка"/>
          <p:cNvPicPr/>
          <p:nvPr/>
        </p:nvPicPr>
        <p:blipFill>
          <a:blip r:embed="rId2"/>
          <a:stretch/>
        </p:blipFill>
        <p:spPr>
          <a:xfrm rot="21016200">
            <a:off x="3132000" y="2708280"/>
            <a:ext cx="2627280" cy="344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пятерка"/>
          <p:cNvPicPr/>
          <p:nvPr/>
        </p:nvPicPr>
        <p:blipFill>
          <a:blip r:embed="rId3"/>
          <a:stretch/>
        </p:blipFill>
        <p:spPr>
          <a:xfrm rot="21016200">
            <a:off x="5651640" y="3141720"/>
            <a:ext cx="2627280" cy="3444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пятерка"/>
          <p:cNvPicPr/>
          <p:nvPr/>
        </p:nvPicPr>
        <p:blipFill>
          <a:blip r:embed="rId4"/>
          <a:stretch/>
        </p:blipFill>
        <p:spPr>
          <a:xfrm rot="21016200">
            <a:off x="971640" y="3141720"/>
            <a:ext cx="26272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Рисунок2"/>
          <p:cNvPicPr/>
          <p:nvPr/>
        </p:nvPicPr>
        <p:blipFill>
          <a:blip r:embed="rId2"/>
          <a:stretch/>
        </p:blipFill>
        <p:spPr>
          <a:xfrm>
            <a:off x="324000" y="1052640"/>
            <a:ext cx="8532720" cy="514656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1979640" y="1484280"/>
            <a:ext cx="12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виз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3132000" y="2060640"/>
            <a:ext cx="3656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Один за все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се за одного!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 rot="729000">
            <a:off x="4859280" y="1413000"/>
            <a:ext cx="1800360" cy="138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1800360" cy="1380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 rot="21029400">
            <a:off x="1834920" y="1412640"/>
            <a:ext cx="1800000" cy="1380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 flipH="1" rot="20464800">
            <a:off x="4857480" y="4218120"/>
            <a:ext cx="201780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5"/>
          <a:stretch/>
        </p:blipFill>
        <p:spPr>
          <a:xfrm flipH="1" rot="28200">
            <a:off x="3058560" y="4508280"/>
            <a:ext cx="2016000" cy="154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6"/>
          <a:stretch/>
        </p:blipFill>
        <p:spPr>
          <a:xfrm flipH="1" rot="1327200">
            <a:off x="1331640" y="4005360"/>
            <a:ext cx="2016000" cy="154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7"/>
          <a:stretch/>
        </p:blipFill>
        <p:spPr>
          <a:xfrm flipH="1" rot="28200">
            <a:off x="6587640" y="2636640"/>
            <a:ext cx="2016360" cy="15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8"/>
          <a:stretch/>
        </p:blipFill>
        <p:spPr>
          <a:xfrm>
            <a:off x="468360" y="2708280"/>
            <a:ext cx="1800000" cy="1380960"/>
          </a:xfrm>
          <a:prstGeom prst="rect">
            <a:avLst/>
          </a:prstGeom>
          <a:ln w="0">
            <a:noFill/>
          </a:ln>
        </p:spPr>
      </p:pic>
      <p:sp>
        <p:nvSpPr>
          <p:cNvPr id="164" name="Oval 10"/>
          <p:cNvSpPr/>
          <p:nvPr/>
        </p:nvSpPr>
        <p:spPr>
          <a:xfrm>
            <a:off x="1908000" y="2276640"/>
            <a:ext cx="4967640" cy="25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4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6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дорога"/>
          <p:cNvPicPr/>
          <p:nvPr/>
        </p:nvPicPr>
        <p:blipFill>
          <a:blip r:embed="rId2"/>
          <a:stretch/>
        </p:blipFill>
        <p:spPr>
          <a:xfrm>
            <a:off x="-396720" y="-1035000"/>
            <a:ext cx="10585440" cy="828036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2556000" y="3500280"/>
            <a:ext cx="4176720" cy="2592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5435640" y="-316080"/>
            <a:ext cx="2376360" cy="220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928800" y="142920"/>
            <a:ext cx="26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Те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428760" y="1214280"/>
            <a:ext cx="47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лощадь прямоугольн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дорога"/>
          <p:cNvPicPr/>
          <p:nvPr/>
        </p:nvPicPr>
        <p:blipFill>
          <a:blip r:embed="rId1"/>
          <a:stretch/>
        </p:blipFill>
        <p:spPr>
          <a:xfrm>
            <a:off x="5170320" y="1571760"/>
            <a:ext cx="39736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ите среди данных фигур прямоуголь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5"/>
          <p:cNvSpPr/>
          <p:nvPr/>
        </p:nvSpPr>
        <p:spPr>
          <a:xfrm rot="10800000">
            <a:off x="1476000" y="2708280"/>
            <a:ext cx="1871640" cy="79200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 rot="1398000">
            <a:off x="4066920" y="3068280"/>
            <a:ext cx="1657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995640" y="429264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6732720" y="2852640"/>
            <a:ext cx="100800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 rot="5400000">
            <a:off x="6694560" y="4545720"/>
            <a:ext cx="1368720" cy="1439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 rot="10800000">
            <a:off x="1480680" y="2701440"/>
            <a:ext cx="1871640" cy="79236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 rot="1398000">
            <a:off x="4071960" y="3062160"/>
            <a:ext cx="1657440" cy="64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000680" y="428616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6737400" y="2846520"/>
            <a:ext cx="100800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 rot="5400000">
            <a:off x="6699960" y="4539240"/>
            <a:ext cx="1368360" cy="14400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 rot="20331000">
            <a:off x="1061640" y="4911840"/>
            <a:ext cx="2016000" cy="720720"/>
          </a:xfrm>
          <a:prstGeom prst="parallelogram">
            <a:avLst>
              <a:gd name="adj" fmla="val 6993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165480" y="2142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то прямоуголь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2286000" y="64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ми свойствами отличаются прямоугольники от других фигу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 rot="1398000">
            <a:off x="3489120" y="2301480"/>
            <a:ext cx="1657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>
            <a:hlinkClick r:id="rId1"/>
          </p:cNvPr>
          <p:cNvSpPr/>
          <p:nvPr/>
        </p:nvSpPr>
        <p:spPr>
          <a:xfrm>
            <a:off x="5786280" y="1714680"/>
            <a:ext cx="100836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148280" y="444492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0800000">
            <a:off x="620640" y="4302000"/>
            <a:ext cx="3097440" cy="865440"/>
          </a:xfrm>
          <a:prstGeom prst="wedgeRoundRectCallout">
            <a:avLst>
              <a:gd name="adj1" fmla="val -88069"/>
              <a:gd name="adj2" fmla="val 9018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ивоположные стороны ра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6500880" y="4214880"/>
            <a:ext cx="1655640" cy="609480"/>
          </a:xfrm>
          <a:prstGeom prst="wedgeRoundRectCallout">
            <a:avLst>
              <a:gd name="adj1" fmla="val -34370"/>
              <a:gd name="adj2" fmla="val -239842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 rot="1398000">
            <a:off x="3489120" y="2301480"/>
            <a:ext cx="1657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>
            <a:hlinkClick r:id="rId2"/>
          </p:cNvPr>
          <p:cNvSpPr/>
          <p:nvPr/>
        </p:nvSpPr>
        <p:spPr>
          <a:xfrm>
            <a:off x="5786280" y="1714680"/>
            <a:ext cx="1008360" cy="136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152960" y="4438800"/>
            <a:ext cx="1871640" cy="18716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10800000">
            <a:off x="625320" y="4295520"/>
            <a:ext cx="3097440" cy="865080"/>
          </a:xfrm>
          <a:prstGeom prst="wedgeRoundRectCallout">
            <a:avLst>
              <a:gd name="adj1" fmla="val -88069"/>
              <a:gd name="adj2" fmla="val 9018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ивоположные стороны ра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500880" y="4214880"/>
            <a:ext cx="1655640" cy="609480"/>
          </a:xfrm>
          <a:prstGeom prst="wedgeRoundRectCallout">
            <a:avLst>
              <a:gd name="adj1" fmla="val -34370"/>
              <a:gd name="adj2" fmla="val -239842"/>
              <a:gd name="adj3" fmla="val 16667"/>
            </a:avLst>
          </a:prstGeom>
          <a:solidFill>
            <a:srgbClr val="00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28600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единицы измерения площади вы знае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 значит квадратный сантимет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4180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852720" y="20750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 см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4429080" y="171468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468520" y="271476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йдите площади данных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185920" y="430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227808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63700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335772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299736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227808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10244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674208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638172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021360" y="378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674208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638172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602136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5661000" y="342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527880" y="4289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5086440" y="522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4726080" y="486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365720" y="52261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4005360" y="48657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3"/>
          <p:cNvSpPr/>
          <p:nvPr/>
        </p:nvSpPr>
        <p:spPr>
          <a:xfrm>
            <a:off x="4294080" y="5730840"/>
            <a:ext cx="887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21472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9"/>
          <p:cNvSpPr/>
          <p:nvPr/>
        </p:nvSpPr>
        <p:spPr>
          <a:xfrm>
            <a:off x="4133880" y="56437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5:08:06Z</dcterms:created>
  <dc:creator>Самый Билый</dc:creator>
  <dc:description/>
  <dc:language>en-US</dc:language>
  <cp:lastModifiedBy>Наталия</cp:lastModifiedBy>
  <dcterms:modified xsi:type="dcterms:W3CDTF">2011-11-19T15:44:20Z</dcterms:modified>
  <cp:revision>66</cp:revision>
  <dc:subject/>
  <dc:title>Слайд 1</dc:title>
</cp:coreProperties>
</file>