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8E7-74A0-457E-BF50-3A69D2AC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AE7-7D90-44FF-A5CD-7D091B2D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FF7-5836-4EB7-8836-3D787ADD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386-2537-4590-AEF6-C484C78C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81B-04CE-4CF0-AA5F-BC307BDA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82D-EDEA-4F03-802F-AA45105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653-0428-479F-9AB5-84FEE883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BD4-E8A0-4AB5-B19E-B83983E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008-82D6-419B-B0FF-75683688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6E1-1239-460D-A2BB-858B981A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5A6-1969-4741-8DD3-43F6EDE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597-4C72-42BF-98C8-4A7A5FB9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8996-98C7-4D5E-A701-39AD42AF7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в форме КВН</a:t>
            </a:r>
            <a:br>
              <a:rPr sz="44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вящен творчеству великих русских писателей.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1c5a97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8760" y="571680"/>
            <a:ext cx="8572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цкова Наталия Викторов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42892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кторина по басням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.А. Кры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В какой басне такая мора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 сколько раз твердили ми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лесть гнусна, вредна; но только все не вп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ердце льстец всегда отыщет у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в товарищах соглась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ад их дело не по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йдет из него не дело, только м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есчастью, то ж бывает у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и полезна вещь-цены не зная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ежда про нее свой толк все к худу клон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ежели невежда позна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он ее еще и гонит</a:t>
            </a: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Конкурс «Домашнее зада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ценировка басен И.А. Кры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Конкурс к рассказам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Л.Н. Толст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По рисункам узнайте рассказ Л.Н. Толст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используются рисунки детей, нарисованные ран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одведение итогов жю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учение грамо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ление оце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ение стихотвор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А.С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fa.ws/jivopis/painter/230/0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ов И.А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ru/3/36/KrylovBasnopisetsByEggin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рмонтов М.Ю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A4%D0%B0%D0%B9%D0%BB:Mikhail_lermontov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ой Л.Н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pochtimes.ru/images/stories/04/world/90_07_07_2009_1010ee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асов Н.А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ostyor.ru/biography/?n=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960" y="64260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ушкин Александр Серге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Крылов Иван Андре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Лермонтов Михаил Ю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Толстой Лев Никола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Серг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5466960" y="3000240"/>
            <a:ext cx="333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9 г. – 1837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4095720" cy="494964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назад 4">
            <a:hlinkClick r:id="rId2" action="ppaction://hlinksldjump"/>
          </p:cNvPr>
          <p:cNvSpPr/>
          <p:nvPr/>
        </p:nvSpPr>
        <p:spPr>
          <a:xfrm>
            <a:off x="8358120" y="62866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 Андр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5466960" y="3000240"/>
            <a:ext cx="333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9 г. – 184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снопис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рнали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14240" y="1619280"/>
            <a:ext cx="364356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5252400" y="2214720"/>
            <a:ext cx="3338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4 г. – 184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иц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3714840" cy="4962600"/>
          </a:xfrm>
          <a:prstGeom prst="rect">
            <a:avLst/>
          </a:prstGeom>
          <a:ln w="0">
            <a:noFill/>
          </a:ln>
        </p:spPr>
      </p:pic>
      <p:sp>
        <p:nvSpPr>
          <p:cNvPr id="57" name="Управляющая кнопка: назад 4">
            <a:hlinkClick r:id="rId2" action="ppaction://hlinksldjump"/>
          </p:cNvPr>
          <p:cNvSpPr/>
          <p:nvPr/>
        </p:nvSpPr>
        <p:spPr>
          <a:xfrm>
            <a:off x="835812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в Николаевич 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786200" y="2357280"/>
            <a:ext cx="33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г. – 191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осо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3643200" cy="507996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назад 4"/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def6f1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ЗМИНКА</a:t>
            </a:r>
            <a:br>
              <a:rPr sz="4400"/>
            </a:b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(Вопросы по биографиям авт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рождения Пушк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ом языке говорили в семье Пушк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его нян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в семье маленького М.Ю. Лермонт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лись стихи, которые он написал по поводу смерти Пушк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лет он прож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иност. Языки изучил И.А.Кры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исал Кры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он работ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детей было в семье Л.Н. Толст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м был Толст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рассказа писателя вам запомни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ение капитанами команд стихов Лермонтова и Пушкина наизусть</a:t>
            </a:r>
            <a:r>
              <a:rPr b="0" lang="ru-RU" sz="4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осстановление 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ВЫМ СНЕГОМ ПОНЕС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ЧЬЮ БУРЯ БУШЕВА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ПОЛЯ, НА САД ПУСТЫ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С РАССВЕТОМ НА СЕ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дети должны правильно расставить строчки стихотво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4:34Z</dcterms:created>
  <dc:creator>Galina</dc:creator>
  <dc:description/>
  <dc:language>en-US</dc:language>
  <cp:lastModifiedBy>Наталия</cp:lastModifiedBy>
  <dcterms:modified xsi:type="dcterms:W3CDTF">2011-11-08T18:33:15Z</dcterms:modified>
  <cp:revision>119</cp:revision>
  <dc:subject/>
  <dc:title>Афанасий Афанасьевич Фет</dc:title>
</cp:coreProperties>
</file>