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BBE-C560-47EE-BD8A-EF956A6C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D24-46E2-4401-B7BD-E1B1A82E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4E5-3168-4DE1-8492-6DE5FD29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0A5-618C-4AE8-A111-C3A47060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EB7-C194-43AD-9C98-41A5C652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006-36F5-4992-A634-AB53B15C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663-21FF-4998-A81B-DC6994B6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060-77D1-4E8D-9271-FC12E94E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EC1-CACA-4607-B5D2-5D9AC14B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A12-B6E9-4E5C-AE31-3E4511D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542-7AEA-4944-9C6E-74D41552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A2C-E1E1-4E49-8E8C-895F8828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5D9C-53C0-468D-B1A6-13C2AB2D3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в форме КВН</a:t>
            </a:r>
            <a:br>
              <a:rPr sz="44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вящен творчеству великих русских писателей.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1c5a97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8760" y="571680"/>
            <a:ext cx="8572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цкова Наталия Викторовн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428920" y="578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кторина по басням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.А. Кры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В какой басне такая мора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ж сколько раз твердили ми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лесть гнусна, вредна; но только все не вп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ердце льстец всегда отыщет уг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в товарищах соглась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лад их дело не пой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ыйдет из него не дело, только м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есчастью, то ж бывает у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и полезна вещь-цены не зная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ежда про нее свой толк все к худу клон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ежели невежда позна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он ее еще и гонит</a:t>
            </a: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Конкурс «Домашнее зада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ценировка басен И.А. Кры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Конкурс к рассказам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Л.Н. Толст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По рисункам узнайте рассказ Л.Н. Толст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используются рисунки детей, нарисованные ран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одведение итогов жю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учение грамо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ление оце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ение стихотвор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159984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А.С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fa.ws/jivopis/painter/230/0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ов И.А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pload.wikimedia.org/wikipedia/ru/3/36/KrylovBasnopisetsByEggin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рмонтов М.Ю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A4%D0%B0%D0%B9%D0%BB:Mikhail_lermontov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ой Л.Н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pochtimes.ru/images/stories/04/world/90_07_07_2009_1010ee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асов Н.А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ostyor.ru/biography/?n=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960" y="64260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ушкин Александр Серге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Крылов Иван Андре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Лермонтов Михаил Ю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Толстой Лев Никола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Серге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5466960" y="3000240"/>
            <a:ext cx="333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9 г. – 1837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4095720" cy="494964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назад 4">
            <a:hlinkClick r:id="rId2" action="ppaction://hlinksldjump"/>
          </p:cNvPr>
          <p:cNvSpPr/>
          <p:nvPr/>
        </p:nvSpPr>
        <p:spPr>
          <a:xfrm>
            <a:off x="8358120" y="628668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def6f1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н Андре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5466960" y="3000240"/>
            <a:ext cx="333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9 г. – 184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снопис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урнали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14240" y="1619280"/>
            <a:ext cx="364356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def6f1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5252400" y="2214720"/>
            <a:ext cx="3338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14 г. – 184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иц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14240" y="1357200"/>
            <a:ext cx="3714840" cy="4962600"/>
          </a:xfrm>
          <a:prstGeom prst="rect">
            <a:avLst/>
          </a:prstGeom>
          <a:ln w="0">
            <a:noFill/>
          </a:ln>
        </p:spPr>
      </p:pic>
      <p:sp>
        <p:nvSpPr>
          <p:cNvPr id="57" name="Управляющая кнопка: назад 4">
            <a:hlinkClick r:id="rId2" action="ppaction://hlinksldjump"/>
          </p:cNvPr>
          <p:cNvSpPr/>
          <p:nvPr/>
        </p:nvSpPr>
        <p:spPr>
          <a:xfrm>
            <a:off x="835812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def6f1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в Николаевич 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786200" y="2357280"/>
            <a:ext cx="337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г. – 191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лосо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3643200" cy="507996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назад 4"/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def6f1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ЗМИНКА</a:t>
            </a:r>
            <a:br>
              <a:rPr sz="4400"/>
            </a:b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(Вопросы по биографиям авт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рождения Пушк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ом языке говорили в семье Пушк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звали его нян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звали в семье маленького М.Ю. Лермонт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лись стихи, которые он написал по поводу смерти Пушк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лет он прож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иност. Языки изучил И.А.Крыл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исал Крыл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он работ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детей было в семье Л.Н. Толст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м был Толст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рассказа писателя вам запомни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ение капитанами команд стихов Лермонтова и Пушкина наизусть</a:t>
            </a:r>
            <a:r>
              <a:rPr b="0" lang="ru-RU" sz="4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осстановление стихотв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ВЫМ СНЕГОМ ПОНЕС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ЧЬЮ БУРЯ БУШЕВА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ПОЛЯ, НА САД ПУСТЫ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С РАССВЕТОМ НА СЕЛ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дети должны правильно расставить строчки стихотвор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9:14:34Z</dcterms:created>
  <dc:creator>Galina</dc:creator>
  <dc:description/>
  <dc:language>en-US</dc:language>
  <cp:lastModifiedBy>Наталия</cp:lastModifiedBy>
  <dcterms:modified xsi:type="dcterms:W3CDTF">2011-11-08T18:33:15Z</dcterms:modified>
  <cp:revision>119</cp:revision>
  <dc:subject/>
  <dc:title>Афанасий Афанасьевич Фет</dc:title>
</cp:coreProperties>
</file>