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wmf" ContentType="image/x-wmf"/>
  <Override PartName="/ppt/media/image12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AA9-9E1A-4D01-8253-E97C39A4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FA9-CE39-4788-8681-92B4DDDC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9A1-246A-4FF8-8F31-8789E9C5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002-15D1-47D3-A479-ABD3133D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98D-E1EF-44AB-8F31-E0DD5D4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EFC-D73C-445D-86BB-F74538D4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002-0AC9-40C9-9B80-7B2E7BCE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9EE-D084-4769-BCBF-5C25E519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CE8-46C1-4FF3-8E07-A005F42A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FA7-E7F2-4B22-B9F5-9B43C63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445-C0F1-4625-9300-FFEC959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A85-27EB-456F-A1F3-E2099F5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46D-AE92-4E77-8C4B-A0751574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380880"/>
            <a:ext cx="5791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езентацию выполнили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ченицы 9 «В» класса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школы №56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иновьева Елена и Ермолаева Р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2362320"/>
            <a:ext cx="678168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Impact"/>
              </a:rPr>
              <a:t>Движение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3657600" cy="210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99ffcc"/>
                </a:solidFill>
                <a:uFillTx/>
                <a:latin typeface="Arial"/>
              </a:rPr>
              <a:t>2)    Вращательная симметрия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. В естественных науках под осевой симметрией понимают вращательную симметрию относительно поворотов вокруг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7920" y="15228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Осев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9200" y="4724280"/>
            <a:ext cx="2743200" cy="1987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91120" y="4800600"/>
            <a:ext cx="2819160" cy="1874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63036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3920" y="1371600"/>
            <a:ext cx="1904760" cy="1378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838080" y="3276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2520" y="6516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С симметрией мы часто встречаемс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280" y="5335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в бы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22040" y="5335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архитекту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31000" y="53352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техни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840" y="5335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772400" y="3124080"/>
            <a:ext cx="115740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724280" y="3200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295280" y="1295280"/>
            <a:ext cx="1981440" cy="1486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66ff99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оворотом является движение, т.е. отображением плоскости на себя, сохраняющим расстоя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228600"/>
            <a:ext cx="6934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Поворот вокруг то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038480"/>
            <a:ext cx="1371600" cy="198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91320" y="3885840"/>
            <a:ext cx="533160" cy="2133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733920"/>
            <a:ext cx="1904760" cy="330120"/>
          </a:xfrm>
          <a:custGeom>
            <a:avLst/>
            <a:gdLst/>
            <a:ahLst/>
            <a:rect l="l" t="t" r="r" b="b"/>
            <a:pathLst>
              <a:path w="1200" h="208">
                <a:moveTo>
                  <a:pt x="0" y="208"/>
                </a:moveTo>
                <a:cubicBezTo>
                  <a:pt x="16" y="176"/>
                  <a:pt x="32" y="144"/>
                  <a:pt x="96" y="112"/>
                </a:cubicBezTo>
                <a:cubicBezTo>
                  <a:pt x="160" y="80"/>
                  <a:pt x="224" y="32"/>
                  <a:pt x="384" y="16"/>
                </a:cubicBezTo>
                <a:cubicBezTo>
                  <a:pt x="544" y="0"/>
                  <a:pt x="920" y="0"/>
                  <a:pt x="1056" y="16"/>
                </a:cubicBezTo>
                <a:cubicBezTo>
                  <a:pt x="1192" y="32"/>
                  <a:pt x="1176" y="96"/>
                  <a:pt x="1200" y="112"/>
                </a:cubicBezTo>
              </a:path>
            </a:pathLst>
          </a:custGeom>
          <a:noFill/>
          <a:ln w="12600">
            <a:solidFill>
              <a:srgbClr val="000099"/>
            </a:solidFill>
            <a:round/>
            <a:headEnd len="lg" type="stealth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86400" y="5562720"/>
            <a:ext cx="38088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52880" y="4800240"/>
            <a:ext cx="76320" cy="1522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019560" y="4800600"/>
            <a:ext cx="152280" cy="763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6019920"/>
            <a:ext cx="152640" cy="228600"/>
          </a:xfrm>
          <a:prstGeom prst="ellipse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14800" y="3733920"/>
            <a:ext cx="31428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00800" y="3733920"/>
            <a:ext cx="22860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86400" y="5181480"/>
            <a:ext cx="25704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429000" cy="279072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Центральной симметрий относительно точки A называют преобразование пространства, переводящее точку X в такую точку X′, что A       — середина отрезка XX′. Центральная           симметрия с центром в точке A обычно обозначается через Zа, в то время как обозначение Sа можно перепутать с осевой                          симметр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152280"/>
            <a:ext cx="6962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ff66cc"/>
                    </a:gs>
                  </a:gsLst>
                  <a:lin ang="5400000"/>
                </a:gradFill>
                <a:latin typeface="Impact"/>
              </a:rPr>
              <a:t>Центральн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ff66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00600" y="5181480"/>
            <a:ext cx="264960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cc66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95280" y="380880"/>
            <a:ext cx="701064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00ffff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р центральной симметри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50000">
                    <a:srgbClr val="00ffff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019320" cy="40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5000" y="457200"/>
            <a:ext cx="77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Arial"/>
              </a:rPr>
              <a:t>Отображение плоскости на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752480"/>
            <a:ext cx="7086600" cy="1676520"/>
          </a:xfrm>
          <a:prstGeom prst="parallelogram">
            <a:avLst>
              <a:gd name="adj" fmla="val 10567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19051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25909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7432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7524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2096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18288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1240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5440" y="4572000"/>
            <a:ext cx="683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Любая точка плоскости оказывается </a:t>
            </a:r>
            <a:br>
              <a:rPr sz="2800"/>
            </a:b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сопоставленной некоторой то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15264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0481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8600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3623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23623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905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905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133720"/>
            <a:ext cx="15264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18288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24382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28954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666880"/>
            <a:ext cx="152280" cy="152640"/>
          </a:xfrm>
          <a:prstGeom prst="ellipse">
            <a:avLst/>
          </a:prstGeom>
          <a:solidFill>
            <a:srgbClr val="d019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24382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22860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0574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0481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32004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19051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860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6668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28954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6640" y="1447920"/>
            <a:ext cx="8451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Движение плоскости – эт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отображение плоскости на себ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сохраняющее расстоя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05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219320"/>
            <a:ext cx="990720" cy="1143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1398000">
            <a:off x="152280" y="4267080"/>
            <a:ext cx="1814760" cy="131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559240" cy="2038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99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1981080"/>
            <a:ext cx="1828800" cy="1581120"/>
          </a:xfrm>
          <a:prstGeom prst="hexagon">
            <a:avLst>
              <a:gd name="adj" fmla="val 28916"/>
              <a:gd name="vf" fmla="val 11547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981080"/>
            <a:ext cx="1828800" cy="1581120"/>
          </a:xfrm>
          <a:prstGeom prst="hexagon">
            <a:avLst>
              <a:gd name="adj" fmla="val 28916"/>
              <a:gd name="vf" fmla="val 11547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0320" y="304920"/>
            <a:ext cx="850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нятие движения в геометрии связано с обычным представлением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о перемещении. Но, если говоря о перемещении, мы представляем себе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непрерывный процесс, то в геометрии для нас будут иметь значение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только начальное и конечное положения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1752480"/>
            <a:ext cx="1676160" cy="144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8331d"/>
              </a:gs>
              <a:gs pos="100000">
                <a:srgbClr val="356f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752480"/>
            <a:ext cx="1676160" cy="144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44c26"/>
              </a:gs>
              <a:gs pos="100000">
                <a:srgbClr val="50a6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416 L 0.125 -0.00416 C 0.18108 -0.00416 0.25 0.08763 0.25 0.16231 L 0.25 0.32879 E">
                                      <p:cBhvr>
                                        <p:cTn id="193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82081E-006 C -0.08629 0.0007 -0.17257 0.00093 -0.25885 0.00209 C -0.27899 0.00232 -0.28403 0.00139 -0.29844 0.00856 C -0.30208 0.01319 -0.30451 0.0185 -0.30799 0.02336 C -0.30972 0.03053 -0.31215 0.03284 -0.31597 0.03816 C -0.31962 0.05249 -0.31684 0.04741 -0.32222 0.05504 C -0.3217 0.12486 -0.32135 0.19446 -0.32066 0.26428 C -0.31997 0.33527 -0.32778 0.32787 -0.30955 0.36371 C -0.30538 0.38058 -0.31163 0.35423 -0.30642 0.38683 C -0.30451 0.39931 -0.30104 0.41041 -0.29531 0.42058 C -0.29358 0.42752 -0.2908 0.43284 -0.28889 0.43978 C -0.28715 0.45388 -0.28559 0.46775 -0.27951 0.47978 C -0.2776 0.48902 -0.27535 0.49827 -0.27309 0.50729 C -0.27205 0.51168 -0.26945 0.51561 -0.2684 0.52001 C -0.26736 0.52856 -0.2651 0.55353 -0.25885 0.56024 C -0.25625 0.56301 -0.24653 0.56694 -0.24288 0.56856 C -0.23368 0.57735 -0.22205 0.57434 -0.21111 0.57712 C -0.18733 0.59839 -0.15851 0.59538 -0.13021 0.59816 C -0.07292 0.61943 -0.01302 0.62405 0.01892 0.56024 C 0.02049 0.55376 0.02222 0.54752 0.02378 0.54128 C 0.02326 0.5207 0.02326 0.50035 0.02222 0.47978 C 0.02187 0.474 0.0217 0.46729 0.01892 0.4629 C 0.01701 0.45989 0.01371 0.45897 0.01111 0.45665 C -0.00122 0.44556 -0.01458 0.44024 -0.02865 0.4333 C -0.03142 0.43191 -0.04931 0.42498 -0.04931 0.42058 E">
                                      <p:cBhvr>
                                        <p:cTn id="205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762120"/>
            <a:ext cx="1981080" cy="1882800"/>
          </a:xfrm>
          <a:prstGeom prst="pentagon">
            <a:avLst/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380880"/>
            <a:ext cx="1981440" cy="18828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762120"/>
            <a:ext cx="1981080" cy="1882800"/>
          </a:xfrm>
          <a:prstGeom prst="pentagon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1981440" cy="18828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09880"/>
            <a:ext cx="9604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Два движения, выполненные последовательно,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снова дают дви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341E-007 L 0.64167 -0.05549 E">
                                      <p:cBhvr>
                                        <p:cTn id="211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5 0.08486 L 0.29167 0.39561 E">
                                      <p:cBhvr>
                                        <p:cTn id="215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67 0.39561 L -3.33333E-006 -0.00393 E">
                                      <p:cBhvr>
                                        <p:cTn id="219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Параллельный пере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Осевая 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Поворот вокруг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Центральная симме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-1523880"/>
            <a:ext cx="797256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ff33"/>
                    </a:gs>
                    <a:gs pos="100000">
                      <a:srgbClr val="ff99cc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ff33"/>
                  </a:gs>
                  <a:gs pos="100000">
                    <a:srgbClr val="ff99cc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ff33"/>
                    </a:gs>
                    <a:gs pos="100000">
                      <a:srgbClr val="ff99cc"/>
                    </a:gs>
                  </a:gsLst>
                  <a:lin ang="5400000"/>
                </a:gradFill>
                <a:latin typeface="Impact"/>
              </a:rPr>
              <a:t>На плоскости существует четыре типа движени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ff33"/>
                  </a:gs>
                  <a:gs pos="100000">
                    <a:srgbClr val="ff99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1833480" cy="1816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ccff66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Параллельным переносом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называется такое движение , при котором все точки плоскости перемещаются в одном и том же направлении на одинаковое рас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322200">
            <a:off x="685440" y="3505320"/>
            <a:ext cx="24019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706800">
            <a:off x="5562360" y="3428640"/>
            <a:ext cx="2401920" cy="2840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4038480"/>
            <a:ext cx="228600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486400"/>
            <a:ext cx="236196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севая симметрия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— тип симметрии, имеющий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ва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несколько отличающихся опред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920" y="152280"/>
            <a:ext cx="6476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Осев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451332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cc"/>
                </a:solidFill>
                <a:uFillTx/>
                <a:latin typeface="Arial"/>
              </a:rPr>
              <a:t>1)   Отражательная симметрия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. В математике осевая симметрия — вид движения (зеркального отражения), при котором множеством неподвижных точек является прямая, называемая осью симме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47920" y="152280"/>
            <a:ext cx="6476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Осев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4414680"/>
            <a:ext cx="266724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jekt</cp:lastModifiedBy>
  <dcterms:modified xsi:type="dcterms:W3CDTF">2011-04-10T18:32:59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