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B30-DACA-4366-884C-F1D979F9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1A7-0687-4ADE-8DF1-24DA5AE8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1DF-336E-4E2C-8224-8D3786CE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FDF-44B6-48A5-A909-EC31FA74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1B8-D919-4B9F-97CC-72EDE83D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783-D84B-41F6-B985-4217F48F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01F-6334-4977-9254-DDF55363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176-57D7-4628-975F-5A8AB138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849-2AA1-4062-8716-1770E490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BAF-3EAD-4E21-8AAB-D2A8F68F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5DD-911A-4C32-AF0C-42ABB56D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0C5-8EE3-4391-B7C4-1BABFFF4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B6EA-18A5-4D78-A8FE-133F541B1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6:57:29Z</dcterms:created>
  <dc:creator>SM</dc:creator>
  <dc:description/>
  <dc:language>en-US</dc:language>
  <cp:lastModifiedBy>SM</cp:lastModifiedBy>
  <dcterms:modified xsi:type="dcterms:W3CDTF">2013-01-16T16:57:29Z</dcterms:modified>
  <cp:revision>1</cp:revision>
  <dc:subject/>
  <dc:title>Слайд 1</dc:title>
</cp:coreProperties>
</file>