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F5F6-1E1C-4A12-AF1F-D65811801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A84D-37A4-438B-B189-06E7D32CA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EE86-1398-41AA-A7A0-3BB9BF35C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AC11-3925-4FC3-9E80-1490DEC54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20A1-FA3C-4AF3-A330-0DAD11452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FCD0-5447-487F-95C1-26A71714B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6648-FC0C-4415-8332-A67E3BB4E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96C9-9950-4479-B1BA-6DB9B69F9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10A1-31E7-4993-9969-9480022A7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B732-FECC-405A-8D88-2057C0D57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BFA7-F88F-4F6A-9727-4096CDF80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175F-7E38-4065-974B-AD6E13B93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680DD-4334-498C-B8AD-12A477CA65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6T16:57:29Z</dcterms:created>
  <dc:creator>SM</dc:creator>
  <dc:description/>
  <dc:language>en-US</dc:language>
  <cp:lastModifiedBy>SM</cp:lastModifiedBy>
  <dcterms:modified xsi:type="dcterms:W3CDTF">2013-01-16T16:57:29Z</dcterms:modified>
  <cp:revision>1</cp:revision>
  <dc:subject/>
  <dc:title>Слайд 1</dc:title>
</cp:coreProperties>
</file>