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596-7D1D-4C59-8696-A56200CD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AEF-57C2-4349-9209-673FBF0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91F-539C-4B4A-9CB7-A8A1E7DA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B81-9332-4669-A4A6-533409BA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A63-EA9F-48CF-AFDF-B50BF220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1A8-6051-4314-A07A-13B966D9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F82-244D-47F9-B852-72079F05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1E4-646E-4944-9C30-7E475993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2E2-CA4B-45F8-A2DF-BE4950D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990-5DF1-4BD5-932C-28A9CBC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6B2-68C7-45EA-998B-86D8B28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0AD-A442-412B-8C05-5FB02CE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A12-6906-40D7-9A43-64823FB8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7:01:12Z</dcterms:created>
  <dc:creator>SM</dc:creator>
  <dc:description/>
  <dc:language>en-US</dc:language>
  <cp:lastModifiedBy>SM</cp:lastModifiedBy>
  <dcterms:modified xsi:type="dcterms:W3CDTF">2013-01-16T17:01:12Z</dcterms:modified>
  <cp:revision>1</cp:revision>
  <dc:subject/>
  <dc:title>Слайд 1</dc:title>
</cp:coreProperties>
</file>