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B44-3F50-49A4-B5A2-D937FD00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71E-E7E8-4530-9DC9-83959F1E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05C-1F93-453E-A7DF-4C213DD8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031-F68D-4CE0-A843-7F37A13D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B2B-3731-42F9-B799-D4881324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5FA-2568-4C53-85B1-455B6CB0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229-DF69-4412-BE52-1E378BF2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37B-14F6-4F1D-9CB3-BBA203DB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DC2-F0A0-4BE4-A044-6ED7CE53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8DA-B896-4143-8A9E-0371A85D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146-D297-456C-8227-77421657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2DF8-222C-4142-8028-8D9F6E51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40A6-8570-4D00-B019-5B3EEEAB5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7:01:12Z</dcterms:created>
  <dc:creator>SM</dc:creator>
  <dc:description/>
  <dc:language>en-US</dc:language>
  <cp:lastModifiedBy>SM</cp:lastModifiedBy>
  <dcterms:modified xsi:type="dcterms:W3CDTF">2013-01-16T17:01:12Z</dcterms:modified>
  <cp:revision>1</cp:revision>
  <dc:subject/>
  <dc:title>Слайд 1</dc:title>
</cp:coreProperties>
</file>