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783-C6CB-4EFC-8ED9-13957A79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2BB-1217-4B53-997C-115A9ACA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2CE-977D-477C-8891-78E764D0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F45-2DC8-4BB4-BB3E-D251BCF7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246-6C63-4649-9A30-0A75F609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A5FD-8E4F-4B6D-8130-B18CAA9C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8D0-2CB7-436C-B009-F2CCA2DE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F47-43F6-48E9-9710-44C457F4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E18-5B81-4BAB-AFEB-BE5C534F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C75-D606-4547-9AE6-A8EC6CAD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AD6-DC2C-4AD6-9E66-C28D9891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11D-9F9D-45D0-B665-677672D1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B65F-046C-469D-A77C-24E5348FE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7:02:56Z</dcterms:created>
  <dc:creator>SM</dc:creator>
  <dc:description/>
  <dc:language>en-US</dc:language>
  <cp:lastModifiedBy>SM</cp:lastModifiedBy>
  <dcterms:modified xsi:type="dcterms:W3CDTF">2013-01-16T17:02:56Z</dcterms:modified>
  <cp:revision>1</cp:revision>
  <dc:subject/>
  <dc:title>Слайд 1</dc:title>
</cp:coreProperties>
</file>