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6A9-D357-4379-9A7D-D0E635A5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B5F-4EE5-4563-9C61-6EBD3B61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0D9-2647-4105-9B35-16955862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21D-E451-4786-BA9C-A156DB0D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086-885C-4099-87BB-033A876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010-BB24-4600-BF85-82A1663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B5B-E890-49B1-A4FE-5217A26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181-FFEE-4485-A43F-96805511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9CD-D78D-4285-84FC-0ECE0A9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21E-0213-4A9D-9D0B-759F2D2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7C2-198A-458E-968D-58303B6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4C1-7EA9-449E-9C8B-60F7C08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250-CAC0-479D-AB79-36294A2FC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7:02:56Z</dcterms:created>
  <dc:creator>SM</dc:creator>
  <dc:description/>
  <dc:language>en-US</dc:language>
  <cp:lastModifiedBy>SM</cp:lastModifiedBy>
  <dcterms:modified xsi:type="dcterms:W3CDTF">2013-01-16T17:02:56Z</dcterms:modified>
  <cp:revision>1</cp:revision>
  <dc:subject/>
  <dc:title>Слайд 1</dc:title>
</cp:coreProperties>
</file>