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D26-E3DF-434A-A5C1-B37A2208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1B2-9D4B-4A81-B4AB-94FC2DA4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7CC-CC6A-45D4-98A9-FC65E83F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8E1-234B-43C9-9C4B-065A421C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5768-EF13-4D1D-B026-7CC14194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4A97-EA25-4048-870C-715FA31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37F0-81AE-4C2E-8EFD-B0D1A984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7DDC-0FD6-44B1-BE67-C7493295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F988-826E-4987-96DC-17B93C9D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4EC-8DA4-435F-9DDF-EB9D9D5B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8B2A-A375-48AD-97AB-7FD2C2D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7BE-1DC1-499C-9E6A-E4A29ADA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800-7923-419E-9178-B11CD94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ABAC-577C-45AF-A499-43EA2BA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414-7FED-4722-AE97-443EBEF1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66F-93C0-44DE-9EB8-F2631C89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B22C-3A1F-420A-B08D-8781616B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A8F7-CF13-4733-91B1-F84733EC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B07E-599B-447E-B6D6-98EE698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8C16-6C66-4D9D-8609-7A9EE82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99A7-D2D6-4F4E-B37A-3DEC471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EB58-116F-4571-A09C-183DB17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E3D-8B35-475C-96D9-FBDE034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E806-523D-44AE-BD38-C159B29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83AC-806F-4C96-8339-2C8CADC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0ACB-6E52-4DBA-A89F-292969A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BCF5-06D5-49A0-A3F2-3CBD120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6FB7-1498-4ED9-8351-A26FDC43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5D18-DDBE-4D1C-91E7-E944B346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F6EA-16EE-4B3F-A23D-FB246D20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10E4-DF64-4173-96F6-6A38E011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3D95-E9FF-41D6-B303-EFAF4BE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BAD3-C2E4-4F0A-8637-F4B4E3C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323-8008-4255-A7E3-B91D140B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44D2-068E-4355-8882-5D67D07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C49B-7279-4AE4-9E6D-4DC5045A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CFD3-D45D-48A0-BEFB-A034B6A4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77CE-739B-4705-84D7-E80C881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98F9-035A-4016-AD33-6363ED4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529E-D639-4030-B2BF-68BC8F8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3A90-A938-4EF2-AC83-CD91F04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506B-318F-4311-8962-8B1DE71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3C01-B43B-4C87-95C5-E91BF84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309-A8E0-4511-9979-B4916541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4EC-A16F-4702-A352-A96C17A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E8B-D4D0-4900-ACC6-3CD0613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7EF-F996-4177-9643-DBB7A7C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DEB-B65E-4CC7-B33A-A12B997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FC0E-DBBB-43F9-83F3-6A18B6221453}" type="slidenum">
              <a:rPr b="0" lang="ru-RU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54B-BCD1-42CB-BD39-6F41ADEB2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9F2-0098-4A55-825F-6CAC3015725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C51-9649-4BFD-B928-D8E5D423DB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42920" y="178596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mbria"/>
              </a:rPr>
              <a:t>ОТКУДА БЕРЕТСЯ МОЛОКО   НА НАШЕМ СТОЛ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0" y="3962520"/>
            <a:ext cx="3143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ыполн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луцкая Ир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еница 3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редней школы №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г. Бел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 начальных классов Голдахе О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МОЛОК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2052"/>
          <p:cNvSpPr/>
          <p:nvPr/>
        </p:nvSpPr>
        <p:spPr>
          <a:xfrm>
            <a:off x="838080" y="990720"/>
            <a:ext cx="990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НАПИ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ктей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ис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ф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ка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053"/>
          <p:cNvSpPr/>
          <p:nvPr/>
        </p:nvSpPr>
        <p:spPr>
          <a:xfrm>
            <a:off x="3200400" y="2590920"/>
            <a:ext cx="121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яже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твор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ы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масл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ефи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шокол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ли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простоква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йогу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мет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мороже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54"/>
          <p:cNvSpPr/>
          <p:nvPr/>
        </p:nvSpPr>
        <p:spPr>
          <a:xfrm>
            <a:off x="6781680" y="838080"/>
            <a:ext cx="1447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ИСТ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откр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около 7-8  тыся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лет наз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055"/>
          <p:cNvSpPr/>
          <p:nvPr/>
        </p:nvSpPr>
        <p:spPr>
          <a:xfrm>
            <a:off x="1371600" y="2362320"/>
            <a:ext cx="16002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СВОЙ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жид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бе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лад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кус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успокаив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пастеризова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терилизова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ух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Arial"/>
              </a:rPr>
              <a:t>сгуще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056"/>
          <p:cNvSpPr/>
          <p:nvPr/>
        </p:nvSpPr>
        <p:spPr>
          <a:xfrm>
            <a:off x="4419720" y="243828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ЖИВО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ов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ерблюд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057"/>
          <p:cNvSpPr/>
          <p:nvPr/>
        </p:nvSpPr>
        <p:spPr>
          <a:xfrm>
            <a:off x="7086600" y="274320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ВИТАМИ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А    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1</a:t>
            </a:r>
            <a:r>
              <a:rPr b="0" i="1" lang="en-US" sz="600" spc="-1" strike="noStrike">
                <a:solidFill>
                  <a:srgbClr val="66ff66"/>
                </a:solidFill>
                <a:latin typeface="Arial"/>
              </a:rPr>
              <a:t>     </a:t>
            </a:r>
            <a:r>
              <a:rPr b="0" i="1" lang="en-US" sz="9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0" i="1" lang="en-US" sz="700" spc="-1" strike="noStrike">
                <a:solidFill>
                  <a:srgbClr val="66ff66"/>
                </a:solidFill>
                <a:latin typeface="Arial"/>
              </a:rPr>
              <a:t>12</a:t>
            </a:r>
            <a:r>
              <a:rPr b="0" i="1" lang="en-US" sz="1000" spc="-1" strike="noStrike">
                <a:solidFill>
                  <a:srgbClr val="66ff66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66ff66"/>
                </a:solidFill>
                <a:latin typeface="Arial"/>
              </a:rPr>
              <a:t>Е   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058"/>
          <p:cNvSpPr/>
          <p:nvPr/>
        </p:nvSpPr>
        <p:spPr>
          <a:xfrm>
            <a:off x="6248520" y="4343400"/>
            <a:ext cx="1828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ff66"/>
                </a:solidFill>
                <a:uFillTx/>
                <a:latin typeface="Arial"/>
              </a:rPr>
              <a:t>ЗЛА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059"/>
          <p:cNvSpPr/>
          <p:nvPr/>
        </p:nvSpPr>
        <p:spPr>
          <a:xfrm flipH="1">
            <a:off x="3581280" y="1066680"/>
            <a:ext cx="4572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060"/>
          <p:cNvSpPr/>
          <p:nvPr/>
        </p:nvSpPr>
        <p:spPr>
          <a:xfrm>
            <a:off x="4876920" y="1066680"/>
            <a:ext cx="6094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061"/>
          <p:cNvSpPr/>
          <p:nvPr/>
        </p:nvSpPr>
        <p:spPr>
          <a:xfrm>
            <a:off x="5410080" y="1066680"/>
            <a:ext cx="1981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62"/>
          <p:cNvSpPr/>
          <p:nvPr/>
        </p:nvSpPr>
        <p:spPr>
          <a:xfrm>
            <a:off x="5638680" y="1066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063"/>
          <p:cNvSpPr/>
          <p:nvPr/>
        </p:nvSpPr>
        <p:spPr>
          <a:xfrm flipH="1">
            <a:off x="2057400" y="1066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064"/>
          <p:cNvSpPr/>
          <p:nvPr/>
        </p:nvSpPr>
        <p:spPr>
          <a:xfrm flipH="1">
            <a:off x="2286000" y="1143000"/>
            <a:ext cx="13716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5"/>
          <p:cNvSpPr/>
          <p:nvPr/>
        </p:nvSpPr>
        <p:spPr>
          <a:xfrm>
            <a:off x="142920" y="14292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Мы появились на свет с молоком, оно с нами остается на всю жизнь. А откуда молоко бере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Это в городах мы пьем его из пакетиков, а на самом-то деле – его дает кор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7" descr=""/>
          <p:cNvPicPr/>
          <p:nvPr/>
        </p:nvPicPr>
        <p:blipFill>
          <a:blip r:embed="rId1"/>
          <a:stretch/>
        </p:blipFill>
        <p:spPr>
          <a:xfrm>
            <a:off x="142920" y="3214800"/>
            <a:ext cx="4143240" cy="3490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5214960" y="142920"/>
            <a:ext cx="3786120" cy="2390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4429080" y="3214800"/>
            <a:ext cx="4572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В молоке есть всё, что нужно человеку: вода, жиры, белки, ферменты, витамины и минеральные вещества (важнейшие из них – кальций и фосфор, необходимые для костей). 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142920" y="4286160"/>
            <a:ext cx="442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ли выпарить из молока всю влагу, получится белый порошок, так называемое «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ухое молок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. Это очень удобно: стоит развести его водой – и снова получится молоко, разве что не такое вкусное и полезно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6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3357360" cy="2643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4857840" y="4057560"/>
            <a:ext cx="428616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езные свойства молока сохраняются в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гущенном молок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 Его делают из пастеризованного, выпаривают влагу, добавляют сахар, и получается густая питательная масса; съев одну банку, можно целый день не чувствовать голо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8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286080" cy="2643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642960" y="0"/>
            <a:ext cx="7072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ли закипятить молоко, оно будет называться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терилизованным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но в таком молоке сохраняется меньше полезных ве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1786680" y="21420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остраненные мифы о мол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714240" y="1143000"/>
            <a:ext cx="7858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перв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взрослому во вре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оборот, молоко незаменимо людям пожилого возраста для укрепления костей. Легче усваиваются кипяченое молоко и  нежирные молочные проду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714240" y="2690640"/>
            <a:ext cx="771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второй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– яд потому, что вызывает аллерг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а, встречаются люди с аллергией на  молоко, но ведь у многих есть аллергия на мед, шоколад, ягоды и др. Любая пища вредна в большом колич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714240" y="4214880"/>
            <a:ext cx="7715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ф третий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ко плохо усваивается из-за того, что в нем одновременно присутствуют белки, жиры и углево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т. Несмотря на большое количество питательных веществ, все они представлены в молоке в идеальном соотношении. Благодаря этому молоко у здорового человека усваивается очень хорошо. Молоко и молочные продукты незаменимы для диетического питания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571680" y="-142920"/>
            <a:ext cx="7929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b050"/>
                </a:solidFill>
                <a:latin typeface="Cambria"/>
              </a:rPr>
              <a:t>Процесс получения молока на ферм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4" descr="Стог сена"/>
          <p:cNvPicPr/>
          <p:nvPr/>
        </p:nvPicPr>
        <p:blipFill>
          <a:blip r:embed="rId1"/>
          <a:stretch/>
        </p:blipFill>
        <p:spPr>
          <a:xfrm>
            <a:off x="214200" y="928800"/>
            <a:ext cx="3429000" cy="2071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0" y="307188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Летом коровы едят свежую траву, зимой им дают сухое сено и дополнительные питательные доб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6" descr="Дойка"/>
          <p:cNvPicPr/>
          <p:nvPr/>
        </p:nvPicPr>
        <p:blipFill>
          <a:blip r:embed="rId2"/>
          <a:stretch/>
        </p:blipFill>
        <p:spPr>
          <a:xfrm>
            <a:off x="4714920" y="2071800"/>
            <a:ext cx="4286160" cy="2500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4929120" y="928800"/>
            <a:ext cx="400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олоко аккуратно выдаивают из вымени руками в этом нет ничего сложног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Рисунок 8" descr="Настоящее коровье молоко"/>
          <p:cNvPicPr/>
          <p:nvPr/>
        </p:nvPicPr>
        <p:blipFill>
          <a:blip r:embed="rId3"/>
          <a:stretch/>
        </p:blipFill>
        <p:spPr>
          <a:xfrm>
            <a:off x="0" y="4354560"/>
            <a:ext cx="364320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9"/>
          <p:cNvSpPr/>
          <p:nvPr/>
        </p:nvSpPr>
        <p:spPr>
          <a:xfrm>
            <a:off x="4143240" y="500076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сле дойки, из ведра парное молоко разливается по банкам. В дальнейшем оно отправляется в холоди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8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8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80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30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30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857160" y="142920"/>
            <a:ext cx="7786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Cambria"/>
              </a:rPr>
              <a:t>Из молока и молочных продуктов делают разнообразные слад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286000" cy="2114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407160" y="35002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Молочный му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7" descr=""/>
          <p:cNvPicPr/>
          <p:nvPr/>
        </p:nvPicPr>
        <p:blipFill>
          <a:blip r:embed="rId2"/>
          <a:stretch/>
        </p:blipFill>
        <p:spPr>
          <a:xfrm>
            <a:off x="2714760" y="1357200"/>
            <a:ext cx="1928520" cy="20559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"/>
          <p:cNvPicPr/>
          <p:nvPr/>
        </p:nvPicPr>
        <p:blipFill>
          <a:blip r:embed="rId3"/>
          <a:stretch/>
        </p:blipFill>
        <p:spPr>
          <a:xfrm>
            <a:off x="4786200" y="1357200"/>
            <a:ext cx="2214720" cy="209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"/>
          <p:cNvPicPr/>
          <p:nvPr/>
        </p:nvPicPr>
        <p:blipFill>
          <a:blip r:embed="rId4"/>
          <a:stretch/>
        </p:blipFill>
        <p:spPr>
          <a:xfrm>
            <a:off x="7143840" y="1357200"/>
            <a:ext cx="1857240" cy="2071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4072320" y="350028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Т  в  о  р  о  ж  н  ы  е       т  о  р  т 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12" descr=""/>
          <p:cNvPicPr/>
          <p:nvPr/>
        </p:nvPicPr>
        <p:blipFill>
          <a:blip r:embed="rId5"/>
          <a:stretch/>
        </p:blipFill>
        <p:spPr>
          <a:xfrm>
            <a:off x="214200" y="4071960"/>
            <a:ext cx="2357640" cy="2357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10980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ливочный пуд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14" descr=""/>
          <p:cNvPicPr/>
          <p:nvPr/>
        </p:nvPicPr>
        <p:blipFill>
          <a:blip r:embed="rId6"/>
          <a:stretch/>
        </p:blipFill>
        <p:spPr>
          <a:xfrm>
            <a:off x="2928960" y="4000680"/>
            <a:ext cx="2500200" cy="2428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5"/>
          <p:cNvSpPr/>
          <p:nvPr/>
        </p:nvSpPr>
        <p:spPr>
          <a:xfrm>
            <a:off x="2750400" y="64882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ливки с шокола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16" descr=""/>
          <p:cNvPicPr/>
          <p:nvPr/>
        </p:nvPicPr>
        <p:blipFill>
          <a:blip r:embed="rId7"/>
          <a:stretch/>
        </p:blipFill>
        <p:spPr>
          <a:xfrm>
            <a:off x="5786280" y="4071960"/>
            <a:ext cx="2928960" cy="2214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7"/>
          <p:cNvSpPr/>
          <p:nvPr/>
        </p:nvSpPr>
        <p:spPr>
          <a:xfrm>
            <a:off x="6598440" y="635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ыр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5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5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5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50"/>
                            </p:stCondLst>
                            <p:childTnLst>
                              <p:par>
                                <p:cTn id="4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200"/>
                            </p:stCondLst>
                            <p:childTnLst>
                              <p:par>
                                <p:cTn id="4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9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465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650"/>
                            </p:stCondLst>
                            <p:childTnLst>
                              <p:par>
                                <p:cTn id="4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428760" y="214200"/>
            <a:ext cx="835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Затем молоко попадает на молокозавод, где проходит дальнейшую переработку и попадает к нам на стол в виде питьевого молока и огромного разнообразия молочных продуктов, в том числе и мороженог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6215040" y="192888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"/>
          <p:cNvPicPr/>
          <p:nvPr/>
        </p:nvPicPr>
        <p:blipFill>
          <a:blip r:embed="rId2"/>
          <a:stretch/>
        </p:blipFill>
        <p:spPr>
          <a:xfrm>
            <a:off x="0" y="4500720"/>
            <a:ext cx="9144000" cy="235728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6" descr=""/>
          <p:cNvPicPr/>
          <p:nvPr/>
        </p:nvPicPr>
        <p:blipFill>
          <a:blip r:embed="rId3"/>
          <a:stretch/>
        </p:blipFill>
        <p:spPr>
          <a:xfrm>
            <a:off x="706320" y="2225520"/>
            <a:ext cx="4511880" cy="200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29:35Z</dcterms:created>
  <dc:creator>Admin</dc:creator>
  <dc:description/>
  <dc:language>en-US</dc:language>
  <cp:lastModifiedBy>Vova</cp:lastModifiedBy>
  <dcterms:modified xsi:type="dcterms:W3CDTF">2010-02-03T19:59:39Z</dcterms:modified>
  <cp:revision>40</cp:revision>
  <dc:subject/>
  <dc:title>Слайд 1</dc:title>
</cp:coreProperties>
</file>