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F2A-C7D1-4944-8DBF-892529AD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49E-18EC-4478-B476-056B80F6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3B4-0442-4185-9031-D2753912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6CF-CA99-4888-9A0F-AA542B2E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E27C-B8D0-4932-BB22-785A5175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0B7A-C71C-4768-82E2-C0384676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D48A-B225-4A81-91C5-21FC9AA7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6F13-414F-4AE1-994C-9D6ABB45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5FE9-1009-4DC3-9330-79763084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746D-49B1-4FF4-AF14-92A71EC1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6D51-ED13-46BB-8878-AD7A8DE5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BF25-EB7E-4062-A08A-849416EC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9B45-C609-488B-8900-3D205F1D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2441-1A33-41D9-9CF4-354A7D73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4E29-DB51-478E-89E9-BF2141D7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B6BC-ECB6-4876-A984-FDBCC6B7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0C7D-F37F-43EA-8262-1FE21E64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BB944-143D-44C4-A311-256D68AA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858BD-D543-43FE-B73D-CD479BD6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577E7-165E-48E3-ADEB-C18F7462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16D89-E4F9-46FE-B6A8-8BACD182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94BC-EF7A-4226-95E2-770E33F3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37CF-1BCA-4B14-A17F-E09E4210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377E3-D873-4CE8-9AB5-54FE6AD1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45273-A741-41A7-8483-E6291ADF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098AD-2E7E-4E09-A2DA-FAF59E9B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4EDC8-BD8E-4B87-9397-F434081A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A27B6-40E2-42C0-80BA-A0AC035A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9005F-793A-4935-87F6-7E85BABE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C3DA3-8988-4320-BA20-8301C966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5CC35-C52D-4DFF-B1DF-F6E67679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25C71-C0D0-41A0-AACE-5186B299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831FC-F81A-4FFD-B651-87D21859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297D-D400-471C-8BBC-DAAB7057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4EF28-E3E1-4501-8D6B-C6B1A33E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76764-0AF0-4623-83D8-F8CCB5FC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65BD1-0E4B-4CC7-A7ED-3DA0BDE3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8E5C4-AFEA-4C68-A4D5-D904A8B4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A07BF-6539-4773-B335-EB51FA8C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F6418-BA3D-4788-B709-AAB6653B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5354D-1208-4C5F-8BD7-A27A4E28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D55DF-3508-4ED2-B8A1-60B49ABC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4F1BC-0475-415A-AB32-09C0367F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CC7-7D65-4B5F-B5A5-34AF1047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3389-CBC0-4742-A478-C6FA5939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CEC-0831-4EDB-90B0-89DA5C30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44A7-D582-47C4-973B-CBA78A71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1A0-CB92-4BBD-B8B9-A59E557B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C263-890D-4218-997E-BB0E28626AA5}" type="slidenum">
              <a:rPr b="0" lang="ru-RU" sz="12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AD7A-3632-4812-876A-7DA296BE5F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C4E3-0117-4743-91FA-2C909A01C7C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F840-CB32-4DEA-A287-543837F2552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142920" y="1785960"/>
            <a:ext cx="878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ambria"/>
              </a:rPr>
              <a:t>ОТКУДА БЕРЕТСЯ МОЛОКО   НА НАШЕМ СТОЛ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0" y="3962520"/>
            <a:ext cx="3143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Выполнил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Слуцкая Ири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ученица 3 «Б»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средней школы №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г. Белго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учитель начальных классов Голдахе О.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МОЛОКО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 Box 2052"/>
          <p:cNvSpPr/>
          <p:nvPr/>
        </p:nvSpPr>
        <p:spPr>
          <a:xfrm>
            <a:off x="838080" y="990720"/>
            <a:ext cx="990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Arial"/>
              </a:rPr>
              <a:t>НАПИ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коктей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кис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коф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кака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053"/>
          <p:cNvSpPr/>
          <p:nvPr/>
        </p:nvSpPr>
        <p:spPr>
          <a:xfrm>
            <a:off x="3200400" y="2590920"/>
            <a:ext cx="12193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Arial"/>
              </a:rPr>
              <a:t>ПРОДУ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ряже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творо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сы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масл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кефи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каш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шокола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слив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простокваш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йогур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смета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мороже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054"/>
          <p:cNvSpPr/>
          <p:nvPr/>
        </p:nvSpPr>
        <p:spPr>
          <a:xfrm>
            <a:off x="6781680" y="838080"/>
            <a:ext cx="1447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66ff66"/>
                </a:solidFill>
                <a:uFillTx/>
                <a:latin typeface="Arial"/>
              </a:rPr>
              <a:t>ИСТО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66"/>
                </a:solidFill>
                <a:latin typeface="Arial"/>
              </a:rPr>
              <a:t>откры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66"/>
                </a:solidFill>
                <a:latin typeface="Arial"/>
              </a:rPr>
              <a:t>около 7-8  тыся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66"/>
                </a:solidFill>
                <a:latin typeface="Arial"/>
              </a:rPr>
              <a:t>лет наза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055"/>
          <p:cNvSpPr/>
          <p:nvPr/>
        </p:nvSpPr>
        <p:spPr>
          <a:xfrm>
            <a:off x="1371600" y="2362320"/>
            <a:ext cx="160020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Arial"/>
              </a:rPr>
              <a:t>СВОЙ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кисл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жид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бел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слад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вкусн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66"/>
                </a:solidFill>
                <a:latin typeface="Arial"/>
              </a:rPr>
              <a:t>успокаива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66"/>
                </a:solidFill>
                <a:latin typeface="Arial"/>
              </a:rPr>
              <a:t>пастеризова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66"/>
                </a:solidFill>
                <a:latin typeface="Arial"/>
              </a:rPr>
              <a:t>стерилизова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66"/>
                </a:solidFill>
                <a:latin typeface="Arial"/>
              </a:rPr>
              <a:t>сух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66"/>
                </a:solidFill>
                <a:latin typeface="Arial"/>
              </a:rPr>
              <a:t>сгуще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056"/>
          <p:cNvSpPr/>
          <p:nvPr/>
        </p:nvSpPr>
        <p:spPr>
          <a:xfrm>
            <a:off x="4419720" y="2438280"/>
            <a:ext cx="25146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Arial"/>
              </a:rPr>
              <a:t>ЖИВОТ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кор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к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овц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верблюдиц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057"/>
          <p:cNvSpPr/>
          <p:nvPr/>
        </p:nvSpPr>
        <p:spPr>
          <a:xfrm>
            <a:off x="7086600" y="2743200"/>
            <a:ext cx="1752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66ff66"/>
                </a:solidFill>
                <a:uFillTx/>
                <a:latin typeface="Arial"/>
              </a:rPr>
              <a:t>ВИТАМИ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66"/>
                </a:solidFill>
                <a:latin typeface="Arial"/>
              </a:rPr>
              <a:t>А    В</a:t>
            </a:r>
            <a:r>
              <a:rPr b="0" i="1" lang="en-US" sz="700" spc="-1" strike="noStrike">
                <a:solidFill>
                  <a:srgbClr val="66ff66"/>
                </a:solidFill>
                <a:latin typeface="Arial"/>
              </a:rPr>
              <a:t>1</a:t>
            </a:r>
            <a:r>
              <a:rPr b="0" i="1" lang="en-US" sz="600" spc="-1" strike="noStrike">
                <a:solidFill>
                  <a:srgbClr val="66ff66"/>
                </a:solidFill>
                <a:latin typeface="Arial"/>
              </a:rPr>
              <a:t>     </a:t>
            </a:r>
            <a:r>
              <a:rPr b="0" i="1" lang="en-US" sz="9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66ff66"/>
                </a:solidFill>
                <a:latin typeface="Arial"/>
              </a:rPr>
              <a:t>В</a:t>
            </a:r>
            <a:r>
              <a:rPr b="0" i="1" lang="en-US" sz="700" spc="-1" strike="noStrike">
                <a:solidFill>
                  <a:srgbClr val="66ff66"/>
                </a:solidFill>
                <a:latin typeface="Arial"/>
              </a:rPr>
              <a:t>2</a:t>
            </a:r>
            <a:r>
              <a:rPr b="0" i="1" lang="en-US" sz="1200" spc="-1" strike="noStrike">
                <a:solidFill>
                  <a:srgbClr val="66ff66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66ff66"/>
                </a:solidFill>
                <a:latin typeface="Arial"/>
              </a:rPr>
              <a:t>В</a:t>
            </a:r>
            <a:r>
              <a:rPr b="0" i="1" lang="en-US" sz="700" spc="-1" strike="noStrike">
                <a:solidFill>
                  <a:srgbClr val="66ff66"/>
                </a:solidFill>
                <a:latin typeface="Arial"/>
              </a:rPr>
              <a:t>12</a:t>
            </a:r>
            <a:r>
              <a:rPr b="0" i="1" lang="en-US" sz="1000" spc="-1" strike="noStrike">
                <a:solidFill>
                  <a:srgbClr val="66ff66"/>
                </a:solidFill>
                <a:latin typeface="Arial"/>
              </a:rPr>
              <a:t>    </a:t>
            </a:r>
            <a:r>
              <a:rPr b="0" i="1" lang="en-US" sz="1200" spc="-1" strike="noStrike">
                <a:solidFill>
                  <a:srgbClr val="66ff66"/>
                </a:solidFill>
                <a:latin typeface="Arial"/>
              </a:rPr>
              <a:t>Е    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058"/>
          <p:cNvSpPr/>
          <p:nvPr/>
        </p:nvSpPr>
        <p:spPr>
          <a:xfrm>
            <a:off x="6248520" y="4343400"/>
            <a:ext cx="1828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66ff66"/>
                </a:solidFill>
                <a:uFillTx/>
                <a:latin typeface="Arial"/>
              </a:rPr>
              <a:t>БЕЛ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66ff66"/>
                </a:solidFill>
                <a:uFillTx/>
                <a:latin typeface="Arial"/>
              </a:rPr>
              <a:t>ЗЛА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2059"/>
          <p:cNvSpPr/>
          <p:nvPr/>
        </p:nvSpPr>
        <p:spPr>
          <a:xfrm flipH="1">
            <a:off x="3581280" y="1066680"/>
            <a:ext cx="45720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2060"/>
          <p:cNvSpPr/>
          <p:nvPr/>
        </p:nvSpPr>
        <p:spPr>
          <a:xfrm>
            <a:off x="4876920" y="1066680"/>
            <a:ext cx="6094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061"/>
          <p:cNvSpPr/>
          <p:nvPr/>
        </p:nvSpPr>
        <p:spPr>
          <a:xfrm>
            <a:off x="5410080" y="1066680"/>
            <a:ext cx="198144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2062"/>
          <p:cNvSpPr/>
          <p:nvPr/>
        </p:nvSpPr>
        <p:spPr>
          <a:xfrm>
            <a:off x="5638680" y="10666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063"/>
          <p:cNvSpPr/>
          <p:nvPr/>
        </p:nvSpPr>
        <p:spPr>
          <a:xfrm flipH="1">
            <a:off x="2057400" y="10666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064"/>
          <p:cNvSpPr/>
          <p:nvPr/>
        </p:nvSpPr>
        <p:spPr>
          <a:xfrm flipH="1">
            <a:off x="2286000" y="1143000"/>
            <a:ext cx="13716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5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5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5"/>
          <p:cNvSpPr/>
          <p:nvPr/>
        </p:nvSpPr>
        <p:spPr>
          <a:xfrm>
            <a:off x="142920" y="142920"/>
            <a:ext cx="5000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Мы появились на свет с молоком, оно с нами остается на всю жизнь. А откуда молоко беретс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Это в городах мы пьем его из пакетиков, а на самом-то деле – его дает коро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7" descr=""/>
          <p:cNvPicPr/>
          <p:nvPr/>
        </p:nvPicPr>
        <p:blipFill>
          <a:blip r:embed="rId1"/>
          <a:stretch/>
        </p:blipFill>
        <p:spPr>
          <a:xfrm>
            <a:off x="142920" y="3214800"/>
            <a:ext cx="4143240" cy="349092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8" descr=""/>
          <p:cNvPicPr/>
          <p:nvPr/>
        </p:nvPicPr>
        <p:blipFill>
          <a:blip r:embed="rId2"/>
          <a:stretch/>
        </p:blipFill>
        <p:spPr>
          <a:xfrm>
            <a:off x="5214960" y="142920"/>
            <a:ext cx="3786120" cy="2390760"/>
          </a:xfrm>
          <a:prstGeom prst="rect">
            <a:avLst/>
          </a:prstGeom>
          <a:ln w="0">
            <a:noFill/>
          </a:ln>
        </p:spPr>
      </p:pic>
      <p:sp>
        <p:nvSpPr>
          <p:cNvPr id="184" name="TextBox 9"/>
          <p:cNvSpPr/>
          <p:nvPr/>
        </p:nvSpPr>
        <p:spPr>
          <a:xfrm>
            <a:off x="4429080" y="3214800"/>
            <a:ext cx="45720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В молоке есть всё, что нужно человеку: вода, жиры, белки, ферменты, витамины и минеральные вещества (важнейшие из них – кальций и фосфор, необходимые для костей). 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5"/>
          <p:cNvSpPr/>
          <p:nvPr/>
        </p:nvSpPr>
        <p:spPr>
          <a:xfrm>
            <a:off x="142920" y="4286160"/>
            <a:ext cx="44290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Если выпарить из молока всю влагу, получится белый порошок, так называемое «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сухое молоко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». Это очень удобно: стоит развести его водой – и снова получится молоко, разве что не такое вкусное и полезное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Рисунок 6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3357360" cy="26431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4857840" y="4057560"/>
            <a:ext cx="428616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лезные свойства молока сохраняются в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сгущенном молоке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. Его делают из пастеризованного, выпаривают влагу, добавляют сахар, и получается густая питательная масса; съев одну банку, можно целый день не чувствовать голод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Рисунок 8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286080" cy="26431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9"/>
          <p:cNvSpPr/>
          <p:nvPr/>
        </p:nvSpPr>
        <p:spPr>
          <a:xfrm>
            <a:off x="642960" y="0"/>
            <a:ext cx="7072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Если закипятить молоко, оно будет называться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стерилизованным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но в таком молоке сохраняется меньше полезных веще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500"/>
                            </p:stCondLst>
                            <p:childTnLst>
                              <p:par>
                                <p:cTn id="2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500"/>
                            </p:stCondLst>
                            <p:childTnLst>
                              <p:par>
                                <p:cTn id="2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3"/>
          <p:cNvSpPr/>
          <p:nvPr/>
        </p:nvSpPr>
        <p:spPr>
          <a:xfrm>
            <a:off x="1786680" y="214200"/>
            <a:ext cx="573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спространенные мифы о моло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714240" y="1143000"/>
            <a:ext cx="7858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иф первый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око взрослому во вред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Наоборот, молоко незаменимо людям пожилого возраста для укрепления костей. Легче усваиваются кипяченое молоко и  нежирные молочные продук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5"/>
          <p:cNvSpPr/>
          <p:nvPr/>
        </p:nvSpPr>
        <p:spPr>
          <a:xfrm>
            <a:off x="714240" y="2690640"/>
            <a:ext cx="77155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иф второй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око – яд потому, что вызывает аллергию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а, встречаются люди с аллергией на  молоко, но ведь у многих есть аллергия на мед, шоколад, ягоды и др. Любая пища вредна в большом количест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714240" y="4214880"/>
            <a:ext cx="77155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иф третий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око плохо усваивается из-за того, что в нем одновременно присутствуют белки, жиры и углево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Нет. Несмотря на большое количество питательных веществ, все они представлены в молоке в идеальном соотношении. Благодаря этому молоко у здорового человека усваивается очень хорошо. Молоко и молочные продукты незаменимы для диетического питания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3"/>
          <p:cNvSpPr/>
          <p:nvPr/>
        </p:nvSpPr>
        <p:spPr>
          <a:xfrm>
            <a:off x="571680" y="-142920"/>
            <a:ext cx="7929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b050"/>
                </a:solidFill>
                <a:latin typeface="Cambria"/>
              </a:rPr>
              <a:t>Процесс получения молока на ферм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Рисунок 4" descr="Стог сена"/>
          <p:cNvPicPr/>
          <p:nvPr/>
        </p:nvPicPr>
        <p:blipFill>
          <a:blip r:embed="rId1"/>
          <a:stretch/>
        </p:blipFill>
        <p:spPr>
          <a:xfrm>
            <a:off x="214200" y="928800"/>
            <a:ext cx="3429000" cy="20714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5"/>
          <p:cNvSpPr/>
          <p:nvPr/>
        </p:nvSpPr>
        <p:spPr>
          <a:xfrm>
            <a:off x="0" y="3071880"/>
            <a:ext cx="47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Летом коровы едят свежую траву, зимой им дают сухое сено и дополнительные питательные добав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Рисунок 6" descr="Дойка"/>
          <p:cNvPicPr/>
          <p:nvPr/>
        </p:nvPicPr>
        <p:blipFill>
          <a:blip r:embed="rId2"/>
          <a:stretch/>
        </p:blipFill>
        <p:spPr>
          <a:xfrm>
            <a:off x="4714920" y="2071800"/>
            <a:ext cx="4286160" cy="25002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7"/>
          <p:cNvSpPr/>
          <p:nvPr/>
        </p:nvSpPr>
        <p:spPr>
          <a:xfrm>
            <a:off x="4929120" y="928800"/>
            <a:ext cx="4000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олоко аккуратно выдаивают из вымени руками в этом нет ничего сложного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Рисунок 8" descr="Настоящее коровье молоко"/>
          <p:cNvPicPr/>
          <p:nvPr/>
        </p:nvPicPr>
        <p:blipFill>
          <a:blip r:embed="rId3"/>
          <a:stretch/>
        </p:blipFill>
        <p:spPr>
          <a:xfrm>
            <a:off x="0" y="4354560"/>
            <a:ext cx="3643200" cy="25034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9"/>
          <p:cNvSpPr/>
          <p:nvPr/>
        </p:nvSpPr>
        <p:spPr>
          <a:xfrm>
            <a:off x="4143240" y="5000760"/>
            <a:ext cx="43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осле дойки, из ведра парное молоко разливается по банкам. В дальнейшем оно отправляется в холоди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800"/>
                            </p:stCondLst>
                            <p:childTnLst>
                              <p:par>
                                <p:cTn id="3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800"/>
                            </p:stCondLst>
                            <p:childTnLst>
                              <p:par>
                                <p:cTn id="3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800"/>
                            </p:stCondLst>
                            <p:childTnLst>
                              <p:par>
                                <p:cTn id="3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800"/>
                            </p:stCondLst>
                            <p:childTnLst>
                              <p:par>
                                <p:cTn id="3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300"/>
                            </p:stCondLst>
                            <p:childTnLst>
                              <p:par>
                                <p:cTn id="3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300"/>
                            </p:stCondLst>
                            <p:childTnLst>
                              <p:par>
                                <p:cTn id="3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857160" y="142920"/>
            <a:ext cx="77868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Cambria"/>
              </a:rPr>
              <a:t>Из молока и молочных продуктов делают разнообразные сладост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Рисунок 4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2286000" cy="2114640"/>
          </a:xfrm>
          <a:prstGeom prst="rect">
            <a:avLst/>
          </a:prstGeom>
          <a:ln w="0">
            <a:noFill/>
          </a:ln>
        </p:spPr>
      </p:pic>
      <p:sp>
        <p:nvSpPr>
          <p:cNvPr id="203" name="TextBox 5"/>
          <p:cNvSpPr/>
          <p:nvPr/>
        </p:nvSpPr>
        <p:spPr>
          <a:xfrm>
            <a:off x="407160" y="350028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Молочный мус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Рисунок 7" descr=""/>
          <p:cNvPicPr/>
          <p:nvPr/>
        </p:nvPicPr>
        <p:blipFill>
          <a:blip r:embed="rId2"/>
          <a:stretch/>
        </p:blipFill>
        <p:spPr>
          <a:xfrm>
            <a:off x="2714760" y="1357200"/>
            <a:ext cx="1928520" cy="20559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8" descr=""/>
          <p:cNvPicPr/>
          <p:nvPr/>
        </p:nvPicPr>
        <p:blipFill>
          <a:blip r:embed="rId3"/>
          <a:stretch/>
        </p:blipFill>
        <p:spPr>
          <a:xfrm>
            <a:off x="4786200" y="1357200"/>
            <a:ext cx="2214720" cy="20941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9" descr=""/>
          <p:cNvPicPr/>
          <p:nvPr/>
        </p:nvPicPr>
        <p:blipFill>
          <a:blip r:embed="rId4"/>
          <a:stretch/>
        </p:blipFill>
        <p:spPr>
          <a:xfrm>
            <a:off x="7143840" y="1357200"/>
            <a:ext cx="1857240" cy="20718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1"/>
          <p:cNvSpPr/>
          <p:nvPr/>
        </p:nvSpPr>
        <p:spPr>
          <a:xfrm>
            <a:off x="4072320" y="3500280"/>
            <a:ext cx="39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Т  в  о  р  о  ж  н  ы  е       т  о  р  т  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Рисунок 12" descr=""/>
          <p:cNvPicPr/>
          <p:nvPr/>
        </p:nvPicPr>
        <p:blipFill>
          <a:blip r:embed="rId5"/>
          <a:stretch/>
        </p:blipFill>
        <p:spPr>
          <a:xfrm>
            <a:off x="214200" y="4071960"/>
            <a:ext cx="2357640" cy="23572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3"/>
          <p:cNvSpPr/>
          <p:nvPr/>
        </p:nvSpPr>
        <p:spPr>
          <a:xfrm>
            <a:off x="109800" y="648828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Сливочный пудин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Рисунок 14" descr=""/>
          <p:cNvPicPr/>
          <p:nvPr/>
        </p:nvPicPr>
        <p:blipFill>
          <a:blip r:embed="rId6"/>
          <a:stretch/>
        </p:blipFill>
        <p:spPr>
          <a:xfrm>
            <a:off x="2928960" y="4000680"/>
            <a:ext cx="2500200" cy="24285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5"/>
          <p:cNvSpPr/>
          <p:nvPr/>
        </p:nvSpPr>
        <p:spPr>
          <a:xfrm>
            <a:off x="2750400" y="648828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Сливки с шоколад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Рисунок 16" descr=""/>
          <p:cNvPicPr/>
          <p:nvPr/>
        </p:nvPicPr>
        <p:blipFill>
          <a:blip r:embed="rId7"/>
          <a:stretch/>
        </p:blipFill>
        <p:spPr>
          <a:xfrm>
            <a:off x="5786280" y="4071960"/>
            <a:ext cx="2928960" cy="22147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7"/>
          <p:cNvSpPr/>
          <p:nvPr/>
        </p:nvSpPr>
        <p:spPr>
          <a:xfrm>
            <a:off x="6598440" y="6357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сыр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550"/>
                            </p:stCondLst>
                            <p:childTnLst>
                              <p:par>
                                <p:cTn id="3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550"/>
                            </p:stCondLst>
                            <p:childTnLst>
                              <p:par>
                                <p:cTn id="3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550"/>
                            </p:stCondLst>
                            <p:childTnLst>
                              <p:par>
                                <p:cTn id="4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550"/>
                            </p:stCondLst>
                            <p:childTnLst>
                              <p:par>
                                <p:cTn id="4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9200"/>
                            </p:stCondLst>
                            <p:childTnLst>
                              <p:par>
                                <p:cTn id="4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200"/>
                            </p:stCondLst>
                            <p:childTnLst>
                              <p:par>
                                <p:cTn id="4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1900"/>
                            </p:stCondLst>
                            <p:childTnLst>
                              <p:par>
                                <p:cTn id="4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2900"/>
                            </p:stCondLst>
                            <p:childTnLst>
                              <p:par>
                                <p:cTn id="4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4650"/>
                            </p:stCondLst>
                            <p:childTnLst>
                              <p:par>
                                <p:cTn id="4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650"/>
                            </p:stCondLst>
                            <p:childTnLst>
                              <p:par>
                                <p:cTn id="4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3"/>
          <p:cNvSpPr/>
          <p:nvPr/>
        </p:nvSpPr>
        <p:spPr>
          <a:xfrm>
            <a:off x="428760" y="214200"/>
            <a:ext cx="8358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libri"/>
              </a:rPr>
              <a:t>Затем молоко попадает на молокозавод, где проходит дальнейшую переработку и попадает к нам на стол в виде питьевого молока и огромного разнообразия молочных продуктов, в том числе и мороженого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Рисунок 4" descr=""/>
          <p:cNvPicPr/>
          <p:nvPr/>
        </p:nvPicPr>
        <p:blipFill>
          <a:blip r:embed="rId1"/>
          <a:stretch/>
        </p:blipFill>
        <p:spPr>
          <a:xfrm>
            <a:off x="6215040" y="192888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5" descr=""/>
          <p:cNvPicPr/>
          <p:nvPr/>
        </p:nvPicPr>
        <p:blipFill>
          <a:blip r:embed="rId2"/>
          <a:stretch/>
        </p:blipFill>
        <p:spPr>
          <a:xfrm>
            <a:off x="0" y="4500720"/>
            <a:ext cx="9144000" cy="2357280"/>
          </a:xfrm>
          <a:prstGeom prst="rect">
            <a:avLst/>
          </a:prstGeom>
          <a:ln w="0">
            <a:noFill/>
          </a:ln>
        </p:spPr>
      </p:pic>
      <p:pic>
        <p:nvPicPr>
          <p:cNvPr id="217" name="TextBox 6" descr=""/>
          <p:cNvPicPr/>
          <p:nvPr/>
        </p:nvPicPr>
        <p:blipFill>
          <a:blip r:embed="rId3"/>
          <a:stretch/>
        </p:blipFill>
        <p:spPr>
          <a:xfrm>
            <a:off x="706320" y="2225520"/>
            <a:ext cx="4511880" cy="200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1:29:35Z</dcterms:created>
  <dc:creator>Admin</dc:creator>
  <dc:description/>
  <dc:language>en-US</dc:language>
  <cp:lastModifiedBy>Vova</cp:lastModifiedBy>
  <dcterms:modified xsi:type="dcterms:W3CDTF">2010-02-03T19:59:39Z</dcterms:modified>
  <cp:revision>40</cp:revision>
  <dc:subject/>
  <dc:title>Слайд 1</dc:title>
</cp:coreProperties>
</file>