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A21-EC6E-476B-AA7C-E9CBD153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CEB-D54D-4F37-95C9-F67CC9C0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D81-E60D-4C3C-AA7F-9EA7020F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98E-B1ED-4649-B853-D0F00D1F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1B4-61F3-4096-860F-E0029CE6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1ED-4D48-4309-88B7-BEFF53AE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BC0-8CF5-4224-AB9D-3A1F42DE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FA8-E632-4083-8323-325D42C6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D40-9186-4BB7-8331-26437B1A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297-D111-4F61-8DDB-21468A2E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522-9A6A-47EC-86EA-A04A93B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217-E81A-49CC-A1C8-8CFB1E8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207E-80D4-4F02-98D3-16C1AFFA6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49840" y="4868640"/>
            <a:ext cx="169380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в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vet"/>
          <p:cNvPicPr/>
          <p:nvPr/>
        </p:nvPicPr>
        <p:blipFill>
          <a:blip r:embed="rId1"/>
          <a:stretch/>
        </p:blipFill>
        <p:spPr>
          <a:xfrm>
            <a:off x="61128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5897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Врубель «Демон сидящ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5e9dc82a17ba"/>
          <p:cNvPicPr/>
          <p:nvPr/>
        </p:nvPicPr>
        <p:blipFill>
          <a:blip r:embed="rId1"/>
          <a:stretch/>
        </p:blipFill>
        <p:spPr>
          <a:xfrm>
            <a:off x="179280" y="549360"/>
            <a:ext cx="87138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80000" y="2924280"/>
            <a:ext cx="158436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-Водки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упание красного ко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01112-001231S"/>
          <p:cNvPicPr/>
          <p:nvPr/>
        </p:nvPicPr>
        <p:blipFill>
          <a:blip r:embed="rId1"/>
          <a:stretch/>
        </p:blipFill>
        <p:spPr>
          <a:xfrm>
            <a:off x="179280" y="189000"/>
            <a:ext cx="727236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64c4656cb0fd22105bd4aef752669ec_full"/>
          <p:cNvPicPr/>
          <p:nvPr/>
        </p:nvPicPr>
        <p:blipFill>
          <a:blip r:embed="rId1"/>
          <a:stretch/>
        </p:blipFill>
        <p:spPr>
          <a:xfrm>
            <a:off x="179280" y="189000"/>
            <a:ext cx="7705800" cy="5983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12000" y="2707920"/>
            <a:ext cx="1332000" cy="38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-Водки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08720" y="1600200"/>
            <a:ext cx="1378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Изображение"/>
          <p:cNvPicPr/>
          <p:nvPr/>
        </p:nvPicPr>
        <p:blipFill>
          <a:blip r:embed="rId1"/>
          <a:stretch/>
        </p:blipFill>
        <p:spPr>
          <a:xfrm>
            <a:off x="250920" y="2349360"/>
            <a:ext cx="2382840" cy="3240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Изображение 001"/>
          <p:cNvPicPr/>
          <p:nvPr/>
        </p:nvPicPr>
        <p:blipFill>
          <a:blip r:embed="rId2"/>
          <a:stretch/>
        </p:blipFill>
        <p:spPr>
          <a:xfrm>
            <a:off x="4356000" y="260280"/>
            <a:ext cx="2244960" cy="3240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Изображение 003"/>
          <p:cNvPicPr/>
          <p:nvPr/>
        </p:nvPicPr>
        <p:blipFill>
          <a:blip r:embed="rId3"/>
          <a:stretch/>
        </p:blipFill>
        <p:spPr>
          <a:xfrm>
            <a:off x="2916360" y="3716280"/>
            <a:ext cx="3600360" cy="2710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Изображение 002"/>
          <p:cNvPicPr/>
          <p:nvPr/>
        </p:nvPicPr>
        <p:blipFill>
          <a:blip r:embed="rId4"/>
          <a:stretch/>
        </p:blipFill>
        <p:spPr>
          <a:xfrm>
            <a:off x="6889680" y="1341360"/>
            <a:ext cx="22543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5:48:06Z</dcterms:created>
  <dc:creator>Андрей</dc:creator>
  <dc:description/>
  <dc:language>en-US</dc:language>
  <cp:lastModifiedBy>Admin</cp:lastModifiedBy>
  <dcterms:modified xsi:type="dcterms:W3CDTF">2013-01-16T15:45:38Z</dcterms:modified>
  <cp:revision>5</cp:revision>
  <dc:subject/>
  <dc:title>А.Врубель. «Демон сидящий».</dc:title>
</cp:coreProperties>
</file>