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BF7-BFE8-48A5-89DE-A6CE118C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CCB-5DBA-44B8-B5E8-C746524E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FAF-A5A6-4F33-ABF3-B2CE9B7D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674-1B27-44D1-A123-C3A54F95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BE0-E3E4-425A-BDAD-5D9FCC34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2A4-D7C6-4D72-B6F1-462F7E0C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2EB-A0BE-4F0C-95D8-016A1EDB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476-210D-415F-9A83-DE5CAC6A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0BF-3021-4BFC-905B-1E4BEC9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E35-474F-44EC-8D92-952E3550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460-44B9-4D4D-B9A0-A407A6EF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989-6BA6-403E-81B4-96828144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B969-82E3-4A56-835A-D585083FD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49840" y="4868640"/>
            <a:ext cx="16938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в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vet"/>
          <p:cNvPicPr/>
          <p:nvPr/>
        </p:nvPicPr>
        <p:blipFill>
          <a:blip r:embed="rId1"/>
          <a:stretch/>
        </p:blipFill>
        <p:spPr>
          <a:xfrm>
            <a:off x="61128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5897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Врубель «Демон сидящ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5e9dc82a17ba"/>
          <p:cNvPicPr/>
          <p:nvPr/>
        </p:nvPicPr>
        <p:blipFill>
          <a:blip r:embed="rId1"/>
          <a:stretch/>
        </p:blipFill>
        <p:spPr>
          <a:xfrm>
            <a:off x="179280" y="549360"/>
            <a:ext cx="87138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80000" y="2924280"/>
            <a:ext cx="158436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-Водк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упание красного ко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01112-001231S"/>
          <p:cNvPicPr/>
          <p:nvPr/>
        </p:nvPicPr>
        <p:blipFill>
          <a:blip r:embed="rId1"/>
          <a:stretch/>
        </p:blipFill>
        <p:spPr>
          <a:xfrm>
            <a:off x="179280" y="189000"/>
            <a:ext cx="72723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64c4656cb0fd22105bd4aef752669ec_full"/>
          <p:cNvPicPr/>
          <p:nvPr/>
        </p:nvPicPr>
        <p:blipFill>
          <a:blip r:embed="rId1"/>
          <a:stretch/>
        </p:blipFill>
        <p:spPr>
          <a:xfrm>
            <a:off x="179280" y="189000"/>
            <a:ext cx="7705800" cy="5983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12000" y="2707920"/>
            <a:ext cx="1332000" cy="38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-Водк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08720" y="1600200"/>
            <a:ext cx="1378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Изображение"/>
          <p:cNvPicPr/>
          <p:nvPr/>
        </p:nvPicPr>
        <p:blipFill>
          <a:blip r:embed="rId1"/>
          <a:stretch/>
        </p:blipFill>
        <p:spPr>
          <a:xfrm>
            <a:off x="250920" y="2349360"/>
            <a:ext cx="2382840" cy="3240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Изображение 001"/>
          <p:cNvPicPr/>
          <p:nvPr/>
        </p:nvPicPr>
        <p:blipFill>
          <a:blip r:embed="rId2"/>
          <a:stretch/>
        </p:blipFill>
        <p:spPr>
          <a:xfrm>
            <a:off x="4356000" y="260280"/>
            <a:ext cx="2244960" cy="3240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Изображение 003"/>
          <p:cNvPicPr/>
          <p:nvPr/>
        </p:nvPicPr>
        <p:blipFill>
          <a:blip r:embed="rId3"/>
          <a:stretch/>
        </p:blipFill>
        <p:spPr>
          <a:xfrm>
            <a:off x="2916360" y="3716280"/>
            <a:ext cx="3600360" cy="2710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Изображение 002"/>
          <p:cNvPicPr/>
          <p:nvPr/>
        </p:nvPicPr>
        <p:blipFill>
          <a:blip r:embed="rId4"/>
          <a:stretch/>
        </p:blipFill>
        <p:spPr>
          <a:xfrm>
            <a:off x="6889680" y="1341360"/>
            <a:ext cx="22543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5:48:06Z</dcterms:created>
  <dc:creator>Андрей</dc:creator>
  <dc:description/>
  <dc:language>en-US</dc:language>
  <cp:lastModifiedBy>Admin</cp:lastModifiedBy>
  <dcterms:modified xsi:type="dcterms:W3CDTF">2013-01-16T15:45:38Z</dcterms:modified>
  <cp:revision>5</cp:revision>
  <dc:subject/>
  <dc:title>А.Врубель. «Демон сидящий».</dc:title>
</cp:coreProperties>
</file>