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4D9D-7FEB-4AE4-9AAA-E89142EAFE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8718-7AA9-43CC-BE2F-E9986D65BA68}" type="slidenum"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4A59-14C8-44DC-BAD8-FDFAA7B51938}" type="slidenum"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63D4-DDD6-4F3A-93D2-FFD5F88930D0}" type="slidenum"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D153-7B0D-45A7-BBAB-0D243369B039}" type="slidenum"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BA8C-949C-417F-AFB5-1F7CFF311404}" type="slidenum"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8FB4-D00C-4335-A4CD-3634DD4257B2}" type="slidenum"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D7C-F654-48AC-BD1A-12963BC3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395-68F9-4B61-9980-4B99F17A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31B-3BF5-40B5-B4CD-1B0EA20F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68D-0D3E-4B55-B4A5-582F4B92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35A2-6A93-471F-AE12-D72192D8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3CCC-EA7C-4547-B9AA-50437FDA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B065-0B06-4735-961C-302AC831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46DE-2ABD-4DEC-AC6D-F8059123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2F36-FFA9-4933-95ED-D416B409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2A64-BFF2-4116-895D-1CA235DB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CBE3-86E4-4C44-BEA1-BBBB4031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8B3-A9DB-4ACD-B76F-F14C456D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357C-2E17-4F59-9C7A-E52C9B9A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9323-023B-4ED2-9230-B37AA560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DD29-1F54-4F23-BFA6-AF6DD349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33A2-108A-4219-851D-6E73C917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E2CF-A17B-4121-8A89-42165E72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000-CEFC-4C37-BF27-EF49BFBC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B40-BB3A-427D-A252-AB053A02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4DE-CC1E-4143-809C-7DB1C0A2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1B5-FA92-4F0E-BF2C-54E26F89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203-B215-499A-871E-E547CBFB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ADE-9789-4CBD-A68E-57291565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8AD-C203-4CE2-865F-62D9E291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407B-61CD-47EE-A7FB-55F5A41288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FFD3-6AB9-4E7D-A733-23869CBA86CE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cc"/>
                </a:solidFill>
                <a:latin typeface="Arial Black"/>
              </a:rPr>
              <a:t>Тема : Билгесез </a:t>
            </a:r>
            <a:r>
              <a:rPr b="0" lang="tt-RU" sz="4400" spc="-1" strike="noStrike">
                <a:solidFill>
                  <a:srgbClr val="00ffcc"/>
                </a:solidFill>
                <a:latin typeface="Arial Black"/>
              </a:rPr>
              <a:t>үткән заман хикәя фигыл</a:t>
            </a:r>
            <a:r>
              <a:rPr b="0" lang="ru-RU" sz="4400" spc="-1" strike="noStrike">
                <a:solidFill>
                  <a:srgbClr val="00ffcc"/>
                </a:solidFill>
                <a:latin typeface="Arial Black"/>
              </a:rPr>
              <a:t>ь</a:t>
            </a:r>
            <a:r>
              <a:rPr b="0" lang="tt-RU" sz="4400" spc="-1" strike="noStrike">
                <a:solidFill>
                  <a:srgbClr val="00ffcc"/>
                </a:solidFill>
                <a:latin typeface="Arial Black"/>
              </a:rPr>
              <a:t>ләрне сөйләмдә куллан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Өй эше             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Бирелгән фигыльләрне кулланып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“Юлда сак булыгыз!”   темасына диалог төзеп килергә.(Чыкканда,ашыкмаска,уңга карарга ,сулга карарга, игътибарлы булырга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icture 46"/>
          <p:cNvSpPr/>
          <p:nvPr/>
        </p:nvSpPr>
        <p:spPr>
          <a:xfrm>
            <a:off x="6516720" y="4076640"/>
            <a:ext cx="17715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Йомгаклау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Бүген алган белемнәрегезне киләчәктә дөрес кулланырсыз дип ышанып калам.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Сау  булыгыз !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8436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tt-RU" sz="4000" spc="-1" strike="noStrike">
                <a:solidFill>
                  <a:srgbClr val="ffffff"/>
                </a:solidFill>
                <a:latin typeface="Arial Black"/>
              </a:rPr>
              <a:t>Фонетик күнегү      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920" y="2997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[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 Г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]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[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К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]  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Г                               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[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ts-ZA" sz="3200" spc="-1" strike="noStrike">
                <a:solidFill>
                  <a:srgbClr val="ffcc00"/>
                </a:solidFill>
                <a:latin typeface="Arial Black"/>
              </a:rPr>
              <a:t>F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]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[Ķ</a:t>
            </a:r>
            <a:r>
              <a:rPr b="0" lang="tt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]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360" name="Прямая со стрелкой 3"/>
          <p:cNvCxnSpPr/>
          <p:nvPr/>
        </p:nvCxnSpPr>
        <p:spPr>
          <a:xfrm flipV="1">
            <a:off x="1042560" y="3933360"/>
            <a:ext cx="1369080" cy="432720"/>
          </a:xfrm>
          <a:prstGeom prst="straightConnector1">
            <a:avLst/>
          </a:prstGeom>
          <a:ln w="9360">
            <a:solidFill>
              <a:srgbClr val="ff8811"/>
            </a:solidFill>
            <a:miter/>
            <a:tailEnd len="med" type="arrow" w="med"/>
          </a:ln>
        </p:spPr>
      </p:cxnSp>
      <p:cxnSp>
        <p:nvCxnSpPr>
          <p:cNvPr id="361" name="Прямая со стрелкой 5"/>
          <p:cNvCxnSpPr/>
          <p:nvPr/>
        </p:nvCxnSpPr>
        <p:spPr>
          <a:xfrm>
            <a:off x="1042560" y="4508280"/>
            <a:ext cx="1585080" cy="433800"/>
          </a:xfrm>
          <a:prstGeom prst="straightConnector1">
            <a:avLst/>
          </a:prstGeom>
          <a:ln w="9360">
            <a:solidFill>
              <a:srgbClr val="ff8811"/>
            </a:solidFill>
            <a:miter/>
            <a:tailEnd len="med" type="arrow" w="med"/>
          </a:ln>
        </p:spPr>
      </p:cxnSp>
      <p:cxnSp>
        <p:nvCxnSpPr>
          <p:cNvPr id="362" name="Прямая со стрелкой 7"/>
          <p:cNvCxnSpPr/>
          <p:nvPr/>
        </p:nvCxnSpPr>
        <p:spPr>
          <a:xfrm flipV="1">
            <a:off x="5580000" y="3933360"/>
            <a:ext cx="1153440" cy="432720"/>
          </a:xfrm>
          <a:prstGeom prst="straightConnector1">
            <a:avLst/>
          </a:prstGeom>
          <a:ln w="9360">
            <a:solidFill>
              <a:srgbClr val="ff8811"/>
            </a:solidFill>
            <a:miter/>
            <a:tailEnd len="med" type="arrow" w="med"/>
          </a:ln>
        </p:spPr>
      </p:cxnSp>
      <p:cxnSp>
        <p:nvCxnSpPr>
          <p:cNvPr id="363" name="Прямая со стрелкой 9"/>
          <p:cNvCxnSpPr/>
          <p:nvPr/>
        </p:nvCxnSpPr>
        <p:spPr>
          <a:xfrm>
            <a:off x="5580000" y="4508280"/>
            <a:ext cx="1440360" cy="433800"/>
          </a:xfrm>
          <a:prstGeom prst="straightConnector1">
            <a:avLst/>
          </a:prstGeom>
          <a:ln w="9360">
            <a:solidFill>
              <a:srgbClr val="ff8811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Гөмбә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Гө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Гөлкәй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Елга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Галәм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Чәчәк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Мәктәп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Аккош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Каен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Казан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4133880" y="1452600"/>
            <a:ext cx="1000080" cy="749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3"/>
          <a:stretch/>
        </p:blipFill>
        <p:spPr>
          <a:xfrm>
            <a:off x="5254560" y="1541520"/>
            <a:ext cx="927000" cy="573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"/>
          <p:cNvPicPr/>
          <p:nvPr/>
        </p:nvPicPr>
        <p:blipFill>
          <a:blip r:embed="rId4"/>
          <a:stretch/>
        </p:blipFill>
        <p:spPr>
          <a:xfrm>
            <a:off x="5816520" y="2425680"/>
            <a:ext cx="933480" cy="712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"/>
          <p:cNvPicPr/>
          <p:nvPr/>
        </p:nvPicPr>
        <p:blipFill>
          <a:blip r:embed="rId5"/>
          <a:stretch/>
        </p:blipFill>
        <p:spPr>
          <a:xfrm>
            <a:off x="4718160" y="237960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6"/>
          <a:stretch/>
        </p:blipFill>
        <p:spPr>
          <a:xfrm>
            <a:off x="3651120" y="2360520"/>
            <a:ext cx="1000080" cy="933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"/>
          <p:cNvPicPr/>
          <p:nvPr/>
        </p:nvPicPr>
        <p:blipFill>
          <a:blip r:embed="rId7"/>
          <a:stretch/>
        </p:blipFill>
        <p:spPr>
          <a:xfrm>
            <a:off x="4500720" y="173160"/>
            <a:ext cx="1031760" cy="1109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"/>
          <p:cNvPicPr/>
          <p:nvPr/>
        </p:nvPicPr>
        <p:blipFill>
          <a:blip r:embed="rId8"/>
          <a:stretch/>
        </p:blipFill>
        <p:spPr>
          <a:xfrm>
            <a:off x="3684600" y="3225960"/>
            <a:ext cx="3073320" cy="22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Тизәйткечләр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.Тук,тук тукыран         Тукылдатып утырам.      2.Күрәсеңме, бер агач, Шул бит инде алмагач, Сатып алма алмагач    Үстерәбез алмагач.      3.Карга әйтә «карр-карр»                                Мичтә бәлеш барр-барр.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Яңа теманы аңлат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332000" y="3213000"/>
          <a:ext cx="6095880" cy="24940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Билгеле үткән заман хикәя фигыль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8b1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Билгесез уткән заман хикәя фигы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ь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8b1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Язды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Яз - ?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Әйтт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e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Әйт - ?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e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Сикерд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Сикер - ?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Йоклады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e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Йокла - ?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ee7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Кайтты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Кайт - ?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агыйд</a:t>
            </a:r>
            <a:r>
              <a:rPr b="0" lang="tt-RU" sz="4400" spc="-1" strike="noStrike">
                <a:solidFill>
                  <a:srgbClr val="ffffff"/>
                </a:solidFill>
                <a:latin typeface="Arial Black"/>
              </a:rPr>
              <a:t>ә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 Black"/>
              </a:rPr>
              <a:t>Прошедшее неочевидное время употребляется тогда,когда речь идет о событиях,которые говоря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щ</a:t>
            </a:r>
            <a:r>
              <a:rPr b="0" lang="tt-RU" sz="2800" spc="-1" strike="noStrike">
                <a:solidFill>
                  <a:srgbClr val="ffffff"/>
                </a:solidFill>
                <a:latin typeface="Arial Black"/>
              </a:rPr>
              <a:t>ий сам не видел или плохо помнит.Оно образуется присоединением к основе глагола аффиксов:                     1)-ган/ - гән,если основа глагола оканчивается на гласный и звонкий согласный: уйла - ган – думал (оказывается) күр – гән – видел (оказывается)                                              2) –кан/ – кән,если основа глагола оканчивается на глухой согласный: кайт – кан – вернулся (оказывается.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i="1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Arial Black"/>
              </a:rPr>
              <a:t>Аудирование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Торган                             Чәчкән                                     Урган                                 Йомганчы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Ситуатив күнегү              Миша вчера вернулся из Москвы (оказывается) . Оля оставила сумку в школе (оказывается)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Саша рассказал рассказ (оказывается).</a:t>
            </a:r>
            <a:br>
              <a:rPr sz="48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532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684360" y="765000"/>
            <a:ext cx="7200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bde"/>
                </a:solidFill>
                <a:latin typeface="Arial Black"/>
              </a:rPr>
              <a:t>      </a:t>
            </a:r>
            <a:r>
              <a:rPr b="0" lang="ru-RU" sz="4400" spc="-1" strike="noStrike">
                <a:solidFill>
                  <a:srgbClr val="eaebde"/>
                </a:solidFill>
                <a:latin typeface="Arial Black"/>
              </a:rPr>
              <a:t>Диалог </a:t>
            </a:r>
            <a:r>
              <a:rPr b="0" lang="tt-RU" sz="4400" spc="-1" strike="noStrike">
                <a:solidFill>
                  <a:srgbClr val="eaebde"/>
                </a:solidFill>
                <a:latin typeface="Arial Black"/>
              </a:rPr>
              <a:t>төзү             - ... ?</a:t>
            </a:r>
            <a:br>
              <a:rPr sz="4400"/>
            </a:br>
            <a:r>
              <a:rPr b="0" lang="tt-RU" sz="3600" spc="-1" strike="noStrike">
                <a:solidFill>
                  <a:srgbClr val="eaebde"/>
                </a:solidFill>
                <a:latin typeface="Arial Black"/>
              </a:rPr>
              <a:t>- Люда Казаннан кайткан.            - Люда Казанда кая барган?</a:t>
            </a:r>
            <a:br>
              <a:rPr sz="3600"/>
            </a:br>
            <a:r>
              <a:rPr b="0" lang="tt-RU" sz="3600" spc="-1" strike="noStrike">
                <a:solidFill>
                  <a:srgbClr val="eaebde"/>
                </a:solidFill>
                <a:latin typeface="Arial Black"/>
              </a:rPr>
              <a:t>- ... 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2:12:57Z</dcterms:created>
  <dc:creator>Пользователь</dc:creator>
  <dc:description/>
  <dc:language>en-US</dc:language>
  <cp:lastModifiedBy>ФАНИЯ</cp:lastModifiedBy>
  <dcterms:modified xsi:type="dcterms:W3CDTF">2013-01-15T18:01:11Z</dcterms:modified>
  <cp:revision>36</cp:revision>
  <dc:subject/>
  <dc:title>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