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4A7-1F75-4D81-AFB7-C284EE95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DC0-23DB-479C-8F47-4C499D5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899-6DC0-4AB5-9DB3-984B654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76E-C6C3-455D-92DF-6D920380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5B051-6B1C-4127-A16D-6A88FE7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35048-A433-401B-B286-3A58FFC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1086F-E048-4F1F-B235-13F4116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E96C3-B781-415C-A2D9-A13C8D7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7BBED-9B3B-4FB1-9EF4-6134E29C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E559B-8483-4BC5-B2B7-E56DC3D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B6BB6-98FF-4980-AE3B-BA7660AD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D7A-5400-4701-86E1-89C0DAA9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08CB3-F5F5-45E9-92BA-58B4B763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FE51-57E2-4604-86A1-65953475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5B74D-6D5A-47DD-A9F8-2FF8EC22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2498-8B01-47E6-8A81-C06A3643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9818F-599B-44E6-94AD-39EDD052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12E-1EE3-4516-9AF5-1725464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E6A-0915-4D99-89A7-CC51DC5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EAD-56D0-4726-8C81-A68839F0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419-6EB2-4C7E-8AB4-30055C9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BDA-FA37-4A2E-8B19-1404F9F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820-0820-4DE2-8F3F-870EEA7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58B-F1C2-4DCD-AAF5-8B8B4981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906F-F2F1-441E-8E69-BF374D0FDD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B2AA-F1B8-4C48-A4AF-0BAA8B76A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4724"/>
                </a:solidFill>
                <a:latin typeface="Arial"/>
              </a:rPr>
              <a:t>Сложносочинённые предложения (ССП) с разделительными союзами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434304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авила учитель: Диденко И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имание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СП нужно отличать от простых осложнённых предложений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10440" cy="2666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Внимание!</a:t>
            </a:r>
            <a:br>
              <a:rPr sz="4000"/>
            </a:b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Определите, какое из предложений простое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лает пёс домовой, иль ветерок зашелестит в листах темнеющей дубравы, иль птица робко пролетит (Н.Язык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солнце тусклое блестит, то туча чёрная висит (Н.Некрас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мноте были видны очертания не то человека, не то живот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3376"/>
                </a:solidFill>
                <a:latin typeface="Arial"/>
              </a:rPr>
              <a:t>Найдите, в каком примере части ССП связывает разделительный союз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13376"/>
                </a:solidFill>
                <a:latin typeface="Arial"/>
              </a:rPr>
              <a:t>(знаки препинания не проставлены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це сияло море же было неспокой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 мальчики начинали шуметь то девочки хнык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или забавлял нас рассказами или играл с нами но мы были ко всему равнодуш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запно старичок заговорил звук его голоса также удивил ме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bd73"/>
                </a:solidFill>
                <a:latin typeface="Arial"/>
              </a:rPr>
              <a:t>Закрепление материал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ду ли я, стрелой пронзённый, иль мимо пролетит она (А.С.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кользящей зыби пруда плавала не то утка, не то грачонок еле держался на распластанных крыльях (А.Н.Толст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3f79b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обрать примеры ССП с разделительными союзами из произведений художественной литера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35304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Итоги урока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разделительные сою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что указывается в ССП с разделительными союз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На листочках(они лежат у вас на партах) написаны начала предложений. Продолжите их, пожалуйста. Важно, чтобы вы отметили, что вы чувствуете сейчас, в данный момент, а также оценили данный ур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1bd73"/>
                </a:solidFill>
                <a:latin typeface="Arial"/>
              </a:rPr>
              <a:t>Образе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уроке я работал…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рок для меня показался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е настроение сейчас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годня я узнал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нял, чт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чувствовал, чт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научился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 попробую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ня удивил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о трудн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ло интересно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Сложносочинённое предложение</a:t>
            </a:r>
            <a:br>
              <a:rPr sz="4000"/>
            </a:br>
            <a:r>
              <a:rPr b="0" lang="en-US" sz="4000" spc="-1" strike="noStrike">
                <a:solidFill>
                  <a:srgbClr val="d9dd3b"/>
                </a:solidFill>
                <a:latin typeface="Arial"/>
              </a:rPr>
              <a:t>(ССП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такое предложение, в котором два и более простых предложений связаны сочинительными союзами и интонаци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имер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скрылось за горизонтом, и небо потемн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4724"/>
                </a:solidFill>
                <a:latin typeface="Arial"/>
              </a:rPr>
              <a:t>Сочинительные союзы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соеди-          раздели-            против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нительные      тельные             те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И,ДА(=И),      (ТО..ТО,           (А,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..НИ,         ИЛИ(ИЛЬ),         ДА(=НО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ЖЕ,          ТО ЛИ..ТО ЛИ,   ОДНАК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)         ЛИБО,                ЗАТ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..НЕ ТО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4722a"/>
                </a:solidFill>
                <a:latin typeface="Arial"/>
              </a:rPr>
              <a:t>Вспомним!!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86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ые предложения, входящие в состав ССП, отделяются друг от друга запят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то тучи разойдутся, не то гроза нас всё-таки не обойдё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4724"/>
                </a:solidFill>
                <a:latin typeface="Arial"/>
              </a:rPr>
              <a:t>Найдите ССП с разделительным союзо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яц под косой блестит, а во лбу звезда горит (А.С.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варищи относились к нему неприязненно, солдаты же любили воистину (А.Купр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гроза даром не пройдёт. Либо убьёт кого-нибудь, либо дом сгорит (А.Островск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азделительные союзы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ИЛИ ( ИЛЬ) , ЛИБО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ТО-ТО, НЕ ТО…НЕ ТО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84724"/>
                </a:solidFill>
                <a:latin typeface="Arial"/>
              </a:rPr>
              <a:t>ТО ЛИ…ТО ЛИ   и д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bd73"/>
                </a:solidFill>
                <a:latin typeface="Arial"/>
              </a:rPr>
              <a:t>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ветер подует и тронет верхушки, то лягушки зашелестят в прошлогодней траве, то за стеной часы пробьют четверть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усть перебирается в деревню во флигель, или я переберусь отсюда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бо я всё устрою по-прежнему, либо я его на дуэль вызову (А.П.Чех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В ССП этой группы указываетс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чередование явлений или собы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то, что возможно одно явление или событие из названных (взаимоисключ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13376"/>
                </a:solidFill>
                <a:latin typeface="Arial"/>
              </a:rPr>
              <a:t>Определите, на что указывается в предложения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падал как будто туман, то вдруг припускал косой дождь (Л.Н.Толсто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 истиной дышит всё в ней, то всё в ней притворно и ложно (М.Ю.Лермон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er</cp:lastModifiedBy>
  <dcterms:modified xsi:type="dcterms:W3CDTF">2013-01-13T15:44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