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CA9-52C5-4E56-B14D-94FA8461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DC6-CE92-4701-9417-C56E36B3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CAF-C3F4-4BD2-9211-546A1545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8EB-913E-4A4A-9163-5A9AB734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765BF-A5A6-418C-8C8B-325A079C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0E241-E1C3-47B0-89B8-7ADEAD7D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47FDE-BB65-44F4-8185-721E0A6E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8DD0C-ADCD-44BB-82D6-FB6B623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DCC1F-DD8B-44F8-B103-3BDB94B1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6FB88-AB0B-4BFC-88A0-5F44EFBB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A265C-24E9-46F7-BCE2-7B02984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011-B08B-402E-A62B-016EBA2A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B15E3-CE8E-4199-BEEA-E32E6361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A2F5B-CABA-4A17-B3AA-DD109EF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064B1-211D-4990-BB92-087E902A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87080-D93A-4EDE-988B-B6247B3B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4CF37-BA83-45A5-BA46-1B994712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E72-9244-4013-9996-0DE41556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241-ECF4-4936-81B3-8FCEC75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C6B-434A-4655-A237-F0C8A9D6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AEC-D3EB-4864-AA33-DED83E22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1D8-3C18-4DA6-B6D4-E8AB22A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4DD-2D33-46BD-944F-C569A58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E3B-A5CE-442C-A58A-696169B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053F-7709-4AFB-AEF6-B666BAD786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750B-B87E-4DB2-B262-134BCC35BA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4724"/>
                </a:solidFill>
                <a:latin typeface="Arial"/>
              </a:rPr>
              <a:t>Сложносочинённые предложения (ССП) с разделительными союзами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тавила учитель: Диденко И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имание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СП нужно отличать от простых осложнённых предложени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410440" cy="26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Внимание!</a:t>
            </a:r>
            <a:br>
              <a:rPr sz="4000"/>
            </a:b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Определите, какое из предложений простое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ает пёс домовой, иль ветерок зашелестит в листах темнеющей дубравы, иль птица робко пролетит (Н.Язык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 солнце тусклое блестит, то туча чёрная висит (Н.Некрас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мноте были видны очертания не то человека, не то живот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3376"/>
                </a:solidFill>
                <a:latin typeface="Arial"/>
              </a:rPr>
              <a:t>Найдите, в каком примере части ССП связывает разделительный союз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13376"/>
                </a:solidFill>
                <a:latin typeface="Arial"/>
              </a:rPr>
              <a:t>(знаки препинания не проставлены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е сияло море же было неспокой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 мальчики начинали шуметь то девочки хнык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 или забавлял нас рассказами или играл с нами но мы были ко всему равнодуш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запно старичок заговорил звук его голоса также удивил ме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bd73"/>
                </a:solidFill>
                <a:latin typeface="Arial"/>
              </a:rPr>
              <a:t>Закрепление материал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у ли я, стрелой пронзённый, иль мимо пролетит она (А.С.Пушк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кользящей зыби пруда плавала не то утка, не то грачонок еле держался на распластанных крыльях (А.Н.Толст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3f79b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обрать примеры ССП с разделительными союзами из произведений художественной литера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335304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Итоги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разделительные сою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что указывается в ССП с разделительными союз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1bd73"/>
                </a:solidFill>
                <a:latin typeface="Arial"/>
              </a:rPr>
              <a:t>На листочках(они лежат у вас на партах) написаны начала предложений. Продолжите их, пожалуйста. Важно, чтобы вы отметили, что вы чувствуете сейчас, в данный момент, а также оценили данный у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bd7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1bd73"/>
                </a:solidFill>
                <a:latin typeface="Arial"/>
              </a:rPr>
              <a:t>Образе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уроке я работал…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рок для меня показался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е настроение сейчас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годня я узнал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понял, чт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почувствовал, чт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научился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попробую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ня удивил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о трудн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о интересн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Сложносочинённое предложение</a:t>
            </a:r>
            <a:br>
              <a:rPr sz="4000"/>
            </a:b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(ССП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такое предложение, в котором два и более простых предложений связаны сочинительными союзами и интон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скрылось за горизонтом, и небо потемне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4724"/>
                </a:solidFill>
                <a:latin typeface="Arial"/>
              </a:rPr>
              <a:t>Сочинительные союзы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соеди-          раздели-            против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нительные      тельные             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,ДА(=И),      (ТО..ТО,           (А,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..НИ,         ИЛИ(ИЛЬ),         ДА(=НО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ЖЕ,          ТО ЛИ..ТО ЛИ,   ОДНА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)         ЛИБО,                ЗАТ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О..НЕ ТО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722a"/>
                </a:solidFill>
                <a:latin typeface="Arial"/>
              </a:rPr>
              <a:t>Вспомним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86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тые предложения, входящие в состав ССП, отделяются друг от друга запят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то тучи разойдутся, не то гроза нас всё-таки не обойдё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4724"/>
                </a:solidFill>
                <a:latin typeface="Arial"/>
              </a:rPr>
              <a:t>Найдите ССП с разделительным союзо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сяц под косой блестит, а во лбу звезда горит (А.С.Пушк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варищи относились к нему неприязненно, солдаты же любили воистину (А.Купр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гроза даром не пройдёт. Либо убьёт кого-нибудь, либо дом сгорит (А.Островск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азделительные союз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ИЛИ ( ИЛЬ) , ЛИБО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ТО-ТО, НЕ ТО…НЕ ТО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ТО ЛИ…ТО ЛИ   и д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bd73"/>
                </a:solidFill>
                <a:latin typeface="Arial"/>
              </a:rPr>
              <a:t>??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 ветер подует и тронет верхушки, то лягушки зашелестят в прошлогодней траве, то за стеной часы пробьют четверть (А.П.Че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сть перебирается в деревню во флигель, или я переберусь отсюда (А.П.Че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бо я всё устрою по-прежнему, либо я его на дуэль вызову (А.П.Че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В ССП этой группы указываетс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чередование явлений или соб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то, что возможно одно явление или событие из названных (взаимоисключе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3376"/>
                </a:solidFill>
                <a:latin typeface="Arial"/>
              </a:rPr>
              <a:t>Определите, на что указывается в предложениях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 падал как будто туман, то вдруг припускал косой дождь (Л.Н.Толст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 истиной дышит всё в ней, то всё в ней притворно и ложно (М.Ю.Лермон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3-01-13T15:44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