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308-EA5D-4646-9FAD-239294F7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B02-CBBC-468E-A6A7-BECAA8CD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85F-0285-4727-916A-E88FB163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81E-A128-44D9-BBFC-670D0631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566FD-816F-4474-9D5F-9CA39A72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24B48-3FA6-4BAB-891B-01C6A639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CB865-E869-4BF1-AEE6-574FA631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383B9-FBC9-461E-BF58-0C020E6D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45B21-AFD4-4A48-BE76-E5BCE530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C4B6B-3FBF-4E88-AEC9-6F73FCBD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F8C07-8B44-41EA-AF1D-273439F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9D3-7C05-482A-B671-E78D6110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E8A0A-AF17-4627-BF97-1D376EF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7BA2C-317A-4E71-95C5-A97EA949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83B73-DDDA-430B-B4C4-DFF913FC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428EC-C259-40B9-A792-1DD3442E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11BE2-3BD9-4986-A4BC-9065E3CC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BF7-9869-447D-A8C9-FD04B518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8C0-6011-42CA-A4E8-A4E720B5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9B0-4075-48CD-A7C4-6D82C579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804-86BF-43A6-ADA7-C7F91DAC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A13-F430-4B6F-A398-972039FB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56B-545A-48EE-B47B-A507DDEC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196-17B8-47A2-B7A8-E7B00864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B6C-FB58-4C08-994C-EF82F0BA7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A506-6E89-45CB-B21E-D9D89D3A86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Tahoma"/>
              </a:rPr>
              <a:t>Посмотри и улыбнись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не думайте, что только вы можете храпеть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Животный мир :: Смешные животные фото 30"/>
          <p:cNvPicPr/>
          <p:nvPr/>
        </p:nvPicPr>
        <p:blipFill>
          <a:blip r:embed="rId1"/>
          <a:stretch/>
        </p:blipFill>
        <p:spPr>
          <a:xfrm>
            <a:off x="1835280" y="1601640"/>
            <a:ext cx="525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ять минут – полёт нормальны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Животный мир :: Смешные животные фото 36"/>
          <p:cNvPicPr/>
          <p:nvPr/>
        </p:nvPicPr>
        <p:blipFill>
          <a:blip r:embed="rId1"/>
          <a:stretch/>
        </p:blipFill>
        <p:spPr>
          <a:xfrm>
            <a:off x="1042920" y="1773360"/>
            <a:ext cx="7015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 думаете, что я сплю, а я не сплю, я маскируюс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Животный мир :: Смешные животные фото 26"/>
          <p:cNvPicPr/>
          <p:nvPr/>
        </p:nvPicPr>
        <p:blipFill>
          <a:blip r:embed="rId1"/>
          <a:stretch/>
        </p:blipFill>
        <p:spPr>
          <a:xfrm>
            <a:off x="1332000" y="1773360"/>
            <a:ext cx="6527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 не ос, я орёл, просто болел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Животный мир :: Смешные животные фото 19"/>
          <p:cNvPicPr/>
          <p:nvPr/>
        </p:nvPicPr>
        <p:blipFill>
          <a:blip r:embed="rId1"/>
          <a:stretch/>
        </p:blipFill>
        <p:spPr>
          <a:xfrm>
            <a:off x="1258920" y="1844640"/>
            <a:ext cx="65055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2484360" y="162000"/>
            <a:ext cx="4549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395280" y="692280"/>
            <a:ext cx="8532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1042920" y="1628640"/>
            <a:ext cx="7143840" cy="468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Фотографии животных со смешными комментариями (27 фото)"/>
          <p:cNvPicPr/>
          <p:nvPr/>
        </p:nvPicPr>
        <p:blipFill>
          <a:blip r:embed="rId2"/>
          <a:stretch/>
        </p:blipFill>
        <p:spPr>
          <a:xfrm>
            <a:off x="252360" y="625320"/>
            <a:ext cx="872496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1763640" y="115920"/>
            <a:ext cx="58723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 не ворчу, я просто не люблю бананы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Животный мир :: Смешные животные фото 7"/>
          <p:cNvPicPr/>
          <p:nvPr/>
        </p:nvPicPr>
        <p:blipFill>
          <a:blip r:embed="rId1"/>
          <a:stretch/>
        </p:blipFill>
        <p:spPr>
          <a:xfrm>
            <a:off x="2195640" y="2421000"/>
            <a:ext cx="476244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Животный мир :: Смешные животные фото 7"/>
          <p:cNvPicPr/>
          <p:nvPr/>
        </p:nvPicPr>
        <p:blipFill>
          <a:blip r:embed="rId2"/>
          <a:stretch/>
        </p:blipFill>
        <p:spPr>
          <a:xfrm>
            <a:off x="768240" y="1773360"/>
            <a:ext cx="7616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539640" y="620640"/>
            <a:ext cx="79549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539640" y="476280"/>
            <a:ext cx="7863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уррр, муррр, муррррррр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Животный мир :: Смешные животные фото 9"/>
          <p:cNvPicPr/>
          <p:nvPr/>
        </p:nvPicPr>
        <p:blipFill>
          <a:blip r:embed="rId1"/>
          <a:stretch/>
        </p:blipFill>
        <p:spPr>
          <a:xfrm>
            <a:off x="1187280" y="1557360"/>
            <a:ext cx="68169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9:31:55Z</dcterms:created>
  <dc:creator>1</dc:creator>
  <dc:description/>
  <dc:language>en-US</dc:language>
  <cp:lastModifiedBy>toor_</cp:lastModifiedBy>
  <dcterms:modified xsi:type="dcterms:W3CDTF">2011-11-14T17:21:46Z</dcterms:modified>
  <cp:revision>8</cp:revision>
  <dc:subject/>
  <dc:title>Слайд 1</dc:title>
</cp:coreProperties>
</file>