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274-BC1A-45E4-BBD2-363B764E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EEF-B6CD-4553-AE7D-8C03E7DD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B7D-F1DD-48B5-AFC4-31F52EBD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691-87C8-4BD4-889E-2F444B1D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4CAA1-AEA8-4824-9E34-87FAFA4A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49941-DB22-419C-8082-6E7572BE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50B74-7328-4FD1-8446-0E64BE3E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BFECF-DCD3-4704-B836-9AF6A980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38D8E-B562-4201-BCFD-AF0E5635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5F1F3-F6B1-49DB-A07F-90191F51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60A2A-CF33-4C52-B7DF-F05520B1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C33-8471-4576-8492-52A1598C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9A896-0A4B-486C-913D-2C23DECF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BA8B3-AA01-4ACC-94E7-74E10019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13415-2B8F-4332-A884-280B607E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7857C-90AD-4708-B399-3297B02C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3C2C3-74BD-4AC8-999D-A9530ACC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0AB-FAE8-44D7-9707-87BA9256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E37-0294-40FE-881D-1C907DCE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486-1994-4BBE-A86C-89254E65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5DF-B9C7-4CAB-BEFF-BC7A22D2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900-19AF-4660-8B3C-37CAE34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100-2795-4FDA-855A-1EE59D61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1D7-4396-4FD1-9509-E77B6E69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A74F-6376-4A43-80B6-003854960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BDFF-BF43-4097-85C6-429B95429C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Tahoma"/>
              </a:rPr>
              <a:t>Посмотри и улыбнись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не думайте, что только вы можете храпеть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Животный мир :: Смешные животные фото 30"/>
          <p:cNvPicPr/>
          <p:nvPr/>
        </p:nvPicPr>
        <p:blipFill>
          <a:blip r:embed="rId1"/>
          <a:stretch/>
        </p:blipFill>
        <p:spPr>
          <a:xfrm>
            <a:off x="1835280" y="1601640"/>
            <a:ext cx="525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ять минут – полёт нормальны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Животный мир :: Смешные животные фото 36"/>
          <p:cNvPicPr/>
          <p:nvPr/>
        </p:nvPicPr>
        <p:blipFill>
          <a:blip r:embed="rId1"/>
          <a:stretch/>
        </p:blipFill>
        <p:spPr>
          <a:xfrm>
            <a:off x="1042920" y="1773360"/>
            <a:ext cx="70153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 думаете, что я сплю, а я не сплю, я маскируюс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Животный мир :: Смешные животные фото 26"/>
          <p:cNvPicPr/>
          <p:nvPr/>
        </p:nvPicPr>
        <p:blipFill>
          <a:blip r:embed="rId1"/>
          <a:stretch/>
        </p:blipFill>
        <p:spPr>
          <a:xfrm>
            <a:off x="1332000" y="1773360"/>
            <a:ext cx="6527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 не ос, я орёл, просто болел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Животный мир :: Смешные животные фото 19"/>
          <p:cNvPicPr/>
          <p:nvPr/>
        </p:nvPicPr>
        <p:blipFill>
          <a:blip r:embed="rId1"/>
          <a:stretch/>
        </p:blipFill>
        <p:spPr>
          <a:xfrm>
            <a:off x="1258920" y="1844640"/>
            <a:ext cx="65055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2484360" y="162000"/>
            <a:ext cx="4549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395280" y="692280"/>
            <a:ext cx="8532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1042920" y="1628640"/>
            <a:ext cx="7143840" cy="468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Фотографии животных со смешными комментариями (27 фото)"/>
          <p:cNvPicPr/>
          <p:nvPr/>
        </p:nvPicPr>
        <p:blipFill>
          <a:blip r:embed="rId2"/>
          <a:stretch/>
        </p:blipFill>
        <p:spPr>
          <a:xfrm>
            <a:off x="252360" y="625320"/>
            <a:ext cx="872496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1763640" y="115920"/>
            <a:ext cx="587232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 не ворчу, я просто не люблю бананы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Животный мир :: Смешные животные фото 7"/>
          <p:cNvPicPr/>
          <p:nvPr/>
        </p:nvPicPr>
        <p:blipFill>
          <a:blip r:embed="rId1"/>
          <a:stretch/>
        </p:blipFill>
        <p:spPr>
          <a:xfrm>
            <a:off x="2195640" y="2421000"/>
            <a:ext cx="476244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Животный мир :: Смешные животные фото 7"/>
          <p:cNvPicPr/>
          <p:nvPr/>
        </p:nvPicPr>
        <p:blipFill>
          <a:blip r:embed="rId2"/>
          <a:stretch/>
        </p:blipFill>
        <p:spPr>
          <a:xfrm>
            <a:off x="768240" y="1773360"/>
            <a:ext cx="7616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539640" y="620640"/>
            <a:ext cx="79549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Фотографии животных со смешными комментариями (27 фото)"/>
          <p:cNvPicPr/>
          <p:nvPr/>
        </p:nvPicPr>
        <p:blipFill>
          <a:blip r:embed="rId1"/>
          <a:stretch/>
        </p:blipFill>
        <p:spPr>
          <a:xfrm>
            <a:off x="539640" y="476280"/>
            <a:ext cx="78631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уррр, муррр, муррррррр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Животный мир :: Смешные животные фото 9"/>
          <p:cNvPicPr/>
          <p:nvPr/>
        </p:nvPicPr>
        <p:blipFill>
          <a:blip r:embed="rId1"/>
          <a:stretch/>
        </p:blipFill>
        <p:spPr>
          <a:xfrm>
            <a:off x="1187280" y="1557360"/>
            <a:ext cx="68169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9:31:55Z</dcterms:created>
  <dc:creator>1</dc:creator>
  <dc:description/>
  <dc:language>en-US</dc:language>
  <cp:lastModifiedBy>toor_</cp:lastModifiedBy>
  <dcterms:modified xsi:type="dcterms:W3CDTF">2011-11-14T17:21:46Z</dcterms:modified>
  <cp:revision>8</cp:revision>
  <dc:subject/>
  <dc:title>Слайд 1</dc:title>
</cp:coreProperties>
</file>