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89A-69B2-48E4-A31A-2FC5558A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8AB3-F320-4ECA-8EA9-412AA4CA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A51C-3C6F-4D6D-9977-FF1DB3D2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2DF-D85D-45BC-938A-9C6C636C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33E-FBD9-4F30-A320-DE7A23F9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EB9-956E-4F07-AFCB-8EAFCC65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548-3BBC-4F63-87C9-B60CBCB6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E46-0F78-40B7-A6D7-52E926A1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55E-E763-4F6F-AF51-6142EE7E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7BF2-5F97-471C-965D-41556AE8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299-967E-463E-9C70-7BFE9835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846-683D-47CF-B3D5-0320A04E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9CA1-8EA7-46F7-BDB4-68A6DD5101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ергей Александрович Есени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184560" y="179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040360" y="998640"/>
            <a:ext cx="410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обманывать себя не стан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легла забота в сердце мглист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чего прослыл я шарлатаном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чего прослыл я скандалистом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злодей я и не грабил лес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стрелял несчастных по темница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всего лишь уличный повес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лыбающийся встречным лица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московский озорной гуля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всему тверскому околотк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ереулках каждая соба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ет мою лёгкую поход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задрипанная лошад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овой кидает мне навстреч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зверей приятель я хороши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стих мой душу зверя лечи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7" descr="C:\Documents and Settings\Ola\Рабочий стол\1.JPG"/>
          <p:cNvPicPr/>
          <p:nvPr/>
        </p:nvPicPr>
        <p:blipFill>
          <a:blip r:embed="rId1"/>
          <a:stretch/>
        </p:blipFill>
        <p:spPr>
          <a:xfrm>
            <a:off x="395280" y="1071720"/>
            <a:ext cx="424800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5. Любовь к родным и близки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Письмо матери.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Я красивых таких не видел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6" descr="C:\Documents and Settings\Ola\Рабочий стол\Безымянный.JPG"/>
          <p:cNvPicPr/>
          <p:nvPr/>
        </p:nvPicPr>
        <p:blipFill>
          <a:blip r:embed="rId1"/>
          <a:stretch/>
        </p:blipFill>
        <p:spPr>
          <a:xfrm>
            <a:off x="758880" y="3933720"/>
            <a:ext cx="3809880" cy="2486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Ola\Рабочий стол\Безымянный.JPG"/>
          <p:cNvPicPr/>
          <p:nvPr/>
        </p:nvPicPr>
        <p:blipFill>
          <a:blip r:embed="rId2"/>
          <a:stretch/>
        </p:blipFill>
        <p:spPr>
          <a:xfrm>
            <a:off x="5724360" y="1919160"/>
            <a:ext cx="287496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6. Любовь к женщин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6264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е бродить, не мять в кустах багряных…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Выткался на озере алый свет зари…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5" descr="C:\Documents and Settings\Ola\Рабочий стол\Безымянный.JPG"/>
          <p:cNvPicPr/>
          <p:nvPr/>
        </p:nvPicPr>
        <p:blipFill>
          <a:blip r:embed="rId1"/>
          <a:stretch/>
        </p:blipFill>
        <p:spPr>
          <a:xfrm>
            <a:off x="911160" y="3141720"/>
            <a:ext cx="775512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Любовь в лирике Сергея Есенина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539640" y="2852640"/>
            <a:ext cx="50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Цель:Определить основные темы лирики Есен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5" descr="C:\Documents and Settings\Ola\Рабочий стол\1.JPG"/>
          <p:cNvPicPr/>
          <p:nvPr/>
        </p:nvPicPr>
        <p:blipFill>
          <a:blip r:embed="rId1"/>
          <a:stretch/>
        </p:blipFill>
        <p:spPr>
          <a:xfrm>
            <a:off x="5651640" y="2063880"/>
            <a:ext cx="3181320" cy="41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7634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енин писал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всё есть у народа. Это только надо найти, прочитать, услышать по-своему осмыслить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834120" y="3573360"/>
            <a:ext cx="80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 имел ввиду Есенин под словом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ё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’’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Что взял он у народа для своих стихов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781360"/>
            <a:ext cx="88930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 любви тысячи аспектов, и в каждом из них – свой свет, своя печаль, своё счастье и своё благополучи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”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                                               К.Г. Паустовск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1. Любовь к природ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Вот уж вечер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Зелёная причёска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Закружилась листва золотая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C:\Documents and Settings\Ola\Рабочий стол\Безымянный.JPG"/>
          <p:cNvPicPr/>
          <p:nvPr/>
        </p:nvPicPr>
        <p:blipFill>
          <a:blip r:embed="rId1"/>
          <a:stretch/>
        </p:blipFill>
        <p:spPr>
          <a:xfrm>
            <a:off x="4427640" y="1495440"/>
            <a:ext cx="2187360" cy="408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:\Documents and Settings\Ola\Рабочий стол\Безымянный.JPG"/>
          <p:cNvPicPr/>
          <p:nvPr/>
        </p:nvPicPr>
        <p:blipFill>
          <a:blip r:embed="rId2"/>
          <a:stretch/>
        </p:blipFill>
        <p:spPr>
          <a:xfrm>
            <a:off x="6877080" y="2577960"/>
            <a:ext cx="1950840" cy="40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2. Любовь к малой родине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2881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Край ты мой заброшенный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Эта улица мне знакома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Низкий дом с голубыми ставнями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C:\Documents and Settings\Ola\Рабочий стол\Безымянный.JPG"/>
          <p:cNvPicPr/>
          <p:nvPr/>
        </p:nvPicPr>
        <p:blipFill>
          <a:blip r:embed="rId1"/>
          <a:stretch/>
        </p:blipFill>
        <p:spPr>
          <a:xfrm>
            <a:off x="3203640" y="2421000"/>
            <a:ext cx="565128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3. Любовь к Росс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5003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Гой ты, Русь моя родная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Спит ковыль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6" descr="C:\Documents and Settings\Ola\Рабочий стол\Безымянный.JPG"/>
          <p:cNvPicPr/>
          <p:nvPr/>
        </p:nvPicPr>
        <p:blipFill>
          <a:blip r:embed="rId1"/>
          <a:stretch/>
        </p:blipFill>
        <p:spPr>
          <a:xfrm>
            <a:off x="1258920" y="2997360"/>
            <a:ext cx="3744720" cy="3630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Documents and Settings\Ola\Рабочий стол\Безымянный.JPG"/>
          <p:cNvPicPr/>
          <p:nvPr/>
        </p:nvPicPr>
        <p:blipFill>
          <a:blip r:embed="rId2"/>
          <a:stretch/>
        </p:blipFill>
        <p:spPr>
          <a:xfrm>
            <a:off x="5076720" y="1846440"/>
            <a:ext cx="388800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4. Любовь к животны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Песнь собак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Коров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Лисиц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5" descr="C:\Documents and Settings\Ola\Рабочий стол\Безымянный.JPG"/>
          <p:cNvPicPr/>
          <p:nvPr/>
        </p:nvPicPr>
        <p:blipFill>
          <a:blip r:embed="rId1"/>
          <a:stretch/>
        </p:blipFill>
        <p:spPr>
          <a:xfrm>
            <a:off x="344520" y="3573360"/>
            <a:ext cx="845496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Ola\Рабочий стол\Безымянный.JPG"/>
          <p:cNvPicPr/>
          <p:nvPr/>
        </p:nvPicPr>
        <p:blipFill>
          <a:blip r:embed="rId1"/>
          <a:stretch/>
        </p:blipFill>
        <p:spPr>
          <a:xfrm>
            <a:off x="4680" y="-27000"/>
            <a:ext cx="91346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8:14:19Z</dcterms:created>
  <dc:creator>USER</dc:creator>
  <dc:description/>
  <dc:language>en-US</dc:language>
  <cp:lastModifiedBy>Ola</cp:lastModifiedBy>
  <dcterms:modified xsi:type="dcterms:W3CDTF">2008-01-25T04:30:03Z</dcterms:modified>
  <cp:revision>12</cp:revision>
  <dc:subject/>
  <dc:title>Сергей Александрович Есенин</dc:title>
</cp:coreProperties>
</file>