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D39-434C-425A-8458-D6FD415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708-92A7-4C75-A951-A84085F9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E31-5298-41F8-82BB-141C81D0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E57-D7A2-43E8-B734-6BE80648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EFD-6BB8-43F9-B342-C43850E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414-700D-4DB8-BCAE-AD66ECCE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9B2-11B7-477C-8BF6-FE2E90C7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9F4-D476-4642-8954-B005F283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0A8-8D4D-4ECE-900C-A5E432A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BD2-341F-4233-8183-6888289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AD5-3A46-47B5-A801-8682682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196-C567-484C-85AA-FF706DD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53E3-46EA-42A5-AB18-708D942999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ргей Александрович Есен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8456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040360" y="99864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обманывать себя не ста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легла забота в сердце мглис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го прослыл я шарлатан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го прослыл я скандалист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лодей я и не грабил лес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елял несчастных по темница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всего лишь уличный пове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ыбающийся встречным лиц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московский озорной гуля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сему тверскому околот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еулках каждая соба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ет мою лёгкую поход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задрипанная лоша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ой кидает мне навстреч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зверей приятель я хорош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стих мой душу зверя лечи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7" descr="C:\Documents and Settings\Ola\Рабочий стол\1.JPG"/>
          <p:cNvPicPr/>
          <p:nvPr/>
        </p:nvPicPr>
        <p:blipFill>
          <a:blip r:embed="rId1"/>
          <a:stretch/>
        </p:blipFill>
        <p:spPr>
          <a:xfrm>
            <a:off x="395280" y="1071720"/>
            <a:ext cx="42480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5. Любовь к родным и близки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исьмо матери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Я красивых таких не видел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758880" y="3933720"/>
            <a:ext cx="3809880" cy="24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5724360" y="1919160"/>
            <a:ext cx="287496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6. Любовь к женщи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62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е бродить, не мять в кустах багряных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ткался на озере алый свет зари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911160" y="3141720"/>
            <a:ext cx="77551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Любовь в лирике Сергея Есенин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39640" y="2852640"/>
            <a:ext cx="5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Цель:Определить основные темы лирики Есен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C:\Documents and Settings\Ola\Рабочий стол\1.JPG"/>
          <p:cNvPicPr/>
          <p:nvPr/>
        </p:nvPicPr>
        <p:blipFill>
          <a:blip r:embed="rId1"/>
          <a:stretch/>
        </p:blipFill>
        <p:spPr>
          <a:xfrm>
            <a:off x="5651640" y="2063880"/>
            <a:ext cx="318132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63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енин писал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всё есть у народа. Это только надо найти, прочитать, услышать по-своему осмыслит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4120" y="3573360"/>
            <a:ext cx="80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имел ввиду Есенин под слово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Что взял он у народа для своих стих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781360"/>
            <a:ext cx="88930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 любви тысячи аспектов, и в каждом из них – свой свет, своя печаль, своё счастье и своё благополуч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”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                              К.Г. Паустов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Любовь к природ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от уж вечер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Зелёная причёска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Закружилась листва золота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4427640" y="1495440"/>
            <a:ext cx="2187360" cy="40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6877080" y="2577960"/>
            <a:ext cx="195084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Любовь к малой родин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881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рай ты мой заброшенный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Эта улица мне знакома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Низкий дом с голубыми ставням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3203640" y="2421000"/>
            <a:ext cx="565128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Любовь к Ро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ой ты, Русь моя родна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Спит ковыль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1258920" y="2997360"/>
            <a:ext cx="3744720" cy="363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Ola\Рабочий стол\Безымянный.JPG"/>
          <p:cNvPicPr/>
          <p:nvPr/>
        </p:nvPicPr>
        <p:blipFill>
          <a:blip r:embed="rId2"/>
          <a:stretch/>
        </p:blipFill>
        <p:spPr>
          <a:xfrm>
            <a:off x="5076720" y="1846440"/>
            <a:ext cx="388800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. Любовь к животны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еснь собак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оро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исиц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344520" y="3573360"/>
            <a:ext cx="845496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Ola\Рабочий стол\Безымянный.JPG"/>
          <p:cNvPicPr/>
          <p:nvPr/>
        </p:nvPicPr>
        <p:blipFill>
          <a:blip r:embed="rId1"/>
          <a:stretch/>
        </p:blipFill>
        <p:spPr>
          <a:xfrm>
            <a:off x="4680" y="-27000"/>
            <a:ext cx="91346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8:14:19Z</dcterms:created>
  <dc:creator>USER</dc:creator>
  <dc:description/>
  <dc:language>en-US</dc:language>
  <cp:lastModifiedBy>Ola</cp:lastModifiedBy>
  <dcterms:modified xsi:type="dcterms:W3CDTF">2008-01-25T04:30:03Z</dcterms:modified>
  <cp:revision>12</cp:revision>
  <dc:subject/>
  <dc:title>Сергей Александрович Есенин</dc:title>
</cp:coreProperties>
</file>