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3.wmf" ContentType="image/x-wmf"/>
  <Override PartName="/ppt/media/image1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D87-FDAC-4C58-9782-976E92D6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63A-0AE3-4F2D-94CB-BF51E57D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562-6E68-4E97-938A-1E700936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A71-F259-4A5A-933F-9981C91B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A5B6-8FF4-4816-9D26-DFE8ACE8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D23B-5B7B-4C10-899A-84B52B37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C2C5-FCBB-4290-8FBA-7FCFE287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FBFE-0242-4EBF-BC2F-3EF0CFAE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E505-A08F-40E4-B9C3-49B49901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D926-BAD3-48A8-8EBE-1A1A0B4A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B081-6AB4-4959-B9C5-3730AEF4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924-70F3-4236-99E4-4E83B68B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3BB1-757D-49EC-A65A-24BC28B6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44E3-A327-4E23-A0D6-2941E40E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76C4-B278-4252-A27C-4616F35E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B72C-2291-4567-9889-3FA10440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E5E5-111A-4754-9D7C-BA5EDBD6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87AE4-45E8-408E-B34E-E6E8CCC5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20608E-B3D9-44FA-8CBA-77950EA9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E275EA-0405-4F30-96A3-E62D1B3F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37F280-21E2-49C6-9B8B-17FAFD6D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1715F-8601-4ACC-8B78-749527B5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43D-C994-4830-9B0D-0FCE7065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289D8-B5CD-4B94-B39F-01A20FA2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92990F-8F18-4666-BF23-2D48E682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5A402-BD51-488A-9CC8-F394084B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7C2BB8-3B74-4ED5-8CE7-7991BBAD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65A50-6289-409D-BE1B-4D388F8F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684096-4A91-4374-9F50-E6A2C0FE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821221-D64D-4E19-8EEA-F7FF67A2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271-529B-457D-9F3B-6B9E1F74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57C-8AB2-4952-827F-4A33393C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52E-B6C0-479C-844D-3484E94F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61F-73CB-48E6-8A1D-C87E26E8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B81-B950-4C35-B179-B089C8C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1D7-89E3-4F88-808F-00A6C11A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D0C1-D893-4BE8-AFF2-243E8C5BC2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0A05-D816-4CEC-857F-A861B6003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324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7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4362-4832-4F8C-BAEC-CB3CAA94D3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5"/>
          <p:cNvSpPr/>
          <p:nvPr/>
        </p:nvSpPr>
        <p:spPr>
          <a:xfrm>
            <a:off x="571680" y="428760"/>
            <a:ext cx="8186400" cy="1785960"/>
          </a:xfrm>
          <a:prstGeom prst="roundRect">
            <a:avLst>
              <a:gd name="adj" fmla="val 7278"/>
            </a:avLst>
          </a:prstGeom>
          <a:solidFill>
            <a:srgbClr val="99ff33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Внешнее строение листа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ногообразие листьев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greenLeaf"/>
          <p:cNvPicPr/>
          <p:nvPr/>
        </p:nvPicPr>
        <p:blipFill>
          <a:blip r:embed="rId1"/>
          <a:stretch/>
        </p:blipFill>
        <p:spPr>
          <a:xfrm>
            <a:off x="4608360" y="1916280"/>
            <a:ext cx="453564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сты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oduvanchik2"/>
          <p:cNvPicPr/>
          <p:nvPr/>
        </p:nvPicPr>
        <p:blipFill>
          <a:blip r:embed="rId1"/>
          <a:stretch/>
        </p:blipFill>
        <p:spPr>
          <a:xfrm>
            <a:off x="1281240" y="1413000"/>
            <a:ext cx="2955960" cy="50972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76" name="Picture 7" descr="medherb052"/>
          <p:cNvPicPr/>
          <p:nvPr/>
        </p:nvPicPr>
        <p:blipFill>
          <a:blip r:embed="rId2"/>
          <a:stretch/>
        </p:blipFill>
        <p:spPr>
          <a:xfrm>
            <a:off x="4389480" y="1413000"/>
            <a:ext cx="3449520" cy="5051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жны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lek_shipovnik"/>
          <p:cNvPicPr/>
          <p:nvPr/>
        </p:nvPicPr>
        <p:blipFill>
          <a:blip r:embed="rId1"/>
          <a:stretch/>
        </p:blipFill>
        <p:spPr>
          <a:xfrm>
            <a:off x="571680" y="1357200"/>
            <a:ext cx="3392280" cy="4500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79" name="Picture 6" descr="medherb075"/>
          <p:cNvPicPr/>
          <p:nvPr/>
        </p:nvPicPr>
        <p:blipFill>
          <a:blip r:embed="rId2"/>
          <a:stretch/>
        </p:blipFill>
        <p:spPr>
          <a:xfrm>
            <a:off x="4950000" y="1214280"/>
            <a:ext cx="2643120" cy="48578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лкование лист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Organization Chart 2"/>
          <p:cNvGrpSpPr/>
          <p:nvPr/>
        </p:nvGrpSpPr>
        <p:grpSpPr>
          <a:xfrm>
            <a:off x="357120" y="1500120"/>
            <a:ext cx="8142840" cy="1499760"/>
            <a:chOff x="357120" y="1500120"/>
            <a:chExt cx="8142840" cy="1499760"/>
          </a:xfrm>
        </p:grpSpPr>
        <p:sp>
          <p:nvSpPr>
            <p:cNvPr id="182" name="_s43016"/>
            <p:cNvSpPr/>
            <p:nvPr/>
          </p:nvSpPr>
          <p:spPr>
            <a:xfrm>
              <a:off x="2358000" y="1500120"/>
              <a:ext cx="3693240" cy="5191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Жилкование листье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_s43017"/>
            <p:cNvSpPr/>
            <p:nvPr/>
          </p:nvSpPr>
          <p:spPr>
            <a:xfrm>
              <a:off x="357120" y="2571120"/>
              <a:ext cx="2499840" cy="428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араллельн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43018"/>
            <p:cNvSpPr/>
            <p:nvPr/>
          </p:nvSpPr>
          <p:spPr>
            <a:xfrm>
              <a:off x="3144240" y="2571120"/>
              <a:ext cx="2500920" cy="428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Дугов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43019"/>
            <p:cNvSpPr/>
            <p:nvPr/>
          </p:nvSpPr>
          <p:spPr>
            <a:xfrm>
              <a:off x="6000120" y="2571120"/>
              <a:ext cx="2499840" cy="428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етчат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7" descr="lek_topol_tschern"/>
          <p:cNvPicPr/>
          <p:nvPr/>
        </p:nvPicPr>
        <p:blipFill>
          <a:blip r:embed="rId1"/>
          <a:stretch/>
        </p:blipFill>
        <p:spPr>
          <a:xfrm>
            <a:off x="6143760" y="3143160"/>
            <a:ext cx="2143080" cy="306396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cxnSp>
        <p:nvCxnSpPr>
          <p:cNvPr id="187" name="Прямая со стрелкой 20"/>
          <p:cNvCxnSpPr/>
          <p:nvPr/>
        </p:nvCxnSpPr>
        <p:spPr>
          <a:xfrm flipH="1">
            <a:off x="1999440" y="2071800"/>
            <a:ext cx="5007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Прямая со стрелкой 22"/>
          <p:cNvCxnSpPr/>
          <p:nvPr/>
        </p:nvCxnSpPr>
        <p:spPr>
          <a:xfrm flipH="1">
            <a:off x="4284360" y="207180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Прямая со стрелкой 25"/>
          <p:cNvCxnSpPr/>
          <p:nvPr/>
        </p:nvCxnSpPr>
        <p:spPr>
          <a:xfrm>
            <a:off x="5857560" y="2071800"/>
            <a:ext cx="57204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0" name="Picture 7" descr="Наперстянка шерстистая"/>
          <p:cNvPicPr/>
          <p:nvPr/>
        </p:nvPicPr>
        <p:blipFill>
          <a:blip r:embed="rId2"/>
          <a:stretch/>
        </p:blipFill>
        <p:spPr>
          <a:xfrm>
            <a:off x="571680" y="3143160"/>
            <a:ext cx="1966680" cy="307188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91" name="Picture 8" descr="podorojnik1"/>
          <p:cNvPicPr/>
          <p:nvPr/>
        </p:nvPicPr>
        <p:blipFill>
          <a:blip r:embed="rId3"/>
          <a:stretch/>
        </p:blipFill>
        <p:spPr>
          <a:xfrm>
            <a:off x="3571920" y="3214800"/>
            <a:ext cx="1701720" cy="314316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713800" cy="2894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Листораспо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ст – часть побега, который занимает боковое по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6775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лис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синтез (образование органических вещест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зообмен (между внешней средой и организмо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арение воды (отдача воды в парообразном состоянии  во внешнюю сред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5088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репление изученного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697800" cy="45226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2050920" y="98100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ое растение из расположенных в нижнем ряду вы перенесли бы в верхний ряд вместо знака вопрос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Содержимое 5" descr="Безымянный.png"/>
          <p:cNvPicPr/>
          <p:nvPr/>
        </p:nvPicPr>
        <p:blipFill>
          <a:blip r:embed="rId1"/>
          <a:stretch/>
        </p:blipFill>
        <p:spPr>
          <a:xfrm>
            <a:off x="1214280" y="857160"/>
            <a:ext cx="6000840" cy="5676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"/>
          <p:cNvSpPr/>
          <p:nvPr/>
        </p:nvSpPr>
        <p:spPr>
          <a:xfrm>
            <a:off x="1714680" y="357120"/>
            <a:ext cx="628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дпишите основные части раст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5840" y="213840"/>
            <a:ext cx="8858160" cy="66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.    Из почки на побеге появляетс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корень; Б) лист; В) новый побе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  Промежутки между листьями на побеге называю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узлами; Б) междоузл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3.  Почки, из которых образуются побеги с цветами, называ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вегетативными; Б) генератив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 Почк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т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) зачаточный побе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зачаточные лист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B) видоизмененный побе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) видоизмененные лист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5.  Место прикрепления листьев к побегу называю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узлами; Б) междоузл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7160" y="2428920"/>
            <a:ext cx="74376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нешнее строение листа. Многообразие листь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4508280"/>
            <a:ext cx="6775560" cy="16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ур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яснить особенности внешнего строения листа, как важной составной части побе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411280" y="260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дит – зелен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тит – пожелтее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адёт - почерне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NA01701_"/>
          <p:cNvPicPr/>
          <p:nvPr/>
        </p:nvPicPr>
        <p:blipFill>
          <a:blip r:embed="rId1"/>
          <a:stretch/>
        </p:blipFill>
        <p:spPr>
          <a:xfrm>
            <a:off x="6572160" y="3643200"/>
            <a:ext cx="18716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686736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троение лис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440320" cy="5616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5651640" y="105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Листовая пласти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300720" y="33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Череш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90800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Прилистни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6659640" y="5661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Основание лис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84360" y="42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Жил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Organization Chart 2"/>
          <p:cNvGrpSpPr/>
          <p:nvPr/>
        </p:nvGrpSpPr>
        <p:grpSpPr>
          <a:xfrm>
            <a:off x="426960" y="333360"/>
            <a:ext cx="8289000" cy="1942560"/>
            <a:chOff x="426960" y="333360"/>
            <a:chExt cx="8289000" cy="1942560"/>
          </a:xfrm>
        </p:grpSpPr>
        <p:cxnSp>
          <p:nvCxnSpPr>
            <p:cNvPr id="153" name="_s1028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509080" y="188640"/>
              <a:ext cx="356400" cy="2231640"/>
            </a:xfrm>
            <a:prstGeom prst="bentConnector3">
              <a:avLst>
                <a:gd name="adj1" fmla="val 3185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56" name="_s1029"/>
            <p:cNvCxnSpPr>
              <a:stCxn id="157" idx="0"/>
              <a:endCxn id="155" idx="2"/>
            </p:cNvCxnSpPr>
            <p:nvPr/>
          </p:nvCxnSpPr>
          <p:spPr>
            <a:xfrm flipH="1" flipV="1" rot="5400000">
              <a:off x="3277440" y="188280"/>
              <a:ext cx="356400" cy="2232720"/>
            </a:xfrm>
            <a:prstGeom prst="bentConnector3">
              <a:avLst>
                <a:gd name="adj1" fmla="val 3185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55" name="_s1030"/>
            <p:cNvSpPr/>
            <p:nvPr/>
          </p:nvSpPr>
          <p:spPr>
            <a:xfrm>
              <a:off x="2658960" y="333360"/>
              <a:ext cx="3825720" cy="7768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Листья (по наличию черешк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_s1031"/>
            <p:cNvSpPr/>
            <p:nvPr/>
          </p:nvSpPr>
          <p:spPr>
            <a:xfrm>
              <a:off x="426960" y="1499040"/>
              <a:ext cx="3825720" cy="776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Черешков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_s1032"/>
            <p:cNvSpPr/>
            <p:nvPr/>
          </p:nvSpPr>
          <p:spPr>
            <a:xfrm>
              <a:off x="4890240" y="1499040"/>
              <a:ext cx="3825720" cy="776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Сидяч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Рисунок 6" descr="rkty kbcn.jpg"/>
          <p:cNvPicPr/>
          <p:nvPr/>
        </p:nvPicPr>
        <p:blipFill>
          <a:blip r:embed="rId1"/>
          <a:stretch/>
        </p:blipFill>
        <p:spPr>
          <a:xfrm rot="20191200">
            <a:off x="511200" y="2166840"/>
            <a:ext cx="3771720" cy="4337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3"/>
          <p:cNvSpPr/>
          <p:nvPr/>
        </p:nvSpPr>
        <p:spPr>
          <a:xfrm>
            <a:off x="731880" y="623736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ё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Рисунок 5" descr="ландыш 1.jpg"/>
          <p:cNvPicPr/>
          <p:nvPr/>
        </p:nvPicPr>
        <p:blipFill>
          <a:blip r:embed="rId2"/>
          <a:stretch/>
        </p:blipFill>
        <p:spPr>
          <a:xfrm>
            <a:off x="5608800" y="2349360"/>
            <a:ext cx="2468520" cy="3889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5"/>
          <p:cNvSpPr/>
          <p:nvPr/>
        </p:nvSpPr>
        <p:spPr>
          <a:xfrm>
            <a:off x="5241960" y="6165720"/>
            <a:ext cx="34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нды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4000" cy="298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3743280" cy="3008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2916360" y="18900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987640" y="18900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Без черешковые (сидяч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916360" y="328464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2987640" y="3284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Черешков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дячи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File:Convallaria majalis1.jpg"/>
          <p:cNvPicPr/>
          <p:nvPr/>
        </p:nvPicPr>
        <p:blipFill>
          <a:blip r:embed="rId1"/>
          <a:stretch/>
        </p:blipFill>
        <p:spPr>
          <a:xfrm>
            <a:off x="365040" y="1341360"/>
            <a:ext cx="3308400" cy="5210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70" name="Picture 7" descr="sansevieria_trifasciata_hahnii"/>
          <p:cNvPicPr/>
          <p:nvPr/>
        </p:nvPicPr>
        <p:blipFill>
          <a:blip r:embed="rId2"/>
          <a:stretch/>
        </p:blipFill>
        <p:spPr>
          <a:xfrm>
            <a:off x="3962520" y="1341360"/>
            <a:ext cx="4694040" cy="5216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шковы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20090705022006637_1_original"/>
          <p:cNvPicPr/>
          <p:nvPr/>
        </p:nvPicPr>
        <p:blipFill>
          <a:blip r:embed="rId1"/>
          <a:stretch/>
        </p:blipFill>
        <p:spPr>
          <a:xfrm>
            <a:off x="243000" y="1557360"/>
            <a:ext cx="5365800" cy="4753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73" name="Picture 6" descr="File:Quercus coccinea1.jpg"/>
          <p:cNvPicPr/>
          <p:nvPr/>
        </p:nvPicPr>
        <p:blipFill>
          <a:blip r:embed="rId2"/>
          <a:stretch/>
        </p:blipFill>
        <p:spPr>
          <a:xfrm>
            <a:off x="5791320" y="1557360"/>
            <a:ext cx="3016080" cy="4751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00:16Z</dcterms:created>
  <dc:creator>1</dc:creator>
  <dc:description/>
  <dc:language>en-US</dc:language>
  <cp:lastModifiedBy>Admin</cp:lastModifiedBy>
  <dcterms:modified xsi:type="dcterms:W3CDTF">2011-12-28T14:48:30Z</dcterms:modified>
  <cp:revision>53</cp:revision>
  <dc:subject/>
  <dc:title>Слайд 1</dc:title>
</cp:coreProperties>
</file>