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3.wmf" ContentType="image/x-wmf"/>
  <Override PartName="/ppt/media/image1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AFB-1AC7-4A95-B666-DF28B0FC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E1F-B335-47D7-9035-8F24FFBB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135-3F8E-4298-961A-3D51FD8E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D921-A558-4004-85B9-F88CFBD3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005D-BD91-4CEF-B2C6-76BB324D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1865-FF3C-474C-BBAA-C5E36C19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AA66-E0E9-4185-BD89-BB83296F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1526-8656-4A6C-AE8F-E0FA1086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01D9-B1C4-4342-B5F3-6E0E3D76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C03A-2DE0-4020-A429-CAE6DA04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C71D-7382-471A-864E-51917205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E6B-E519-40FD-9C39-FCA8576E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C1F3-54AA-4CED-9FFD-3FF8C142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3140-EF02-424D-A0D7-DA66CF6A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8591-93C9-430A-A07C-B4590D5E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62BC-2638-47FC-97B4-5A960DCE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6552-7590-4C02-98E7-AA75892E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F7309-D163-46E3-8383-BEF6EC52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573B0-D560-4D57-982C-363777B4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C8133-3EE8-41AA-BA68-DB8C23FA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EF448E-98F5-4325-ABBA-C493F9B1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033A81-8BEC-4CE9-8929-9F00E122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222-1182-4B45-BCD8-AE05FFC7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62B1BE-5A24-475A-A4BE-41824FE3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0621A-5EDC-4E3A-B7E1-F53B967E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9FDAE-916D-4CB8-9983-B98ED4C0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3D43B5-4B51-4961-8E3B-3E93FDA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6471EA-BA1F-4BBE-B6FE-281B551A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2F68D-C725-436C-B33F-2949F9EC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08B92-FD46-48AB-8C58-D5E122E3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6F8-01FD-41EF-8BE3-777355F1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377-FA2E-46A1-96D7-BF76CED5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66A-8729-4ADA-A450-83A1174E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50B-16F4-41BC-AEC0-A3A54C15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936-DAFD-49FD-B062-D253A62C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2C8-3073-4429-98AB-2B95A76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6399-1673-4988-A615-E390D8C257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1D40-1F4C-4164-ABFC-2F361D7E5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5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324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7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92C8-993E-4656-A58F-EE94CD43C5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9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5"/>
          <p:cNvSpPr/>
          <p:nvPr/>
        </p:nvSpPr>
        <p:spPr>
          <a:xfrm>
            <a:off x="571680" y="428760"/>
            <a:ext cx="8186400" cy="1785960"/>
          </a:xfrm>
          <a:prstGeom prst="roundRect">
            <a:avLst>
              <a:gd name="adj" fmla="val 7278"/>
            </a:avLst>
          </a:prstGeom>
          <a:solidFill>
            <a:srgbClr val="99ff33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Внешнее строение листа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ногообразие листьев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greenLeaf"/>
          <p:cNvPicPr/>
          <p:nvPr/>
        </p:nvPicPr>
        <p:blipFill>
          <a:blip r:embed="rId1"/>
          <a:stretch/>
        </p:blipFill>
        <p:spPr>
          <a:xfrm>
            <a:off x="4608360" y="1916280"/>
            <a:ext cx="453564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сты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oduvanchik2"/>
          <p:cNvPicPr/>
          <p:nvPr/>
        </p:nvPicPr>
        <p:blipFill>
          <a:blip r:embed="rId1"/>
          <a:stretch/>
        </p:blipFill>
        <p:spPr>
          <a:xfrm>
            <a:off x="1281240" y="1413000"/>
            <a:ext cx="2955960" cy="50972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76" name="Picture 7" descr="medherb052"/>
          <p:cNvPicPr/>
          <p:nvPr/>
        </p:nvPicPr>
        <p:blipFill>
          <a:blip r:embed="rId2"/>
          <a:stretch/>
        </p:blipFill>
        <p:spPr>
          <a:xfrm>
            <a:off x="4389480" y="1413000"/>
            <a:ext cx="3449520" cy="50511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жны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lek_shipovnik"/>
          <p:cNvPicPr/>
          <p:nvPr/>
        </p:nvPicPr>
        <p:blipFill>
          <a:blip r:embed="rId1"/>
          <a:stretch/>
        </p:blipFill>
        <p:spPr>
          <a:xfrm>
            <a:off x="571680" y="1357200"/>
            <a:ext cx="3392280" cy="45007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79" name="Picture 6" descr="medherb075"/>
          <p:cNvPicPr/>
          <p:nvPr/>
        </p:nvPicPr>
        <p:blipFill>
          <a:blip r:embed="rId2"/>
          <a:stretch/>
        </p:blipFill>
        <p:spPr>
          <a:xfrm>
            <a:off x="4950000" y="1214280"/>
            <a:ext cx="2643120" cy="48578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лкование лист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Organization Chart 2"/>
          <p:cNvGrpSpPr/>
          <p:nvPr/>
        </p:nvGrpSpPr>
        <p:grpSpPr>
          <a:xfrm>
            <a:off x="357120" y="1500120"/>
            <a:ext cx="8142840" cy="1499760"/>
            <a:chOff x="357120" y="1500120"/>
            <a:chExt cx="8142840" cy="1499760"/>
          </a:xfrm>
        </p:grpSpPr>
        <p:sp>
          <p:nvSpPr>
            <p:cNvPr id="182" name="_s43016"/>
            <p:cNvSpPr/>
            <p:nvPr/>
          </p:nvSpPr>
          <p:spPr>
            <a:xfrm>
              <a:off x="2358000" y="1500120"/>
              <a:ext cx="3693240" cy="5191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Жилкование листье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_s43017"/>
            <p:cNvSpPr/>
            <p:nvPr/>
          </p:nvSpPr>
          <p:spPr>
            <a:xfrm>
              <a:off x="357120" y="2571120"/>
              <a:ext cx="2499840" cy="4287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араллельн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_s43018"/>
            <p:cNvSpPr/>
            <p:nvPr/>
          </p:nvSpPr>
          <p:spPr>
            <a:xfrm>
              <a:off x="3144240" y="2571120"/>
              <a:ext cx="2500920" cy="4287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Дугов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_s43019"/>
            <p:cNvSpPr/>
            <p:nvPr/>
          </p:nvSpPr>
          <p:spPr>
            <a:xfrm>
              <a:off x="6000120" y="2571120"/>
              <a:ext cx="2499840" cy="4287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етчат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7" descr="lek_topol_tschern"/>
          <p:cNvPicPr/>
          <p:nvPr/>
        </p:nvPicPr>
        <p:blipFill>
          <a:blip r:embed="rId1"/>
          <a:stretch/>
        </p:blipFill>
        <p:spPr>
          <a:xfrm>
            <a:off x="6143760" y="3143160"/>
            <a:ext cx="2143080" cy="306396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cxnSp>
        <p:nvCxnSpPr>
          <p:cNvPr id="187" name="Прямая со стрелкой 20"/>
          <p:cNvCxnSpPr/>
          <p:nvPr/>
        </p:nvCxnSpPr>
        <p:spPr>
          <a:xfrm flipH="1">
            <a:off x="1999440" y="2071800"/>
            <a:ext cx="5007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Прямая со стрелкой 22"/>
          <p:cNvCxnSpPr/>
          <p:nvPr/>
        </p:nvCxnSpPr>
        <p:spPr>
          <a:xfrm flipH="1">
            <a:off x="4284360" y="207180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Прямая со стрелкой 25"/>
          <p:cNvCxnSpPr/>
          <p:nvPr/>
        </p:nvCxnSpPr>
        <p:spPr>
          <a:xfrm>
            <a:off x="5857560" y="2071800"/>
            <a:ext cx="57204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0" name="Picture 7" descr="Наперстянка шерстистая"/>
          <p:cNvPicPr/>
          <p:nvPr/>
        </p:nvPicPr>
        <p:blipFill>
          <a:blip r:embed="rId2"/>
          <a:stretch/>
        </p:blipFill>
        <p:spPr>
          <a:xfrm>
            <a:off x="571680" y="3143160"/>
            <a:ext cx="1966680" cy="307188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91" name="Picture 8" descr="podorojnik1"/>
          <p:cNvPicPr/>
          <p:nvPr/>
        </p:nvPicPr>
        <p:blipFill>
          <a:blip r:embed="rId3"/>
          <a:stretch/>
        </p:blipFill>
        <p:spPr>
          <a:xfrm>
            <a:off x="3571920" y="3214800"/>
            <a:ext cx="1701720" cy="314316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713800" cy="2894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Листораспо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ст – часть побега, который занимает боковое по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835280" y="1557360"/>
            <a:ext cx="6775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лис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синтез (образование органических вещест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зообмен (между внешней средой и организмо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арение воды (отдача воды в парообразном состоянии  во внешнюю сред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5088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репление изученного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697800" cy="45226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2050920" y="98100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ое растение из расположенных в нижнем ряду вы перенесли бы в верхний ряд вместо знака вопрос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Содержимое 5" descr="Безымянный.png"/>
          <p:cNvPicPr/>
          <p:nvPr/>
        </p:nvPicPr>
        <p:blipFill>
          <a:blip r:embed="rId1"/>
          <a:stretch/>
        </p:blipFill>
        <p:spPr>
          <a:xfrm>
            <a:off x="1214280" y="857160"/>
            <a:ext cx="6000840" cy="56768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8"/>
          <p:cNvSpPr/>
          <p:nvPr/>
        </p:nvSpPr>
        <p:spPr>
          <a:xfrm>
            <a:off x="1714680" y="357120"/>
            <a:ext cx="628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дпишите основные части раст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5840" y="213840"/>
            <a:ext cx="8858160" cy="66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.    Из почки на побеге появляетс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корень; Б) лист; В) новый побе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.  Промежутки между листьями на побеге называю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узлами; Б) междоузл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3.  Почки, из которых образуются побеги с цветами, называ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вегетативными; Б) генератив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4.  Почк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т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) зачаточный побе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зачаточные лист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B) видоизмененный побе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) видоизмененные лист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5.  Место прикрепления листьев к побегу называю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узлами; Б) междоузл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7160" y="2428920"/>
            <a:ext cx="74376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нешнее строение листа. Многообразие листь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560" y="4508280"/>
            <a:ext cx="6775560" cy="16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ур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яснить особенности внешнего строения листа, как важной составной части побе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411280" y="26028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дит – зелен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тит – пожелтее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адёт - почерне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NA01701_"/>
          <p:cNvPicPr/>
          <p:nvPr/>
        </p:nvPicPr>
        <p:blipFill>
          <a:blip r:embed="rId1"/>
          <a:stretch/>
        </p:blipFill>
        <p:spPr>
          <a:xfrm>
            <a:off x="6572160" y="3643200"/>
            <a:ext cx="18716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686736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троение лис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440320" cy="5616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5651640" y="105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Листовая пласти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6300720" y="3357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Череш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90800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Прилистни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6659640" y="5661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Основание лис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684360" y="42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Жил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Organization Chart 2"/>
          <p:cNvGrpSpPr/>
          <p:nvPr/>
        </p:nvGrpSpPr>
        <p:grpSpPr>
          <a:xfrm>
            <a:off x="426960" y="333360"/>
            <a:ext cx="8289000" cy="1942560"/>
            <a:chOff x="426960" y="333360"/>
            <a:chExt cx="8289000" cy="1942560"/>
          </a:xfrm>
        </p:grpSpPr>
        <p:cxnSp>
          <p:nvCxnSpPr>
            <p:cNvPr id="153" name="_s1028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509080" y="188640"/>
              <a:ext cx="356400" cy="2231640"/>
            </a:xfrm>
            <a:prstGeom prst="bentConnector3">
              <a:avLst>
                <a:gd name="adj1" fmla="val 3185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56" name="_s1029"/>
            <p:cNvCxnSpPr>
              <a:stCxn id="157" idx="0"/>
              <a:endCxn id="155" idx="2"/>
            </p:cNvCxnSpPr>
            <p:nvPr/>
          </p:nvCxnSpPr>
          <p:spPr>
            <a:xfrm flipH="1" flipV="1" rot="5400000">
              <a:off x="3277440" y="188280"/>
              <a:ext cx="356400" cy="2232720"/>
            </a:xfrm>
            <a:prstGeom prst="bentConnector3">
              <a:avLst>
                <a:gd name="adj1" fmla="val 3185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55" name="_s1030"/>
            <p:cNvSpPr/>
            <p:nvPr/>
          </p:nvSpPr>
          <p:spPr>
            <a:xfrm>
              <a:off x="2658960" y="333360"/>
              <a:ext cx="3825720" cy="7768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Листья (по наличию черешк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_s1031"/>
            <p:cNvSpPr/>
            <p:nvPr/>
          </p:nvSpPr>
          <p:spPr>
            <a:xfrm>
              <a:off x="426960" y="1499040"/>
              <a:ext cx="3825720" cy="776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Черешков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_s1032"/>
            <p:cNvSpPr/>
            <p:nvPr/>
          </p:nvSpPr>
          <p:spPr>
            <a:xfrm>
              <a:off x="4890240" y="1499040"/>
              <a:ext cx="3825720" cy="776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Сидяч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" name="Рисунок 6" descr="rkty kbcn.jpg"/>
          <p:cNvPicPr/>
          <p:nvPr/>
        </p:nvPicPr>
        <p:blipFill>
          <a:blip r:embed="rId1"/>
          <a:stretch/>
        </p:blipFill>
        <p:spPr>
          <a:xfrm rot="20191200">
            <a:off x="511200" y="2166840"/>
            <a:ext cx="3771720" cy="4337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3"/>
          <p:cNvSpPr/>
          <p:nvPr/>
        </p:nvSpPr>
        <p:spPr>
          <a:xfrm>
            <a:off x="731880" y="6237360"/>
            <a:ext cx="34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ё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Рисунок 5" descr="ландыш 1.jpg"/>
          <p:cNvPicPr/>
          <p:nvPr/>
        </p:nvPicPr>
        <p:blipFill>
          <a:blip r:embed="rId2"/>
          <a:stretch/>
        </p:blipFill>
        <p:spPr>
          <a:xfrm>
            <a:off x="5608800" y="2349360"/>
            <a:ext cx="2468520" cy="38894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5"/>
          <p:cNvSpPr/>
          <p:nvPr/>
        </p:nvSpPr>
        <p:spPr>
          <a:xfrm>
            <a:off x="5241960" y="6165720"/>
            <a:ext cx="34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нды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344000" cy="2982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3743280" cy="3008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2916360" y="18900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2987640" y="18900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Без черешковые (сидяч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916360" y="328464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2987640" y="3284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Черешков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дячи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File:Convallaria majalis1.jpg"/>
          <p:cNvPicPr/>
          <p:nvPr/>
        </p:nvPicPr>
        <p:blipFill>
          <a:blip r:embed="rId1"/>
          <a:stretch/>
        </p:blipFill>
        <p:spPr>
          <a:xfrm>
            <a:off x="365040" y="1341360"/>
            <a:ext cx="3308400" cy="5210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70" name="Picture 7" descr="sansevieria_trifasciata_hahnii"/>
          <p:cNvPicPr/>
          <p:nvPr/>
        </p:nvPicPr>
        <p:blipFill>
          <a:blip r:embed="rId2"/>
          <a:stretch/>
        </p:blipFill>
        <p:spPr>
          <a:xfrm>
            <a:off x="3962520" y="1341360"/>
            <a:ext cx="4694040" cy="5216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шковы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20090705022006637_1_original"/>
          <p:cNvPicPr/>
          <p:nvPr/>
        </p:nvPicPr>
        <p:blipFill>
          <a:blip r:embed="rId1"/>
          <a:stretch/>
        </p:blipFill>
        <p:spPr>
          <a:xfrm>
            <a:off x="243000" y="1557360"/>
            <a:ext cx="5365800" cy="4753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73" name="Picture 6" descr="File:Quercus coccinea1.jpg"/>
          <p:cNvPicPr/>
          <p:nvPr/>
        </p:nvPicPr>
        <p:blipFill>
          <a:blip r:embed="rId2"/>
          <a:stretch/>
        </p:blipFill>
        <p:spPr>
          <a:xfrm>
            <a:off x="5791320" y="1557360"/>
            <a:ext cx="3016080" cy="4751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00:16Z</dcterms:created>
  <dc:creator>1</dc:creator>
  <dc:description/>
  <dc:language>en-US</dc:language>
  <cp:lastModifiedBy>Admin</cp:lastModifiedBy>
  <dcterms:modified xsi:type="dcterms:W3CDTF">2011-12-28T14:48:30Z</dcterms:modified>
  <cp:revision>53</cp:revision>
  <dc:subject/>
  <dc:title>Слайд 1</dc:title>
</cp:coreProperties>
</file>