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5.jpeg" ContentType="image/jpeg"/>
  <Override PartName="/ppt/media/image13.jpeg" ContentType="image/jpeg"/>
  <Override PartName="/ppt/media/image4.png" ContentType="image/png"/>
  <Override PartName="/ppt/media/image25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9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12.jpeg" ContentType="image/jpe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4201-398A-462F-A331-4FC3583B7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AA02-F850-42DB-92CB-D5F44060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D369-86A1-4240-826C-047EE5761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C4B3-F609-4D3A-9155-6AB5EA88C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8CCB-289D-4912-9A68-DBBA20E1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52CC-BB7F-4199-A179-B2248CFE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CE2A-E86A-44BA-A69D-0A7E3AC3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80C0-A3E1-4436-B252-ADC44BD1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7626-DE3D-4EFF-92D3-F08661D5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ECA6-BD06-4870-A877-48B1FC8E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E5A9-EBAB-4484-8FD3-F05A4A5F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169D-E388-4379-96AB-67127229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3773-8A66-4D41-935D-3C2CBFAE9D91}" type="slidenum"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2920"/>
            <a:ext cx="777240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Здоровьсбережение на уроках в начальной школе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42880" y="3886200"/>
            <a:ext cx="3629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nstantia"/>
              </a:rPr>
              <a:t>Подготовила 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nstantia"/>
              </a:rPr>
              <a:t>МКОУ «Очкуровская СОШ»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nstantia"/>
              </a:rPr>
              <a:t>Томиленко В. П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" name="Picture 2" descr="D:\мои документы\школа\ucos56f.gif"/>
          <p:cNvPicPr/>
          <p:nvPr/>
        </p:nvPicPr>
        <p:blipFill>
          <a:blip r:embed="rId2"/>
          <a:stretch/>
        </p:blipFill>
        <p:spPr>
          <a:xfrm>
            <a:off x="714240" y="3714840"/>
            <a:ext cx="1857600" cy="2143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Frame-063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-360" y="428760"/>
            <a:ext cx="404028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onstantia"/>
              </a:rPr>
              <a:t>      </a:t>
            </a:r>
            <a:r>
              <a:rPr b="0" lang="en-US" sz="2000" spc="-1" strike="noStrike">
                <a:solidFill>
                  <a:srgbClr val="7030a0"/>
                </a:solidFill>
                <a:latin typeface="Constantia"/>
              </a:rPr>
              <a:t>Мышцы шеи раз, два, три,</a:t>
            </a:r>
            <a:br>
              <a:rPr sz="2000"/>
            </a:br>
            <a:r>
              <a:rPr b="0" lang="en-US" sz="2000" spc="-1" strike="noStrike">
                <a:solidFill>
                  <a:srgbClr val="7030a0"/>
                </a:solidFill>
                <a:latin typeface="Constantia"/>
              </a:rPr>
              <a:t>Справа, слева разотри.</a:t>
            </a:r>
            <a:br>
              <a:rPr sz="2000"/>
            </a:br>
            <a:r>
              <a:rPr b="0" lang="en-US" sz="2000" spc="-1" strike="noStrike">
                <a:solidFill>
                  <a:srgbClr val="7030a0"/>
                </a:solidFill>
                <a:latin typeface="Constantia"/>
              </a:rPr>
              <a:t>Мышцы шеи раз, два, три,</a:t>
            </a:r>
            <a:br>
              <a:rPr sz="2000"/>
            </a:br>
            <a:r>
              <a:rPr b="0" lang="en-US" sz="2000" spc="-1" strike="noStrike">
                <a:solidFill>
                  <a:srgbClr val="7030a0"/>
                </a:solidFill>
                <a:latin typeface="Constantia"/>
              </a:rPr>
              <a:t>Справа, слева разотр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785840" y="428760"/>
            <a:ext cx="43578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030a0"/>
                </a:solidFill>
                <a:latin typeface="Constantia"/>
              </a:rPr>
              <a:t>     </a:t>
            </a:r>
            <a:r>
              <a:rPr b="0" lang="en-US" sz="2500" spc="-1" strike="noStrike">
                <a:solidFill>
                  <a:srgbClr val="7030a0"/>
                </a:solidFill>
                <a:latin typeface="Constantia"/>
              </a:rPr>
              <a:t>Где седьмой мой позвонок?</a:t>
            </a:r>
            <a:br>
              <a:rPr sz="2500"/>
            </a:br>
            <a:r>
              <a:rPr b="0" lang="en-US" sz="2500" spc="-1" strike="noStrike">
                <a:solidFill>
                  <a:srgbClr val="7030a0"/>
                </a:solidFill>
                <a:latin typeface="Constantia"/>
              </a:rPr>
              <a:t>Где высокий бугорок?</a:t>
            </a:r>
            <a:br>
              <a:rPr sz="2500"/>
            </a:br>
            <a:r>
              <a:rPr b="0" lang="en-US" sz="2500" spc="-1" strike="noStrike">
                <a:solidFill>
                  <a:srgbClr val="7030a0"/>
                </a:solidFill>
                <a:latin typeface="Constantia"/>
              </a:rPr>
              <a:t>Раз виток и два виток,</a:t>
            </a:r>
            <a:br>
              <a:rPr sz="2500"/>
            </a:br>
            <a:r>
              <a:rPr b="0" lang="en-US" sz="2500" spc="-1" strike="noStrike">
                <a:solidFill>
                  <a:srgbClr val="7030a0"/>
                </a:solidFill>
                <a:latin typeface="Constantia"/>
              </a:rPr>
              <a:t>Правлю нервный я поток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0" name="Picture 2" descr="F:\DCIM\100PHOTO\SAM_2923.JPG"/>
          <p:cNvPicPr/>
          <p:nvPr/>
        </p:nvPicPr>
        <p:blipFill>
          <a:blip r:embed="rId2"/>
          <a:stretch/>
        </p:blipFill>
        <p:spPr>
          <a:xfrm>
            <a:off x="142920" y="1643040"/>
            <a:ext cx="4000320" cy="3346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F:\DCIM\100PHOTO\SAM_2924.JPG"/>
          <p:cNvPicPr/>
          <p:nvPr/>
        </p:nvPicPr>
        <p:blipFill>
          <a:blip r:embed="rId3"/>
          <a:stretch/>
        </p:blipFill>
        <p:spPr>
          <a:xfrm>
            <a:off x="4349880" y="2571840"/>
            <a:ext cx="457992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Маша\1283876325_2010-09-07_164406.jpg"/>
          <p:cNvPicPr/>
          <p:nvPr/>
        </p:nvPicPr>
        <p:blipFill>
          <a:blip r:embed="rId2"/>
          <a:stretch/>
        </p:blipFill>
        <p:spPr>
          <a:xfrm>
            <a:off x="60480" y="12600"/>
            <a:ext cx="4670280" cy="6259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Маша\1283876497_2010-09-07_202005.jpg"/>
          <p:cNvPicPr/>
          <p:nvPr/>
        </p:nvPicPr>
        <p:blipFill>
          <a:blip r:embed="rId3"/>
          <a:stretch/>
        </p:blipFill>
        <p:spPr>
          <a:xfrm>
            <a:off x="4486320" y="12600"/>
            <a:ext cx="4597200" cy="62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onstantia"/>
              </a:rPr>
              <a:t>Точечный массаж помогает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onstantia"/>
              </a:rPr>
              <a:t>Проводить профилактику простудных заболеваний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onstantia"/>
              </a:rPr>
              <a:t>Закаливание детей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onstantia"/>
              </a:rPr>
              <a:t>Научить детей расслабляться, освобождаться от стрессов, перенапряжения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onstantia"/>
              </a:rPr>
              <a:t>Обучить навыкам проведения точечного массаж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6" name="Picture 4" descr="http://im6-tub.yandex.net/i?id=160481290-08"/>
          <p:cNvPicPr/>
          <p:nvPr/>
        </p:nvPicPr>
        <p:blipFill>
          <a:blip r:embed="rId2"/>
          <a:stretch/>
        </p:blipFill>
        <p:spPr>
          <a:xfrm>
            <a:off x="6778800" y="5278320"/>
            <a:ext cx="212724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onstantia"/>
              </a:rPr>
              <a:t>Физкультурные минутки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40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030a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43680" y="1214280"/>
            <a:ext cx="35431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030a0"/>
              </a:solidFill>
              <a:latin typeface="Constantia"/>
            </a:endParaRPr>
          </a:p>
        </p:txBody>
      </p:sp>
      <p:pic>
        <p:nvPicPr>
          <p:cNvPr id="80" name="Picture 4" descr="http://im6-tub.yandex.net/i?id=160481290-08"/>
          <p:cNvPicPr/>
          <p:nvPr/>
        </p:nvPicPr>
        <p:blipFill>
          <a:blip r:embed="rId2"/>
          <a:stretch/>
        </p:blipFill>
        <p:spPr>
          <a:xfrm>
            <a:off x="7639200" y="-6480"/>
            <a:ext cx="1511280" cy="1371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Documents and Settings\Loner\Рабочий стол\SAM_2918.JPG"/>
          <p:cNvPicPr/>
          <p:nvPr/>
        </p:nvPicPr>
        <p:blipFill>
          <a:blip r:embed="rId3"/>
          <a:stretch/>
        </p:blipFill>
        <p:spPr>
          <a:xfrm>
            <a:off x="357120" y="1071720"/>
            <a:ext cx="4040280" cy="3808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C:\Documents and Settings\Loner\Рабочий стол\SAM_2919.JPG"/>
          <p:cNvPicPr/>
          <p:nvPr/>
        </p:nvPicPr>
        <p:blipFill>
          <a:blip r:embed="rId4"/>
          <a:stretch/>
        </p:blipFill>
        <p:spPr>
          <a:xfrm>
            <a:off x="4643280" y="2786040"/>
            <a:ext cx="404208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nstantia"/>
              </a:rPr>
              <a:t>Физкультурные минутки помогают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onstantia"/>
              </a:rPr>
              <a:t>Снятие усталости, напряжения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onstantia"/>
              </a:rPr>
              <a:t>Ослабить утомление на уроке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onstantia"/>
              </a:rPr>
              <a:t>Проводить профилактику нарушения осанки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onstantia"/>
              </a:rPr>
              <a:t>Поддержание работоспособности, активного внимания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5" name="Picture 4" descr="http://im6-tub.yandex.net/i?id=160481290-08"/>
          <p:cNvPicPr/>
          <p:nvPr/>
        </p:nvPicPr>
        <p:blipFill>
          <a:blip r:embed="rId2"/>
          <a:stretch/>
        </p:blipFill>
        <p:spPr>
          <a:xfrm>
            <a:off x="6778800" y="5065560"/>
            <a:ext cx="2127240" cy="15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nstantia"/>
              </a:rPr>
              <a:t>Релаксация на уроках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1860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onstantia"/>
              </a:rPr>
              <a:t>Помогает снять стресс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onstantia"/>
              </a:rPr>
              <a:t>Расслабление мышц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onstantia"/>
              </a:rPr>
              <a:t>Снятие усталост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onstantia"/>
              </a:rPr>
              <a:t>Восстановлене работоспособност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8" name="Picture 2" descr="C:\Documents and Settings\Loner\Рабочий стол\SAM_2916.JPG"/>
          <p:cNvPicPr/>
          <p:nvPr/>
        </p:nvPicPr>
        <p:blipFill>
          <a:blip r:embed="rId2"/>
          <a:stretch/>
        </p:blipFill>
        <p:spPr>
          <a:xfrm>
            <a:off x="3929040" y="1071720"/>
            <a:ext cx="46702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nstantia"/>
              </a:rPr>
              <a:t>Дыхательная гимнастика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300816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onstantia"/>
              </a:rPr>
              <a:t>Укрепление дыхательной мускулатуры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onstantia"/>
              </a:rPr>
              <a:t>Уменьшение заболеваний дыхательной системы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onstantia"/>
              </a:rPr>
              <a:t>Повышает общую сопротивляемость организма, его тонус, оздоровляет нервно-психическое состояни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" name="Picture 2" descr="F:\DCIM\100PHOTO\SAM_2928.JPG"/>
          <p:cNvPicPr/>
          <p:nvPr/>
        </p:nvPicPr>
        <p:blipFill>
          <a:blip r:embed="rId2"/>
          <a:stretch/>
        </p:blipFill>
        <p:spPr>
          <a:xfrm>
            <a:off x="3662280" y="1347840"/>
            <a:ext cx="493704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00960" cy="19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Работа на уроке в режиме 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«стоя за конторкой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" name="Picture 2" descr="F:\DCIM\100PHOTO\SAM_2922.JPG"/>
          <p:cNvPicPr/>
          <p:nvPr/>
        </p:nvPicPr>
        <p:blipFill>
          <a:blip r:embed="rId2"/>
          <a:stretch/>
        </p:blipFill>
        <p:spPr>
          <a:xfrm>
            <a:off x="357120" y="2500200"/>
            <a:ext cx="4071960" cy="4071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D:\мои документы\kontorki.jpg"/>
          <p:cNvPicPr/>
          <p:nvPr/>
        </p:nvPicPr>
        <p:blipFill>
          <a:blip r:embed="rId3"/>
          <a:stretch/>
        </p:blipFill>
        <p:spPr>
          <a:xfrm>
            <a:off x="4714920" y="1643040"/>
            <a:ext cx="421488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nstantia"/>
              </a:rPr>
              <a:t>Режим работы «стоя за конторкой»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Чтобы осуществить более плавный переход на этот режим, за одним и тем же столом один ученик работает сидя, другой рядом – стоя. Через 15 минут ученики меняются местами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Работа за конторкой стоя – это формирование чувств координации и равновесия у ребенка, профилактика нарушений со стороны опорно-двигательного аппарата, сердечно-сосудистой системы, а также близорукости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2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nstantia"/>
              </a:rPr>
              <a:t>Образовательные технологии</a:t>
            </a:r>
            <a:br>
              <a:rPr sz="4000"/>
            </a:b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(по их здоровьесберегательной направленности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onstantia"/>
              </a:rPr>
              <a:t>Педагогика сотрудничества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 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nstantia"/>
              </a:rPr>
              <a:t>Личностно-ориентированная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onstantia"/>
              </a:rPr>
              <a:t>Технология уровневой дифференциации обучения</a:t>
            </a:r>
            <a:r>
              <a:rPr b="1" lang="ru-RU" sz="27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onstantia"/>
              </a:rPr>
              <a:t>Технологии развивающего обучения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onstantia"/>
              </a:rPr>
              <a:t>Технологию раскрепощённого развития детей 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Важная особенность уроков состоит в том, что они проводятся в режиме движения наглядного учебного материала, постоянного поиска и выполнен заданий, активизирующих детей. ( Ищут задание глазами, а потом идут и берут это задание, выполняют)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onstantia"/>
              </a:rPr>
              <a:t>«Забота о здоровье – это важнейший труд воспитателя. От жизнедеятельности, бодрости детей зависит их духовная жизнь, мировоззрение, умственное развитие, прочность знаний, вера в свои силы…»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onstantia"/>
              </a:rPr>
              <a:t>                                   </a:t>
            </a:r>
            <a:r>
              <a:rPr b="1" lang="ru-RU" sz="4000" spc="-1" strike="noStrike">
                <a:solidFill>
                  <a:srgbClr val="7030a0"/>
                </a:solidFill>
                <a:latin typeface="Constantia"/>
              </a:rPr>
              <a:t>В.А.Сухомлинский</a:t>
            </a:r>
            <a:r>
              <a:rPr b="0" lang="ru-RU" sz="4000" spc="-1" strike="noStrike">
                <a:solidFill>
                  <a:srgbClr val="7030a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7" name="Picture 2" descr="Frame-0631"/>
          <p:cNvPicPr/>
          <p:nvPr/>
        </p:nvPicPr>
        <p:blipFill>
          <a:blip r:embed="rId2"/>
          <a:stretch/>
        </p:blipFill>
        <p:spPr>
          <a:xfrm>
            <a:off x="-142920" y="0"/>
            <a:ext cx="950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D:\мои документы\Копия c080e51b2ffd.gif"/>
          <p:cNvPicPr/>
          <p:nvPr/>
        </p:nvPicPr>
        <p:blipFill>
          <a:blip r:embed="rId2"/>
          <a:stretch/>
        </p:blipFill>
        <p:spPr>
          <a:xfrm>
            <a:off x="6858000" y="0"/>
            <a:ext cx="2043000" cy="2286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nstantia"/>
              </a:rPr>
              <a:t>Заключение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139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onstantia"/>
              </a:rPr>
              <a:t>    </a:t>
            </a:r>
            <a:r>
              <a:rPr b="1" i="1" lang="ru-RU" sz="4000" spc="-1" strike="noStrike">
                <a:solidFill>
                  <a:srgbClr val="7030a0"/>
                </a:solidFill>
                <a:latin typeface="Constantia"/>
              </a:rPr>
              <a:t>«Состояние здоровья подрастающего поколения – важнейший показатель благополучия общества и государства, не только отражающий настоящую ситуацию, но и дающий прогноз на будущее»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3" name="Picture 2" descr="Frame-063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nstantia"/>
              </a:rPr>
              <a:t>Литература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мирнов Н.К. Здоровьесберегающие образовательные технологии и психология здоровья в школе.- М.: АРКТИ, 2006.- 320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Абрамова И.В. Бочкарёва Т.И. Здоровьесберегающие технологии в начальной школе. - С.: СИПКРО, 2004.-138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овалько В.И. Здоровьесберегающие технологии в начальной школе. 1-4 классы. М.: «ВАКО», 2004, 296 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енчинская Е.А. Основы здоровьесберегающего обучения в начальной школе: Методические рекомендации по преодолению перегрузки учащихся / Е.А. Менчинская. — М. : Вентана-Граф, 2008. — 112 с. — (Педагогическая мастерская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мирнов Н. К. Здоровьесберегающие образовательные технологии в современной школе. – М.: АПК и ПРО, 2002. – с. 62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ш выбор – здоровье: досуговая программа, разработки мероприятий, рекомендации/ авт.-сост. Н. Н. Шапцева. – Волгоград: Учитель, 2009. – 184 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6" name="Picture 4" descr="http://im6-tub.yandex.net/i?id=160481290-08"/>
          <p:cNvPicPr/>
          <p:nvPr/>
        </p:nvPicPr>
        <p:blipFill>
          <a:blip r:embed="rId2"/>
          <a:stretch/>
        </p:blipFill>
        <p:spPr>
          <a:xfrm>
            <a:off x="7424640" y="5711760"/>
            <a:ext cx="1725840" cy="1152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Frame-063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Элементы здоровьесберегающих технологий, применяемые на уроках в начальной школе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9" name="Содержимое 6" descr=""/>
          <p:cNvPicPr/>
          <p:nvPr/>
        </p:nvPicPr>
        <p:blipFill>
          <a:blip r:embed="rId2"/>
          <a:stretch/>
        </p:blipFill>
        <p:spPr>
          <a:xfrm>
            <a:off x="142920" y="1857240"/>
            <a:ext cx="885816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Здоровьесберегающее обучение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28760" y="71424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nstantia"/>
              </a:rPr>
              <a:t>Направлено на</a:t>
            </a:r>
            <a:r>
              <a:rPr b="1" i="1" lang="ru-RU" sz="2400" spc="-1" strike="noStrike">
                <a:solidFill>
                  <a:srgbClr val="7030a0"/>
                </a:solidFill>
                <a:latin typeface="Constantia"/>
              </a:rPr>
              <a:t> </a:t>
            </a:r>
            <a:r>
              <a:rPr b="1" lang="ru-RU" sz="2400" spc="-1" strike="noStrike">
                <a:solidFill>
                  <a:srgbClr val="7030a0"/>
                </a:solidFill>
                <a:latin typeface="Constantia"/>
              </a:rPr>
              <a:t>– </a:t>
            </a:r>
            <a:r>
              <a:rPr b="0" lang="ru-RU" sz="2400" spc="-1" strike="noStrike">
                <a:solidFill>
                  <a:srgbClr val="7030a0"/>
                </a:solidFill>
                <a:latin typeface="Constantia"/>
              </a:rPr>
              <a:t>обеспечение психического здоровья учащихс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nstantia"/>
              </a:rPr>
              <a:t>Опирается на  </a:t>
            </a:r>
            <a:r>
              <a:rPr b="0" lang="ru-RU" sz="2400" spc="-1" strike="noStrike">
                <a:solidFill>
                  <a:srgbClr val="7030a0"/>
                </a:solidFill>
                <a:latin typeface="Constantia"/>
              </a:rPr>
              <a:t>природосообразности, преемствен-ности, вариативности, прагматичности (практической ориентации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nstantia"/>
              </a:rPr>
              <a:t>Достигается через – </a:t>
            </a:r>
            <a:r>
              <a:rPr b="0" lang="ru-RU" sz="2400" spc="-1" strike="noStrike">
                <a:solidFill>
                  <a:srgbClr val="7030a0"/>
                </a:solidFill>
                <a:latin typeface="Constantia"/>
              </a:rPr>
              <a:t>учет особенностей класса (изучение и понимание человека); создание благоприятного психологического фона на уроке; использование приемов, способствующих появлению и сохранении интереса к учебному материалу; создание условий для самовыражения учащихся; инициацию разнообразных видов деятельности; предупреждение гиподинами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nstantia"/>
              </a:rPr>
              <a:t>Приводит к –</a:t>
            </a:r>
            <a:r>
              <a:rPr b="0" lang="ru-RU" sz="2400" spc="-1" strike="noStrike">
                <a:solidFill>
                  <a:srgbClr val="7030a0"/>
                </a:solidFill>
                <a:latin typeface="Constantia"/>
              </a:rPr>
              <a:t> предотвращению усталости и утомляемости; повышению мотивации к учебной деятельности; прирост учебных достижени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6760" y="285840"/>
            <a:ext cx="828684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nstantia"/>
              </a:rPr>
              <a:t>Пальчиковая гимнастика.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Constantia"/>
              </a:rPr>
              <a:t>Пальчиковые игры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286240" y="1571760"/>
            <a:ext cx="34005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onstantia"/>
              </a:rPr>
              <a:t>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4" name="Picture 2" descr="F:\DCIM\100PHOTO\SAM_2925.JPG"/>
          <p:cNvPicPr/>
          <p:nvPr/>
        </p:nvPicPr>
        <p:blipFill>
          <a:blip r:embed="rId2"/>
          <a:stretch/>
        </p:blipFill>
        <p:spPr>
          <a:xfrm>
            <a:off x="357120" y="1643040"/>
            <a:ext cx="3929040" cy="3703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F:\DCIM\100PHOTO\SAM_2926.JPG"/>
          <p:cNvPicPr/>
          <p:nvPr/>
        </p:nvPicPr>
        <p:blipFill>
          <a:blip r:embed="rId3"/>
          <a:stretch/>
        </p:blipFill>
        <p:spPr>
          <a:xfrm>
            <a:off x="4929120" y="2857680"/>
            <a:ext cx="4008600" cy="3703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nstantia"/>
              </a:rPr>
              <a:t>Пальчиковые игры могут помочь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onstantia"/>
              </a:rPr>
              <a:t>Подготовить руку к письму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308520" indent="-308520">
              <a:spcBef>
                <a:spcPts val="1001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onstantia"/>
              </a:rPr>
              <a:t>Развить внимание, терпение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308520" indent="-308520">
              <a:spcBef>
                <a:spcPts val="1001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onstantia"/>
              </a:rPr>
              <a:t>Стимулировать фантазию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308520" indent="-308520">
              <a:spcBef>
                <a:spcPts val="1001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onstantia"/>
              </a:rPr>
              <a:t>Активизировать работу мозга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308520" indent="-308520">
              <a:spcBef>
                <a:spcPts val="1001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onstantia"/>
              </a:rPr>
              <a:t>Научиться управлять своим телом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nstantia"/>
              </a:rPr>
              <a:t>Зрительная гимнастика на уроках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9" name="Picture 4" descr="http://im6-tub.yandex.net/i?id=160481290-08"/>
          <p:cNvPicPr/>
          <p:nvPr/>
        </p:nvPicPr>
        <p:blipFill>
          <a:blip r:embed="rId2"/>
          <a:stretch/>
        </p:blipFill>
        <p:spPr>
          <a:xfrm>
            <a:off x="6778800" y="5065560"/>
            <a:ext cx="2127240" cy="1597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D:\мои документы\SAM_2899.JPG"/>
          <p:cNvPicPr/>
          <p:nvPr/>
        </p:nvPicPr>
        <p:blipFill>
          <a:blip r:embed="rId3"/>
          <a:stretch/>
        </p:blipFill>
        <p:spPr>
          <a:xfrm>
            <a:off x="285840" y="1214280"/>
            <a:ext cx="3857400" cy="2786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D:\мои документы\SAM_2900.JPG"/>
          <p:cNvPicPr/>
          <p:nvPr/>
        </p:nvPicPr>
        <p:blipFill>
          <a:blip r:embed="rId4"/>
          <a:stretch/>
        </p:blipFill>
        <p:spPr>
          <a:xfrm>
            <a:off x="4714920" y="1214280"/>
            <a:ext cx="3824280" cy="2814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D:\мои документы\SAM_2901.JPG"/>
          <p:cNvPicPr/>
          <p:nvPr/>
        </p:nvPicPr>
        <p:blipFill>
          <a:blip r:embed="rId5"/>
          <a:stretch/>
        </p:blipFill>
        <p:spPr>
          <a:xfrm>
            <a:off x="3000240" y="4071960"/>
            <a:ext cx="32148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nstantia"/>
              </a:rPr>
              <a:t>Зрительная гимнастика помогает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Снять физическую и психоэмоциональную напряжённость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8520" indent="-30852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Тренировать вестибулярный аппарат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8520" indent="-30852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Развить зрительную координацию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8520" indent="-30852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Укреплять глазные мышцы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8520" indent="-30852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Развить зоркость и внимательность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8520" indent="-30852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Улучшить зрение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nstantia"/>
              </a:rPr>
              <a:t>Точечный массаж. Самомассаж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6" name="Picture 2" descr="C:\Documents and Settings\Loner\Рабочий стол\SAM_2913.JPG"/>
          <p:cNvPicPr/>
          <p:nvPr/>
        </p:nvPicPr>
        <p:blipFill>
          <a:blip r:embed="rId2"/>
          <a:stretch/>
        </p:blipFill>
        <p:spPr>
          <a:xfrm>
            <a:off x="0" y="857160"/>
            <a:ext cx="4937040" cy="3703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Documents and Settings\Loner\Рабочий стол\SAM_2914.JPG"/>
          <p:cNvPicPr/>
          <p:nvPr/>
        </p:nvPicPr>
        <p:blipFill>
          <a:blip r:embed="rId3"/>
          <a:stretch/>
        </p:blipFill>
        <p:spPr>
          <a:xfrm>
            <a:off x="3929040" y="3154320"/>
            <a:ext cx="493704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19:22:48Z</dcterms:created>
  <dc:creator>Metamax</dc:creator>
  <dc:description/>
  <dc:language>en-US</dc:language>
  <cp:lastModifiedBy>Павел</cp:lastModifiedBy>
  <dcterms:modified xsi:type="dcterms:W3CDTF">2013-01-16T16:14:45Z</dcterms:modified>
  <cp:revision>89</cp:revision>
  <dc:subject/>
  <dc:title>Здоровьесберегающие элементы на уроках в начальной школе.</dc:title>
</cp:coreProperties>
</file>