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2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2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78E-BF06-471C-B357-227260C0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278-CACE-4D8C-8EC5-C20AA212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A1E-F1AF-4460-ACE9-AFA66E85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396-ED87-4B24-81AF-278C1BEA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795-FCC1-4F85-B0A1-27175722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1120-9A4B-4B6A-A49A-6246E77D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211-5DB6-484F-AF78-5DA87D3B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8E9-17CC-4B0D-9989-2C28AE9A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082-B584-416A-BE39-51084B53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91D-1F37-45DC-B4BA-DA34FC13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3C6-69DD-4BE1-9DC0-19428981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174-54F4-4019-9646-D1697E7B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1F65-3A3C-41CE-9061-A462D4E335C4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Здоровьсбережение на уроках в начальной школ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2880" y="3886200"/>
            <a:ext cx="3629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Подготовила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МКОУ «Очкуровская СОШ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Томиленко В. П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" name="Picture 2" descr="D:\мои документы\школа\ucos56f.gif"/>
          <p:cNvPicPr/>
          <p:nvPr/>
        </p:nvPicPr>
        <p:blipFill>
          <a:blip r:embed="rId2"/>
          <a:stretch/>
        </p:blipFill>
        <p:spPr>
          <a:xfrm>
            <a:off x="714240" y="3714840"/>
            <a:ext cx="1857600" cy="21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Frame-063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428760"/>
            <a:ext cx="404028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7030a0"/>
                </a:solidFill>
                <a:latin typeface="Constantia"/>
              </a:rPr>
              <a:t>Мышцы шеи раз, два, три,</a:t>
            </a:r>
            <a:br>
              <a:rPr sz="2000"/>
            </a:br>
            <a:r>
              <a:rPr b="0" lang="en-US" sz="2000" spc="-1" strike="noStrike">
                <a:solidFill>
                  <a:srgbClr val="7030a0"/>
                </a:solidFill>
                <a:latin typeface="Constantia"/>
              </a:rPr>
              <a:t>Справа, слева разотри.</a:t>
            </a:r>
            <a:br>
              <a:rPr sz="2000"/>
            </a:br>
            <a:r>
              <a:rPr b="0" lang="en-US" sz="2000" spc="-1" strike="noStrike">
                <a:solidFill>
                  <a:srgbClr val="7030a0"/>
                </a:solidFill>
                <a:latin typeface="Constantia"/>
              </a:rPr>
              <a:t>Мышцы шеи раз, два, три,</a:t>
            </a:r>
            <a:br>
              <a:rPr sz="2000"/>
            </a:br>
            <a:r>
              <a:rPr b="0" lang="en-US" sz="2000" spc="-1" strike="noStrike">
                <a:solidFill>
                  <a:srgbClr val="7030a0"/>
                </a:solidFill>
                <a:latin typeface="Constantia"/>
              </a:rPr>
              <a:t>Справа, слева разотр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85840" y="428760"/>
            <a:ext cx="43578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Constantia"/>
              </a:rPr>
              <a:t>     </a:t>
            </a:r>
            <a:r>
              <a:rPr b="0" lang="en-US" sz="2500" spc="-1" strike="noStrike">
                <a:solidFill>
                  <a:srgbClr val="7030a0"/>
                </a:solidFill>
                <a:latin typeface="Constantia"/>
              </a:rPr>
              <a:t>Где седьмой мой позвонок?</a:t>
            </a:r>
            <a:br>
              <a:rPr sz="2500"/>
            </a:br>
            <a:r>
              <a:rPr b="0" lang="en-US" sz="2500" spc="-1" strike="noStrike">
                <a:solidFill>
                  <a:srgbClr val="7030a0"/>
                </a:solidFill>
                <a:latin typeface="Constantia"/>
              </a:rPr>
              <a:t>Где высокий бугорок?</a:t>
            </a:r>
            <a:br>
              <a:rPr sz="2500"/>
            </a:br>
            <a:r>
              <a:rPr b="0" lang="en-US" sz="2500" spc="-1" strike="noStrike">
                <a:solidFill>
                  <a:srgbClr val="7030a0"/>
                </a:solidFill>
                <a:latin typeface="Constantia"/>
              </a:rPr>
              <a:t>Раз виток и два виток,</a:t>
            </a:r>
            <a:br>
              <a:rPr sz="2500"/>
            </a:br>
            <a:r>
              <a:rPr b="0" lang="en-US" sz="2500" spc="-1" strike="noStrike">
                <a:solidFill>
                  <a:srgbClr val="7030a0"/>
                </a:solidFill>
                <a:latin typeface="Constantia"/>
              </a:rPr>
              <a:t>Правлю нервный я поток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Picture 2" descr="F:\DCIM\100PHOTO\SAM_2923.JPG"/>
          <p:cNvPicPr/>
          <p:nvPr/>
        </p:nvPicPr>
        <p:blipFill>
          <a:blip r:embed="rId2"/>
          <a:stretch/>
        </p:blipFill>
        <p:spPr>
          <a:xfrm>
            <a:off x="142920" y="1643040"/>
            <a:ext cx="4000320" cy="3346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F:\DCIM\100PHOTO\SAM_2924.JPG"/>
          <p:cNvPicPr/>
          <p:nvPr/>
        </p:nvPicPr>
        <p:blipFill>
          <a:blip r:embed="rId3"/>
          <a:stretch/>
        </p:blipFill>
        <p:spPr>
          <a:xfrm>
            <a:off x="4349880" y="2571840"/>
            <a:ext cx="45799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Маша\1283876325_2010-09-07_164406.jpg"/>
          <p:cNvPicPr/>
          <p:nvPr/>
        </p:nvPicPr>
        <p:blipFill>
          <a:blip r:embed="rId2"/>
          <a:stretch/>
        </p:blipFill>
        <p:spPr>
          <a:xfrm>
            <a:off x="60480" y="12600"/>
            <a:ext cx="4670280" cy="625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Маша\1283876497_2010-09-07_202005.jpg"/>
          <p:cNvPicPr/>
          <p:nvPr/>
        </p:nvPicPr>
        <p:blipFill>
          <a:blip r:embed="rId3"/>
          <a:stretch/>
        </p:blipFill>
        <p:spPr>
          <a:xfrm>
            <a:off x="4486320" y="12600"/>
            <a:ext cx="459720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nstantia"/>
              </a:rPr>
              <a:t>Точечный массаж помогает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Проводить профилактику простудных заболевани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Закаливание де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Научить детей расслабляться, освобождаться от стрессов, перенапряже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Обучить навыкам проведения точечного массаж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Picture 4" descr="http://im6-tub.yandex.net/i?id=160481290-08"/>
          <p:cNvPicPr/>
          <p:nvPr/>
        </p:nvPicPr>
        <p:blipFill>
          <a:blip r:embed="rId2"/>
          <a:stretch/>
        </p:blipFill>
        <p:spPr>
          <a:xfrm>
            <a:off x="6778800" y="5278320"/>
            <a:ext cx="21272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nstantia"/>
              </a:rPr>
              <a:t>Физкультурные минутки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40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030a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3680" y="1214280"/>
            <a:ext cx="35431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030a0"/>
              </a:solidFill>
              <a:latin typeface="Constantia"/>
            </a:endParaRPr>
          </a:p>
        </p:txBody>
      </p:sp>
      <p:pic>
        <p:nvPicPr>
          <p:cNvPr id="80" name="Picture 4" descr="http://im6-tub.yandex.net/i?id=160481290-08"/>
          <p:cNvPicPr/>
          <p:nvPr/>
        </p:nvPicPr>
        <p:blipFill>
          <a:blip r:embed="rId2"/>
          <a:stretch/>
        </p:blipFill>
        <p:spPr>
          <a:xfrm>
            <a:off x="7639200" y="-6480"/>
            <a:ext cx="151128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Loner\Рабочий стол\SAM_2918.JPG"/>
          <p:cNvPicPr/>
          <p:nvPr/>
        </p:nvPicPr>
        <p:blipFill>
          <a:blip r:embed="rId3"/>
          <a:stretch/>
        </p:blipFill>
        <p:spPr>
          <a:xfrm>
            <a:off x="357120" y="1071720"/>
            <a:ext cx="4040280" cy="3808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Loner\Рабочий стол\SAM_2919.JPG"/>
          <p:cNvPicPr/>
          <p:nvPr/>
        </p:nvPicPr>
        <p:blipFill>
          <a:blip r:embed="rId4"/>
          <a:stretch/>
        </p:blipFill>
        <p:spPr>
          <a:xfrm>
            <a:off x="4643280" y="2786040"/>
            <a:ext cx="40420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Физкультурные минутки помогают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Снятие усталости, напряже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Ослабить утомление на урок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Проводить профилактику нарушения осанк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Поддержание работоспособности, активного внима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5" name="Picture 4" descr="http://im6-tub.yandex.net/i?id=160481290-08"/>
          <p:cNvPicPr/>
          <p:nvPr/>
        </p:nvPicPr>
        <p:blipFill>
          <a:blip r:embed="rId2"/>
          <a:stretch/>
        </p:blipFill>
        <p:spPr>
          <a:xfrm>
            <a:off x="6778800" y="5065560"/>
            <a:ext cx="212724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Релаксация на уроках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186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nstantia"/>
              </a:rPr>
              <a:t>Помогает снять стресс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nstantia"/>
              </a:rPr>
              <a:t>Расслабление мышц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nstantia"/>
              </a:rPr>
              <a:t>Снятие усталост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nstantia"/>
              </a:rPr>
              <a:t>Восстановлене работоспособн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" name="Picture 2" descr="C:\Documents and Settings\Loner\Рабочий стол\SAM_2916.JPG"/>
          <p:cNvPicPr/>
          <p:nvPr/>
        </p:nvPicPr>
        <p:blipFill>
          <a:blip r:embed="rId2"/>
          <a:stretch/>
        </p:blipFill>
        <p:spPr>
          <a:xfrm>
            <a:off x="3929040" y="1071720"/>
            <a:ext cx="4670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Дыхательная гимнастик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0081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Укрепление дыхательной мускулатур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Уменьшение заболеваний дыхательной систем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Повышает общую сопротивляемость организма, его тонус, оздоровляет нервно-психическое состоя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" name="Picture 2" descr="F:\DCIM\100PHOTO\SAM_2928.JPG"/>
          <p:cNvPicPr/>
          <p:nvPr/>
        </p:nvPicPr>
        <p:blipFill>
          <a:blip r:embed="rId2"/>
          <a:stretch/>
        </p:blipFill>
        <p:spPr>
          <a:xfrm>
            <a:off x="3662280" y="1347840"/>
            <a:ext cx="493704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0096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Работа на уроке в режиме 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«стоя за конторкой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" name="Picture 2" descr="F:\DCIM\100PHOTO\SAM_2922.JPG"/>
          <p:cNvPicPr/>
          <p:nvPr/>
        </p:nvPicPr>
        <p:blipFill>
          <a:blip r:embed="rId2"/>
          <a:stretch/>
        </p:blipFill>
        <p:spPr>
          <a:xfrm>
            <a:off x="357120" y="2500200"/>
            <a:ext cx="4071960" cy="4071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D:\мои документы\kontorki.jpg"/>
          <p:cNvPicPr/>
          <p:nvPr/>
        </p:nvPicPr>
        <p:blipFill>
          <a:blip r:embed="rId3"/>
          <a:stretch/>
        </p:blipFill>
        <p:spPr>
          <a:xfrm>
            <a:off x="4714920" y="1643040"/>
            <a:ext cx="421488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Режим работы «стоя за конторкой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Чтобы осуществить более плавный переход на этот режим, за одним и тем же столом один ученик работает сидя, другой рядом – стоя. Через 15 минут ученики меняются местами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Работа за конторкой стоя – это формирование чувств координации и равновесия у ребенка, профилактика нарушений со стороны опорно-двигательного аппарата, сердечно-сосудистой системы, а также близорукости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Образовательные технологии</a:t>
            </a:r>
            <a:br>
              <a:rPr sz="4000"/>
            </a:b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(по их здоровьесберегательной направленност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Педагогика сотрудничества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nstantia"/>
              </a:rPr>
              <a:t>Личностно-ориентированна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Технология уровневой дифференциации обучения</a:t>
            </a:r>
            <a:r>
              <a:rPr b="1" lang="ru-RU" sz="27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Технологии развивающего обучения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Технологию раскрепощённого развития детей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Важная особенность уроков состоит в том, что они проводятся в режиме движения наглядного учебного материала, постоянного поиска и выполнен заданий, активизирующих детей. ( Ищут задание глазами, а потом идут и берут это задание, выполняют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nstantia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nstantia"/>
              </a:rPr>
              <a:t>                                   </a:t>
            </a:r>
            <a:r>
              <a:rPr b="1" lang="ru-RU" sz="4000" spc="-1" strike="noStrike">
                <a:solidFill>
                  <a:srgbClr val="7030a0"/>
                </a:solidFill>
                <a:latin typeface="Constantia"/>
              </a:rPr>
              <a:t>В.А.Сухомлинский</a:t>
            </a:r>
            <a:r>
              <a:rPr b="0" lang="ru-RU" sz="4000" spc="-1" strike="noStrike">
                <a:solidFill>
                  <a:srgbClr val="7030a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" name="Picture 2" descr="Frame-0631"/>
          <p:cNvPicPr/>
          <p:nvPr/>
        </p:nvPicPr>
        <p:blipFill>
          <a:blip r:embed="rId2"/>
          <a:stretch/>
        </p:blipFill>
        <p:spPr>
          <a:xfrm>
            <a:off x="-142920" y="0"/>
            <a:ext cx="950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D:\мои документы\Копия c080e51b2ffd.gif"/>
          <p:cNvPicPr/>
          <p:nvPr/>
        </p:nvPicPr>
        <p:blipFill>
          <a:blip r:embed="rId2"/>
          <a:stretch/>
        </p:blipFill>
        <p:spPr>
          <a:xfrm>
            <a:off x="6858000" y="0"/>
            <a:ext cx="204300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39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nstantia"/>
              </a:rPr>
              <a:t>    </a:t>
            </a:r>
            <a:r>
              <a:rPr b="1" i="1" lang="ru-RU" sz="4000" spc="-1" strike="noStrike">
                <a:solidFill>
                  <a:srgbClr val="7030a0"/>
                </a:solidFill>
                <a:latin typeface="Constantia"/>
              </a:rPr>
              <a:t>«Состояние здоровья подрастающего поколения – важнейший показатель благополучия общества и государства, не только отражающий настоящую ситуацию, но и дающий прогноз на будущее»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3" name="Picture 2" descr="Frame-063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nstantia"/>
              </a:rPr>
              <a:t>Литература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мирнов Н.К. Здоровьесберегающие образовательные технологии и психология здоровья в школе.- М.: АРКТИ, 2006.- 320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брамова И.В. Бочкарёва Т.И. Здоровьесберегающие технологии в начальной школе. - С.: СИПКРО, 2004.-138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валько В.И. Здоровьесберегающие технологии в начальной школе. 1-4 классы. М.: «ВАКО», 2004, 296 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нчинская Е.А. Основы здоровьесберегающего обучения в начальной школе: Методические рекомендации по преодолению перегрузки учащихся / Е.А. Менчинская. — М. : Вентана-Граф, 2008. — 112 с. — (Педагогическая мастерска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мирнов Н. К. Здоровьесберегающие образовательные технологии в современной школе. – М.: АПК и ПРО, 2002. – с. 62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ш выбор – здоровье: досуговая программа, разработки мероприятий, рекомендации/ авт.-сост. Н. Н. Шапцева. – Волгоград: Учитель, 2009. – 184 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4" descr="http://im6-tub.yandex.net/i?id=160481290-08"/>
          <p:cNvPicPr/>
          <p:nvPr/>
        </p:nvPicPr>
        <p:blipFill>
          <a:blip r:embed="rId2"/>
          <a:stretch/>
        </p:blipFill>
        <p:spPr>
          <a:xfrm>
            <a:off x="7424640" y="5711760"/>
            <a:ext cx="1725840" cy="11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Frame-063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Элементы здоровьесберегающих технологий, применяемые на уроках в начальной школ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" name="Содержимое 6" descr=""/>
          <p:cNvPicPr/>
          <p:nvPr/>
        </p:nvPicPr>
        <p:blipFill>
          <a:blip r:embed="rId2"/>
          <a:stretch/>
        </p:blipFill>
        <p:spPr>
          <a:xfrm>
            <a:off x="142920" y="1857240"/>
            <a:ext cx="88581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Здоровьесберегающее обучение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7142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Направлено на</a:t>
            </a:r>
            <a:r>
              <a:rPr b="1" i="1" lang="ru-RU" sz="2400" spc="-1" strike="noStrike">
                <a:solidFill>
                  <a:srgbClr val="7030a0"/>
                </a:solidFill>
                <a:latin typeface="Constantia"/>
              </a:rPr>
              <a:t> </a:t>
            </a: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– 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обеспечение психического здоровья учащих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Опирается на  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природосообразности, преемствен-ности, вариативности, прагматичности (практической ориентаци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Достигается через – 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учет особенностей класса (изучение и понимание человека); создание благоприятного психологического фона на уроке; использование приемов, способствующих появлению и сохранении интереса к учебному материалу; создание условий для самовыражения учащихся; инициацию разнообразных видов деятельности; предупреждение гиподинам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Приводит к –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 предотвращению усталости и утомляемости; повышению мотивации к учебной деятельности; прирост учебных достиже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2868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nstantia"/>
              </a:rPr>
              <a:t>Пальчиковая гимнастика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nstantia"/>
              </a:rPr>
              <a:t>Пальчиковые игры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86240" y="1571760"/>
            <a:ext cx="3400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nstantia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" name="Picture 2" descr="F:\DCIM\100PHOTO\SAM_2925.JPG"/>
          <p:cNvPicPr/>
          <p:nvPr/>
        </p:nvPicPr>
        <p:blipFill>
          <a:blip r:embed="rId2"/>
          <a:stretch/>
        </p:blipFill>
        <p:spPr>
          <a:xfrm>
            <a:off x="357120" y="1643040"/>
            <a:ext cx="3929040" cy="370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:\DCIM\100PHOTO\SAM_2926.JPG"/>
          <p:cNvPicPr/>
          <p:nvPr/>
        </p:nvPicPr>
        <p:blipFill>
          <a:blip r:embed="rId3"/>
          <a:stretch/>
        </p:blipFill>
        <p:spPr>
          <a:xfrm>
            <a:off x="4929120" y="2857680"/>
            <a:ext cx="4008600" cy="370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Пальчиковые игры могут помоч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Подготовить руку к письму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10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Развить внимание, терпение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10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Стимулировать фантазию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10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Активизировать работу мозг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10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Научиться управлять своим тело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Зрительная гимнастика на уроках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" name="Picture 4" descr="http://im6-tub.yandex.net/i?id=160481290-08"/>
          <p:cNvPicPr/>
          <p:nvPr/>
        </p:nvPicPr>
        <p:blipFill>
          <a:blip r:embed="rId2"/>
          <a:stretch/>
        </p:blipFill>
        <p:spPr>
          <a:xfrm>
            <a:off x="6778800" y="5065560"/>
            <a:ext cx="2127240" cy="159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D:\мои документы\SAM_2899.JPG"/>
          <p:cNvPicPr/>
          <p:nvPr/>
        </p:nvPicPr>
        <p:blipFill>
          <a:blip r:embed="rId3"/>
          <a:stretch/>
        </p:blipFill>
        <p:spPr>
          <a:xfrm>
            <a:off x="285840" y="1214280"/>
            <a:ext cx="3857400" cy="2786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D:\мои документы\SAM_2900.JPG"/>
          <p:cNvPicPr/>
          <p:nvPr/>
        </p:nvPicPr>
        <p:blipFill>
          <a:blip r:embed="rId4"/>
          <a:stretch/>
        </p:blipFill>
        <p:spPr>
          <a:xfrm>
            <a:off x="4714920" y="1214280"/>
            <a:ext cx="3824280" cy="281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D:\мои документы\SAM_2901.JPG"/>
          <p:cNvPicPr/>
          <p:nvPr/>
        </p:nvPicPr>
        <p:blipFill>
          <a:blip r:embed="rId5"/>
          <a:stretch/>
        </p:blipFill>
        <p:spPr>
          <a:xfrm>
            <a:off x="3000240" y="4071960"/>
            <a:ext cx="32148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Зрительная гимнастика помогает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Снять физическую и психоэмоциональную напряжённость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Тренировать вестибулярный аппара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Развить зрительную координацию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Укреплять глазные мышцы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Развить зоркость и внимательность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Улучшить зрени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nstantia"/>
              </a:rPr>
              <a:t>Точечный массаж. Самомассаж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6" name="Picture 2" descr="C:\Documents and Settings\Loner\Рабочий стол\SAM_2913.JPG"/>
          <p:cNvPicPr/>
          <p:nvPr/>
        </p:nvPicPr>
        <p:blipFill>
          <a:blip r:embed="rId2"/>
          <a:stretch/>
        </p:blipFill>
        <p:spPr>
          <a:xfrm>
            <a:off x="0" y="857160"/>
            <a:ext cx="4937040" cy="3703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Loner\Рабочий стол\SAM_2914.JPG"/>
          <p:cNvPicPr/>
          <p:nvPr/>
        </p:nvPicPr>
        <p:blipFill>
          <a:blip r:embed="rId3"/>
          <a:stretch/>
        </p:blipFill>
        <p:spPr>
          <a:xfrm>
            <a:off x="3929040" y="3154320"/>
            <a:ext cx="49370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9:22:48Z</dcterms:created>
  <dc:creator>Metamax</dc:creator>
  <dc:description/>
  <dc:language>en-US</dc:language>
  <cp:lastModifiedBy>Павел</cp:lastModifiedBy>
  <dcterms:modified xsi:type="dcterms:W3CDTF">2013-01-16T16:14:45Z</dcterms:modified>
  <cp:revision>89</cp:revision>
  <dc:subject/>
  <dc:title>Здоровьесберегающие элементы на уроках в начальной школе.</dc:title>
</cp:coreProperties>
</file>