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B7A-7AFF-406B-8B26-F3080DC7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2F8-C1A2-4F67-8F98-0C59BE64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FFE-A8EB-40CB-BFC2-F6D35F54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558-53F4-42CA-95ED-3CAE68DD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8058-71C8-4A98-990C-8216D88B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3E59-CE8C-4BCC-9240-F74D9564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C135-998C-4D21-8B8C-C6D98FA4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14D5-8FAB-4129-B210-89DC74E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39B6-18EC-4485-ADA8-FDDBFC43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850C-BC5B-47EA-8F99-FE4EF6E4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B3E0-E09C-4A41-94A0-F83ABB70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BBB-32F4-4EAF-8396-DD8025D6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BC40-32D8-4CB9-87CE-2097E832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A5B0-5259-45F9-9633-F5CB02D9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742F-3878-4854-ADD4-3922BB1E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3E39-005C-4E4C-989C-F2E62B5B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D9E4-3326-4B47-AFEC-07A01523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3ED-8743-4E70-80C2-108CCAC9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AA0-90EF-497E-A5F5-9EEE05F8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83A-A34E-4757-8A8E-DA25AA7E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564-A900-4F80-9D06-AB7723A6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27E-E90E-4877-9186-BB9AC737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BFB-E5E6-48DD-A41E-CB2CA464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0E2-489D-4D57-9FF6-0285801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B0BA-1863-4D44-9D50-D61AA2C44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0D7A-2688-45F1-9BCC-8C6DE29DB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Окружающий мир      1 класс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ема: «Что общего у разных растений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3132000" cy="2793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7640" y="3789360"/>
            <a:ext cx="3097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664000" cy="2490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664000" cy="251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2652840" cy="244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219640" y="4292640"/>
            <a:ext cx="2652840" cy="2449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цве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это за дерево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02400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2448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701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170160" cy="352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843280" y="2349360"/>
            <a:ext cx="352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168720" cy="273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3168720" cy="273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059280" y="2421000"/>
            <a:ext cx="2492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282840" cy="2952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313080" cy="2952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987640" y="3878280"/>
            <a:ext cx="3097080" cy="2979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311280" cy="312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общего у всех растени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2708280" cy="269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64000" y="3429000"/>
            <a:ext cx="2664000" cy="273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348000" y="549360"/>
            <a:ext cx="2708280" cy="2663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332000" y="3429000"/>
            <a:ext cx="2714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266544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124000" y="3645000"/>
            <a:ext cx="2714760" cy="273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6:43:13Z</dcterms:created>
  <dc:creator>Снусмумрик</dc:creator>
  <dc:description/>
  <dc:language>en-US</dc:language>
  <cp:lastModifiedBy>Елена</cp:lastModifiedBy>
  <dcterms:modified xsi:type="dcterms:W3CDTF">2011-12-09T16:51:47Z</dcterms:modified>
  <cp:revision>4</cp:revision>
  <dc:subject/>
  <dc:title>Окружающий мир      1 класс</dc:title>
</cp:coreProperties>
</file>