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8D00-7813-4AC5-AFA7-96F9EF04D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7078-3EF6-49EC-9BB3-AD67D6EC7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A7EE-38BA-4622-ADDD-0AD425BE6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1280-E964-4CEC-BD72-697703AA7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62F63-E05F-4664-BC1B-F445F5EDF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85CF5-75A4-4EAD-A33E-5F67798EF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3C2BD-C949-4F94-ABEE-89DABE411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2BF7C-AA38-4DB0-B167-95FC9D6BF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06CF0-7DB5-4847-8CED-C91B3A4B7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26908-A004-48A3-96AD-247B287DA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4C212-1E31-4B3E-B51F-C3C895CC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D2D0-F38D-4654-B8C7-5560070CB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F33F4-1F17-4A78-9E46-4FB2D570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0337B-F646-4C91-AB48-9A0CD015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FEBAF-B4FE-4DEC-8BA1-E2225AD0F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97F93-56B4-4392-96AE-E3C5AAE63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26936-D3F9-4456-B8ED-42C5102A3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79A3-E101-4053-B4E3-12BAB0D6D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E4FC-BD31-421F-A945-E0E25128A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9811-CFDF-4256-AEBB-7DADBC3A4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AB50-8311-4271-A92D-893F3D32F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CDEE-8327-42AE-AC63-5649BB60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6C33-90B2-4B04-A11E-BA7F1557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9783-2516-49ED-8CF1-5D5B05DC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324DB-82A0-48A2-B761-EDA8F7D60D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1E93C-D303-4F9B-93E4-25D122F26B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Окружающий мир      1 класс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03280" y="220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Тема: «Что общего у разных растений?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651640" y="3789360"/>
            <a:ext cx="3132000" cy="27939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547640" y="3789360"/>
            <a:ext cx="30974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2664000" cy="24908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219640" y="1557360"/>
            <a:ext cx="2664000" cy="2519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1042920" y="4292640"/>
            <a:ext cx="2652840" cy="2448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5219640" y="4292640"/>
            <a:ext cx="2652840" cy="24494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оцвет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Что это за дерево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2951280" cy="2951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435640" y="1268280"/>
            <a:ext cx="3024000" cy="2952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3132000" y="3716280"/>
            <a:ext cx="244800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3170160" cy="3529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435640" y="189000"/>
            <a:ext cx="3170160" cy="3529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2843280" y="2349360"/>
            <a:ext cx="35290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3168720" cy="27370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148360" y="620640"/>
            <a:ext cx="3168720" cy="2737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3059280" y="2421000"/>
            <a:ext cx="24922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3282840" cy="2952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508720" y="1268280"/>
            <a:ext cx="3313080" cy="2952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2987640" y="3878280"/>
            <a:ext cx="3097080" cy="29797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АСТЕ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84360" y="2421000"/>
            <a:ext cx="3311280" cy="31240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219640" y="2421000"/>
            <a:ext cx="3311640" cy="3095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Что общего у всех растений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300720" y="549360"/>
            <a:ext cx="2664000" cy="26636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95280" y="549360"/>
            <a:ext cx="2708280" cy="26906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5364000" y="3429000"/>
            <a:ext cx="2664000" cy="27367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3348000" y="549360"/>
            <a:ext cx="2708280" cy="26636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1332000" y="3429000"/>
            <a:ext cx="27144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642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2663640" cy="2664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924360" y="765000"/>
            <a:ext cx="2665440" cy="2664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2124000" y="3645000"/>
            <a:ext cx="2714760" cy="2736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5508720" y="3645000"/>
            <a:ext cx="27352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6:43:13Z</dcterms:created>
  <dc:creator>Снусмумрик</dc:creator>
  <dc:description/>
  <dc:language>en-US</dc:language>
  <cp:lastModifiedBy>Елена</cp:lastModifiedBy>
  <dcterms:modified xsi:type="dcterms:W3CDTF">2011-12-09T16:51:47Z</dcterms:modified>
  <cp:revision>4</cp:revision>
  <dc:subject/>
  <dc:title>Окружающий мир      1 класс</dc:title>
</cp:coreProperties>
</file>