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B5E-E607-4F36-AA33-184CBCFA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444-9257-4CE3-B1EC-FDB500C0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E9C-C37F-4D5B-8A05-A753DD99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753-3B20-468A-9474-578F3D94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5BE7-01AD-4404-A6B4-68407779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E751-BDE8-4AD1-94C9-0CAF705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BE24-B4C5-40A6-AEC3-D0FC7AB0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E88C-46BE-4851-89BE-9626DE43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7E5C-031D-4691-A79E-104B2D09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B555-0B96-40C7-8985-597A8AFC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3CC-55B4-45BB-8D58-C970ACEF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3F2-A528-43CD-9B35-06223F69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F065-4264-497D-9376-651C050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F521-52C3-4177-8706-A337E01A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6FF2-1038-4E7C-BABB-7B31B593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1971-3AD9-4044-AD49-7EE9E78F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9F30-68E3-4A00-A7A8-7ACC34BF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843-840C-449F-9A77-10B6906C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758-8421-433D-92A0-25C04A48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21E-E167-418C-9576-A6B59F5F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684-3BAF-47F1-BF7A-815805C2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C80-722C-4BF0-AFD6-920E839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65E-AC26-4797-860D-CA23DB0C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1CA-30C7-4565-BD46-4732BDA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5B5D-7E37-4A26-A43B-C505795F2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12F0-AD49-4059-91F9-AAB1A77EE6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image" Target="../media/image9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3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34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ворческая лаборатори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ителя начальных классов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ОУ «Гимназия №6»</a:t>
            </a:r>
            <a:br>
              <a:rPr sz="2800"/>
            </a:b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Немчиновой Ларисы Иосифовн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237280" cy="3605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13" name="Picture 5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ектная деяте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PICT0035"/>
          <p:cNvPicPr/>
          <p:nvPr/>
        </p:nvPicPr>
        <p:blipFill>
          <a:blip r:embed="rId1"/>
          <a:stretch/>
        </p:blipFill>
        <p:spPr>
          <a:xfrm>
            <a:off x="324000" y="1341360"/>
            <a:ext cx="2736720" cy="2448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3276720" y="1413000"/>
            <a:ext cx="2519280" cy="201600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241" name="Picture 6" descr="IMG_0322"/>
          <p:cNvPicPr/>
          <p:nvPr/>
        </p:nvPicPr>
        <p:blipFill>
          <a:blip r:embed="rId3"/>
          <a:stretch/>
        </p:blipFill>
        <p:spPr>
          <a:xfrm>
            <a:off x="6084720" y="4221000"/>
            <a:ext cx="2783160" cy="237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42" name="Picture 7" descr="PICT0043"/>
          <p:cNvPicPr/>
          <p:nvPr/>
        </p:nvPicPr>
        <p:blipFill>
          <a:blip r:embed="rId4"/>
          <a:stretch/>
        </p:blipFill>
        <p:spPr>
          <a:xfrm>
            <a:off x="250200" y="4005360"/>
            <a:ext cx="2808360" cy="2316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43" name="Picture 8" descr=""/>
          <p:cNvPicPr/>
          <p:nvPr/>
        </p:nvPicPr>
        <p:blipFill>
          <a:blip r:embed="rId5"/>
          <a:stretch/>
        </p:blipFill>
        <p:spPr>
          <a:xfrm>
            <a:off x="6156360" y="1268280"/>
            <a:ext cx="2592360" cy="23767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44" name="Picture 10" descr="вывеска последняя"/>
          <p:cNvPicPr/>
          <p:nvPr/>
        </p:nvPicPr>
        <p:blipFill>
          <a:blip r:embed="rId6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picture"/>
          <p:cNvPicPr/>
          <p:nvPr/>
        </p:nvPicPr>
        <p:blipFill>
          <a:blip r:embed="rId7"/>
          <a:stretch/>
        </p:blipFill>
        <p:spPr>
          <a:xfrm>
            <a:off x="3203640" y="4437000"/>
            <a:ext cx="2592360" cy="2232000"/>
          </a:xfrm>
          <a:prstGeom prst="rect">
            <a:avLst/>
          </a:prstGeom>
          <a:ln w="28440">
            <a:solidFill>
              <a:srgbClr val="009999"/>
            </a:solidFill>
            <a:round/>
          </a:ln>
        </p:spPr>
      </p:pic>
      <p:pic>
        <p:nvPicPr>
          <p:cNvPr id="246" name="Picture 7" descr="PICT0043"/>
          <p:cNvPicPr/>
          <p:nvPr/>
        </p:nvPicPr>
        <p:blipFill>
          <a:blip r:embed="rId8"/>
          <a:stretch/>
        </p:blipFill>
        <p:spPr>
          <a:xfrm>
            <a:off x="250200" y="4005360"/>
            <a:ext cx="2808360" cy="2316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ТФОЛИО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держивать и стимулировать учебную мотивацию школь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вать навыки рефлексивной и оценочной деятельности учащих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ировать умение учиться - ставить цели, планировать и организовывать собственную учебную деятельн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427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ворческая лаборатория педаго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.  Нормативные документы и программно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етодическое обеспечен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бочие программы учител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. Используемые средства обуч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. Методическая копилка педагога.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V. Диагностические материалы педагог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редства обучения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43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ые образова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сурс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H="1">
            <a:off x="3058920" y="907920"/>
            <a:ext cx="93636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5364000" y="907920"/>
            <a:ext cx="93528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84360" y="1557360"/>
            <a:ext cx="324000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инновацио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5219640" y="1557360"/>
            <a:ext cx="324000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традицио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859280" y="2781360"/>
            <a:ext cx="399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дактический материа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аздаточный, демонстрационн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бные пособ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вающие иг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354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етодическая копил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работки конструктов уро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исание современных образовательных технолог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работки дидактических материа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ие отчеты по теме, публикации, выступ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работки мероприятий внеуроч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ие и проектные работы обучаю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йт учите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499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ониторинг образовательных достижений учащих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тивация к обучению в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качества знаний (усвоение Г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речевой компетент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ультативность  внеуроч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г 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«Формирование речевой компетентности учащихся младшего школьного возраста как условие их успешного обучения и развития»,ШМО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- Использование компьютерной программы «Система интенсивного развития способностей» во внеурочной деятельности с целью повышения качества техники чтения и увеличение объёма памяти», ШМО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г 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«Формирование речевой компетентности учащихся младшего школьного возраста как условие их успешного обучения и развития», ГМО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МО - обобщение педагогического опыта по методической теме: «Формирования навыков грамотного безошибочного письма - как одна из основных задач организации учебной деятельнос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ИЦ участие в практическом семинаре «Использование ИКТ  в процессе обучения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МО - обобщение педагогического опыта по методической теме: «Формирования навыков грамотного безошибочного письма - как одна из основных задач организации учебной деятельнос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бобщение опы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7 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ИЦ участие в практическом семинаре «Использование интерактивной доски в процессе обуче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8г. 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общение опыта по теме «Использование в учебно-воспитательном процессе информационно-коммуникационных технологий»,статья опубликована в сборн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нварь 2008г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едставление системы педагогической деятельности»,ГМО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8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вгустовская конференция выступление с обобщением опыт по теме «Метод проектов - один из способов формирования ключевых компетентностей школьник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8-2009г.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имаю участие во Всероссийском конкурсе «Фестиваль исследовательских и творческих работ «Портфолио», являюсь руководителем проектов учащихся Бреус Данила, Харенко Богдана, Чернова Кирил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8-2009г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нимаю участие во Всероссийском конкурсе «Фестиваль педагогических идей «Открытый урок», С целью обобщения и представления своего педагогического представлена разработка интегрированного учебного занятия по теме «Зарождение поэзии через русский фолькло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сероссийский конкурс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Русский медвежонок –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языкознание для всех»</a:t>
            </a:r>
            <a:br>
              <a:rPr sz="28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5" descr="Безымянный"/>
          <p:cNvPicPr/>
          <p:nvPr/>
        </p:nvPicPr>
        <p:blipFill>
          <a:blip r:embed="rId1"/>
          <a:stretch/>
        </p:blipFill>
        <p:spPr>
          <a:xfrm>
            <a:off x="5219640" y="1844640"/>
            <a:ext cx="3544920" cy="439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Rectangle 6"/>
          <p:cNvSpPr/>
          <p:nvPr/>
        </p:nvSpPr>
        <p:spPr>
          <a:xfrm>
            <a:off x="324000" y="2000520"/>
            <a:ext cx="51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йсих Оль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 место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г. Лангепас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 мес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ХМА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сероссийск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вристическая олимпиада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о эк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968720" cy="46087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324000" y="2492280"/>
            <a:ext cx="4032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г.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уреаты-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ов Кир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йсих Оль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разование: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сше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валификация учитель начальных классов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точно-Казахстанский государственный университет, психолого-педагогический факультет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пециальност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подавание в начальных классах- педагогика и методика начального образован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дагогический стаж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8 лет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анном учреждении 11 лет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валификационная категория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сша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42920" y="393840"/>
            <a:ext cx="561672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изитная карточ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Обнинская ол"/>
          <p:cNvPicPr/>
          <p:nvPr/>
        </p:nvPicPr>
        <p:blipFill>
          <a:blip r:embed="rId1"/>
          <a:stretch/>
        </p:blipFill>
        <p:spPr>
          <a:xfrm>
            <a:off x="5435640" y="1628640"/>
            <a:ext cx="3529080" cy="4464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оссийский заочный конкурс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Познание и творчество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4968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 г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царстве математи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уре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йсих Оль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ов Кир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г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 знаю русский язы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уреа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малова Анжел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ваненко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ярко Алё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24360" y="333360"/>
            <a:ext cx="837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Международный математически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конкурс-игра «Кенгуру»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4" descr="Кенгуру"/>
          <p:cNvPicPr/>
          <p:nvPr/>
        </p:nvPicPr>
        <p:blipFill>
          <a:blip r:embed="rId1"/>
          <a:srcRect l="2292" t="1840" r="0" b="0"/>
          <a:stretch/>
        </p:blipFill>
        <p:spPr>
          <a:xfrm>
            <a:off x="6093000" y="1916280"/>
            <a:ext cx="3051000" cy="38178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"/>
          <p:cNvSpPr/>
          <p:nvPr/>
        </p:nvSpPr>
        <p:spPr>
          <a:xfrm>
            <a:off x="324000" y="1700280"/>
            <a:ext cx="6551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г.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исов Тимур ХМАО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г.-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ов Кирилл ХМАО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24000" y="47628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грамма воспитательной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боты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Вместе - дружная семья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584760" cy="4680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89" name="Picture 5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неурочная деяте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Picture 4" descr="PICT0324"/>
          <p:cNvPicPr/>
          <p:nvPr/>
        </p:nvPicPr>
        <p:blipFill>
          <a:blip r:embed="rId1"/>
          <a:stretch/>
        </p:blipFill>
        <p:spPr>
          <a:xfrm>
            <a:off x="5508720" y="4076640"/>
            <a:ext cx="3024000" cy="252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92" name="Picture 5" descr="Изображение 079"/>
          <p:cNvPicPr/>
          <p:nvPr/>
        </p:nvPicPr>
        <p:blipFill>
          <a:blip r:embed="rId2"/>
          <a:stretch/>
        </p:blipFill>
        <p:spPr>
          <a:xfrm>
            <a:off x="900000" y="1341360"/>
            <a:ext cx="3167280" cy="2374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93" name="Picture 7" descr="PICT0008"/>
          <p:cNvPicPr/>
          <p:nvPr/>
        </p:nvPicPr>
        <p:blipFill>
          <a:blip r:embed="rId3"/>
          <a:stretch/>
        </p:blipFill>
        <p:spPr>
          <a:xfrm>
            <a:off x="826920" y="4076640"/>
            <a:ext cx="3240360" cy="244800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3097080" cy="244800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295" name="Picture 8" descr="вывеска последняя"/>
          <p:cNvPicPr/>
          <p:nvPr/>
        </p:nvPicPr>
        <p:blipFill>
          <a:blip r:embed="rId5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вывеска последняя"/>
          <p:cNvPicPr/>
          <p:nvPr/>
        </p:nvPicPr>
        <p:blipFill>
          <a:blip r:embed="rId6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Изображение 020"/>
          <p:cNvPicPr/>
          <p:nvPr/>
        </p:nvPicPr>
        <p:blipFill>
          <a:blip r:embed="rId1"/>
          <a:stretch/>
        </p:blipFill>
        <p:spPr>
          <a:xfrm>
            <a:off x="5148360" y="4076640"/>
            <a:ext cx="3313080" cy="258444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298" name="Picture 3" descr="IMG_0009"/>
          <p:cNvPicPr/>
          <p:nvPr/>
        </p:nvPicPr>
        <p:blipFill>
          <a:blip r:embed="rId2"/>
          <a:stretch/>
        </p:blipFill>
        <p:spPr>
          <a:xfrm>
            <a:off x="395280" y="419040"/>
            <a:ext cx="3456000" cy="254628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299" name="Picture 4" descr="IMG_0112"/>
          <p:cNvPicPr/>
          <p:nvPr/>
        </p:nvPicPr>
        <p:blipFill>
          <a:blip r:embed="rId3"/>
          <a:stretch/>
        </p:blipFill>
        <p:spPr>
          <a:xfrm>
            <a:off x="4356000" y="907920"/>
            <a:ext cx="331164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0" name="Picture 6" descr="1 (2)"/>
          <p:cNvPicPr/>
          <p:nvPr/>
        </p:nvPicPr>
        <p:blipFill>
          <a:blip r:embed="rId4"/>
          <a:stretch/>
        </p:blipFill>
        <p:spPr>
          <a:xfrm>
            <a:off x="468360" y="3933720"/>
            <a:ext cx="3382920" cy="2448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1" name="Picture 7" descr="вывеска последняя"/>
          <p:cNvPicPr/>
          <p:nvPr/>
        </p:nvPicPr>
        <p:blipFill>
          <a:blip r:embed="rId5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IMG_0112"/>
          <p:cNvPicPr/>
          <p:nvPr/>
        </p:nvPicPr>
        <p:blipFill>
          <a:blip r:embed="rId6"/>
          <a:stretch/>
        </p:blipFill>
        <p:spPr>
          <a:xfrm>
            <a:off x="4356000" y="907920"/>
            <a:ext cx="331164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3" name="Picture 4" descr="IMG_0112"/>
          <p:cNvPicPr/>
          <p:nvPr/>
        </p:nvPicPr>
        <p:blipFill>
          <a:blip r:embed="rId7"/>
          <a:stretch/>
        </p:blipFill>
        <p:spPr>
          <a:xfrm>
            <a:off x="4356000" y="907920"/>
            <a:ext cx="331164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16872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5" name="Picture 4" descr="IMG_0039"/>
          <p:cNvPicPr/>
          <p:nvPr/>
        </p:nvPicPr>
        <p:blipFill>
          <a:blip r:embed="rId2"/>
          <a:stretch/>
        </p:blipFill>
        <p:spPr>
          <a:xfrm>
            <a:off x="4211640" y="836640"/>
            <a:ext cx="3168720" cy="266364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306" name="Picture 5" descr="IMG_0026"/>
          <p:cNvPicPr/>
          <p:nvPr/>
        </p:nvPicPr>
        <p:blipFill>
          <a:blip r:embed="rId3"/>
          <a:stretch/>
        </p:blipFill>
        <p:spPr>
          <a:xfrm>
            <a:off x="5148360" y="3933720"/>
            <a:ext cx="3071880" cy="2519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307" name="Picture 6" descr="IMG_0028"/>
          <p:cNvPicPr/>
          <p:nvPr/>
        </p:nvPicPr>
        <p:blipFill>
          <a:blip r:embed="rId4"/>
          <a:stretch/>
        </p:blipFill>
        <p:spPr>
          <a:xfrm>
            <a:off x="684360" y="3860640"/>
            <a:ext cx="3095640" cy="2768760"/>
          </a:xfrm>
          <a:prstGeom prst="rect">
            <a:avLst/>
          </a:prstGeom>
          <a:ln w="28440">
            <a:solidFill>
              <a:srgbClr val="06d036"/>
            </a:solidFill>
            <a:miter/>
          </a:ln>
        </p:spPr>
      </p:pic>
      <p:pic>
        <p:nvPicPr>
          <p:cNvPr id="308" name="Picture 7" descr="вывеска последняя"/>
          <p:cNvPicPr/>
          <p:nvPr/>
        </p:nvPicPr>
        <p:blipFill>
          <a:blip r:embed="rId5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97080" y="260280"/>
            <a:ext cx="8964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ангепасская капель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оминация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Художественное слово»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925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09г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.-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ипломант 3 степени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дреев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971640" y="3789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09г.-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ипломант 2 степен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колин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6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sp>
        <p:nvSpPr>
          <p:cNvPr id="313" name="Ink 7"/>
          <p:cNvSpPr/>
          <p:nvPr/>
        </p:nvSpPr>
        <p:spPr>
          <a:xfrm>
            <a:off x="1143000" y="6850080"/>
            <a:ext cx="1440" cy="7920"/>
          </a:xfrm>
          <a:custGeom>
            <a:avLst/>
            <a:gdLst/>
            <a:ahLst/>
            <a:rect l="l" t="t" r="r" b="b"/>
            <a:pathLst>
              <a:path w="1" h="23">
                <a:moveTo>
                  <a:pt x="3175" y="19028"/>
                </a:moveTo>
                <a:cubicBezTo>
                  <a:pt x="3175" y="19035"/>
                  <a:pt x="3175" y="19043"/>
                  <a:pt x="3175" y="190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40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Фестиваль духовной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оэзи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 воспоёт душа моя Господа»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08г. -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ауреат 1 степени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рон Юл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08г. -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ауреат 2 степени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ахова Снежана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5688000" cy="88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ae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 творческих рабо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25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Шаг от пропасти -2008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минация «Электронное творчество»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 место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Чернов Кир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ипломант-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ливанов Ви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Лучший читатель года 2008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ауре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енко Бог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оригинальную книжку- календа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 rot="20194800">
            <a:off x="5148360" y="1988640"/>
            <a:ext cx="1947600" cy="2737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2176560" cy="2421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"/>
          <p:cNvPicPr/>
          <p:nvPr/>
        </p:nvPicPr>
        <p:blipFill>
          <a:blip r:embed="rId3"/>
          <a:stretch/>
        </p:blipFill>
        <p:spPr>
          <a:xfrm rot="640200">
            <a:off x="6948360" y="1844280"/>
            <a:ext cx="1973520" cy="2654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вывеска последняя"/>
          <p:cNvPicPr/>
          <p:nvPr/>
        </p:nvPicPr>
        <p:blipFill>
          <a:blip r:embed="rId4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Путешествуем по миру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5194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08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-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рам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лиуллин Ильш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дреев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жиганова Кс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11" descr="SWScan00040"/>
          <p:cNvPicPr/>
          <p:nvPr/>
        </p:nvPicPr>
        <p:blipFill>
          <a:blip r:embed="rId1"/>
          <a:stretch/>
        </p:blipFill>
        <p:spPr>
          <a:xfrm>
            <a:off x="5494320" y="1700280"/>
            <a:ext cx="3649680" cy="4941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ae8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вышение квалифик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solidFill>
            <a:srgbClr val="0068ae"/>
          </a:solidFill>
          <a:ln w="9360">
            <a:solidFill>
              <a:srgbClr val="afe1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007г.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БУ ДПО Институт развития образования «Информационные технологии в деятельности учителя-предметника», свидетельство № 890, г.Ханты-Мансийс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008-2009г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ОУ Педагогический университет дистанционного образования «Современные подходы к изучению орфографии в начальных классах», г.Моск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009-2010г-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У Педагогический университет дистанционного образования «Психологические особенности и механизмы развития ребёнка младшего школьного возраста», г.Моск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ы самодельной игрушки</a:t>
            </a:r>
            <a:br>
              <a:rPr sz="3600"/>
            </a:b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505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рамо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лиуллин Ильшат- (2 рабо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жиганова Кс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лагодарственное пись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хова Снеж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черин Евг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енко Бог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ридонова Елиза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малова Анжел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дреева Анаста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таева Г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SWScan00042"/>
          <p:cNvPicPr/>
          <p:nvPr/>
        </p:nvPicPr>
        <p:blipFill>
          <a:blip r:embed="rId1"/>
          <a:stretch/>
        </p:blipFill>
        <p:spPr>
          <a:xfrm>
            <a:off x="6084720" y="2492280"/>
            <a:ext cx="2864160" cy="3861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вывеска последняя"/>
          <p:cNvPicPr/>
          <p:nvPr/>
        </p:nvPicPr>
        <p:blipFill>
          <a:blip r:embed="rId2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"/>
          <p:cNvSpPr/>
          <p:nvPr/>
        </p:nvSpPr>
        <p:spPr>
          <a:xfrm>
            <a:off x="-757080" y="620640"/>
            <a:ext cx="93963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007г.-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селье у Хрюши»-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бедител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008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-«Новоселье у Мыш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56108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Бычок- смоляной бочок»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009г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малова Анжел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дреева Анаста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ахова Снеж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колина Анаста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 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ярко Алё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реус Да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таева Г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иридонова Елиза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ов Кир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sp>
        <p:nvSpPr>
          <p:cNvPr id="336" name="Ink 6"/>
          <p:cNvSpPr/>
          <p:nvPr/>
        </p:nvSpPr>
        <p:spPr>
          <a:xfrm>
            <a:off x="635040" y="5556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4" y="15434"/>
                </a:moveTo>
                <a:lnTo>
                  <a:pt x="1764" y="15434"/>
                </a:lnTo>
              </a:path>
              <a:path w="1" h="1">
                <a:moveTo>
                  <a:pt x="1764" y="15434"/>
                </a:moveTo>
                <a:lnTo>
                  <a:pt x="1764" y="1543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Мой Лангепас в будущем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ственные письма, ценные пода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бедител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18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41120" y="3573360"/>
            <a:ext cx="886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ственное письм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министрации гимназ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 активное участие класса в конкур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6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онкурс эруди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07г. «Осенняя интеллектуальная сесс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сеева Там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 мест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 русскому язы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 мест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 математи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024360" cy="23050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Лауреаты именно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премии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ОО ЛУКойл-Западная Сибирь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5040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08г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Аврамова Ю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08г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ваненко Ан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7170840" y="4292640"/>
            <a:ext cx="1973160" cy="2565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вывеска последняя"/>
          <p:cNvPicPr/>
          <p:nvPr/>
        </p:nvPicPr>
        <p:blipFill>
          <a:blip r:embed="rId3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7570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остижения педаго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 rot="20569800">
            <a:off x="1258560" y="1052640"/>
            <a:ext cx="2031840" cy="2549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2"/>
          <a:stretch/>
        </p:blipFill>
        <p:spPr>
          <a:xfrm rot="11992800">
            <a:off x="5724360" y="907920"/>
            <a:ext cx="2176560" cy="2803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3"/>
          <a:stretch/>
        </p:blipFill>
        <p:spPr>
          <a:xfrm rot="1294800">
            <a:off x="5724000" y="3715920"/>
            <a:ext cx="2168640" cy="2879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"/>
          <p:cNvPicPr/>
          <p:nvPr/>
        </p:nvPicPr>
        <p:blipFill>
          <a:blip r:embed="rId4"/>
          <a:stretch/>
        </p:blipFill>
        <p:spPr>
          <a:xfrm rot="20181600">
            <a:off x="826920" y="3645000"/>
            <a:ext cx="2046600" cy="2908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"/>
          <p:cNvPicPr/>
          <p:nvPr/>
        </p:nvPicPr>
        <p:blipFill>
          <a:blip r:embed="rId5"/>
          <a:stretch/>
        </p:blipFill>
        <p:spPr>
          <a:xfrm>
            <a:off x="3203640" y="3573360"/>
            <a:ext cx="2198520" cy="3024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6"/>
          <a:stretch/>
        </p:blipFill>
        <p:spPr>
          <a:xfrm>
            <a:off x="3564000" y="836640"/>
            <a:ext cx="1976400" cy="244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вывеска последняя"/>
          <p:cNvPicPr/>
          <p:nvPr/>
        </p:nvPicPr>
        <p:blipFill>
          <a:blip r:embed="rId7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  <p:sp>
        <p:nvSpPr>
          <p:cNvPr id="358" name="Ink 12"/>
          <p:cNvSpPr/>
          <p:nvPr/>
        </p:nvSpPr>
        <p:spPr>
          <a:xfrm>
            <a:off x="5810400" y="3738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140" y="10385"/>
                </a:moveTo>
                <a:lnTo>
                  <a:pt x="16140" y="103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Ink 13"/>
          <p:cNvSpPr/>
          <p:nvPr/>
        </p:nvSpPr>
        <p:spPr>
          <a:xfrm>
            <a:off x="2389320" y="36831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37" y="10231"/>
                </a:moveTo>
                <a:lnTo>
                  <a:pt x="6637" y="1023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179280" y="619200"/>
            <a:ext cx="89647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8г. - Грамо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активное участие в работе во Всероссийской конференции «Информационные технологии в высшей и средней школе», статья опубликована в сборн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8г - Грамо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подготовку дипломантов в фестивале духовной поэзии «И воспоет  душа моя Госпо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8г.- Благодарственное пись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активное участие в городском конкурсе новогодней поделки «Новоселье для Мыш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8 г.- Диплом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подготовку дипломантов городского конкурса творческих работ «Шаг от проп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9г.- Благодарственное пись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активное участие в городском конкурсе «Мой Лангепас в будуще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09г. – Благодарственное пись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активное участие в городском конкурсе новогодней поделки «Бычок-смоляной бочо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54144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бобщение опы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нварь 2007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 ГМО - обобщение педагогического опыта по методической теме: «Формирования навыков грамотного безошибочного письма – как одна из основных задач организации учебной деятельност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екабрь 2007 г.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БИЦ участие в практическом семинаре «Использование интерактивной доски в процессе обуче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рт 2008г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обобщение опыта по теме «Использование в учебно-воспитательном процессе информационно-коммуникационных технологий»,статья опубликована в  сборник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вгуст 2008г.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овская конференция выступление с обобщением опыт по теме «Метод проектов – один из способов формирования ключевых компетентностей школьни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008-2009г.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частие во Всероссийском конкурсе «Фестиваль исследовательских и творческих работ «Портфолио», являюсь руководителем проектов учащихся Бреус Данила, Харенко Богдана, Чернова Кирил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008-2009г-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астие во Всероссийском конкурсе «Фестиваль педагогических идей «Открытый урок», представлены  разработки интегрированных учебных занят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 целью обобщения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едста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его педагогическог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пыта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танционного взаимодействия с коллегами подготовлен материал для открытия сай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427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шрутный лист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тура конкур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ая лаборатория 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тевой город – как образовательный ресурс (взаимообмен творческими проекта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ема педагогического исследов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ирование речев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устной и письменной) компетентности учащихся младшего школьного возраста как условие их успешного обучения и развит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ae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Цель педагогической деятельност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386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здание условий для индивидуального развития   учащихся и достижения ими высокого качества образов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524720" y="11592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6"/>
          <p:cNvSpPr/>
          <p:nvPr/>
        </p:nvSpPr>
        <p:spPr>
          <a:xfrm>
            <a:off x="0" y="1604880"/>
            <a:ext cx="151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1125360"/>
          <a:ext cx="8964720" cy="6766200"/>
        </p:xfrm>
        <a:graphic>
          <a:graphicData uri="http://schemas.openxmlformats.org/drawingml/2006/table">
            <a:tbl>
              <a:tblPr/>
              <a:tblGrid>
                <a:gridCol w="2050920"/>
                <a:gridCol w="2592360"/>
                <a:gridCol w="2082960"/>
                <a:gridCol w="22384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рганизация учебного простран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Дополните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информацио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ех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редства обу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согласно «Требованиям к оснащению образовательного процесса  в соответствии с содержательным наполнением учебных предметов Федерального компонента государственного стандарта общего образова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УМК «Начальная школа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XXI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ве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сский язык Л.Е.Журова С.В.Иван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итературное чтение. Л.А.Ефросинина, М.И.Оморок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тематика. В.Н.Рудниц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кружающий мир. Н.Ф.Виноград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99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.А.Холодова «РПС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альтернативные учебные пособ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9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дидактический матери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видеотек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аудиотек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электронные словари, справочники, энциклопеди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электронные учебные пособ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банк презентаций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интерактивная дос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компьютер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мультимедийный проектор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телевизор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видеомагнитофон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магнитоф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16"/>
          <p:cNvSpPr/>
          <p:nvPr/>
        </p:nvSpPr>
        <p:spPr>
          <a:xfrm>
            <a:off x="0" y="189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РАЗОВАТЕЛЬНАЯ     СРЕ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2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7477200" cy="538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ae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инципы обуче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гуман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целостности образа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вариативности содерж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тоды и технологии обуч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овая технология (дидактическая, ролевая игр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е технологии (ИКТ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доровьесберегающие техноло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ики КС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портфоли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етод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ви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навательных навыков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ия самостоятельно конструировать свои 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ия видеть, формулировать и решать пробл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кого мыш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вывеска последняя"/>
          <p:cNvPicPr/>
          <p:nvPr/>
        </p:nvPicPr>
        <p:blipFill>
          <a:blip r:embed="rId1"/>
          <a:stretch/>
        </p:blipFill>
        <p:spPr>
          <a:xfrm>
            <a:off x="7702560" y="0"/>
            <a:ext cx="144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55:13Z</dcterms:created>
  <dc:creator>SamLab.ws</dc:creator>
  <dc:description/>
  <dc:language>en-US</dc:language>
  <cp:lastModifiedBy>UserXP</cp:lastModifiedBy>
  <dcterms:modified xsi:type="dcterms:W3CDTF">2012-03-15T13:54:09Z</dcterms:modified>
  <cp:revision>83</cp:revision>
  <dc:subject/>
  <dc:title>Система педагогической деятельности  учителя начальных классов МОУ «Гимназия №6» Немчиновой Ларисы Иосифовны</dc:title>
</cp:coreProperties>
</file>