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A55-0166-4D8E-93FC-ED6C968F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A78-FFD3-4A37-9676-B649F07D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131-E8DE-41BC-A13E-55346315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F3E-0AD7-4315-B1D7-FC6E6B90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71E-9F78-4B60-9DE2-51D7B9F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3BA-0C17-4931-B8EA-C21F46E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9E2-B850-48FB-9C6D-FEE04A8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238F-A67D-4D58-82FA-1D3C67EC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D0B-C56C-453E-88D9-BB49E6B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C862-D2D4-46C7-AE4F-E883F9B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EF6-55B9-4CE3-A34B-A9B5955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545-CB26-478C-B9BA-E56431B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7E43-9DBB-4EF4-A7F0-980F6F1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C9FC-1E45-44C7-AD60-CB8065C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F22-E044-490A-AECE-9CB7488F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62B-33BE-4E4F-A45E-5531BFD8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5B1B-EFBD-45C9-B677-77D4F100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22B-448A-451D-B831-5A57629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016-0CEF-436A-9F7A-D707558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CF0-014A-44FE-8BFE-D86A958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93-C97D-4978-BD2C-59A594A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DE8-F5F7-4F32-8333-4A8A8EE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63F-E449-40F5-9C32-FB366D9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736-34CC-48EE-BF90-442575E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65E-AE42-417C-B978-35278CD13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0311-9FA7-4828-B93F-0CF1B720B7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image" Target="../media/image9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ворческая лаборатори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ителя начальных класс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У «Гимназия №6»</a:t>
            </a:r>
            <a:br>
              <a:rPr sz="28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емчиновой Ларисы Иосифовн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237280" cy="3605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3" name="Picture 5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ектн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PICT0035"/>
          <p:cNvPicPr/>
          <p:nvPr/>
        </p:nvPicPr>
        <p:blipFill>
          <a:blip r:embed="rId1"/>
          <a:stretch/>
        </p:blipFill>
        <p:spPr>
          <a:xfrm>
            <a:off x="324000" y="1341360"/>
            <a:ext cx="2736720" cy="2448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2519280" cy="20160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241" name="Picture 6" descr="IMG_0322"/>
          <p:cNvPicPr/>
          <p:nvPr/>
        </p:nvPicPr>
        <p:blipFill>
          <a:blip r:embed="rId3"/>
          <a:stretch/>
        </p:blipFill>
        <p:spPr>
          <a:xfrm>
            <a:off x="6084720" y="4221000"/>
            <a:ext cx="2783160" cy="237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2" name="Picture 7" descr="PICT0043"/>
          <p:cNvPicPr/>
          <p:nvPr/>
        </p:nvPicPr>
        <p:blipFill>
          <a:blip r:embed="rId4"/>
          <a:stretch/>
        </p:blipFill>
        <p:spPr>
          <a:xfrm>
            <a:off x="250200" y="4005360"/>
            <a:ext cx="2808360" cy="2316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3" name="Picture 8" descr=""/>
          <p:cNvPicPr/>
          <p:nvPr/>
        </p:nvPicPr>
        <p:blipFill>
          <a:blip r:embed="rId5"/>
          <a:stretch/>
        </p:blipFill>
        <p:spPr>
          <a:xfrm>
            <a:off x="6156360" y="1268280"/>
            <a:ext cx="2592360" cy="2376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44" name="Picture 10" descr="вывеска последняя"/>
          <p:cNvPicPr/>
          <p:nvPr/>
        </p:nvPicPr>
        <p:blipFill>
          <a:blip r:embed="rId6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picture"/>
          <p:cNvPicPr/>
          <p:nvPr/>
        </p:nvPicPr>
        <p:blipFill>
          <a:blip r:embed="rId7"/>
          <a:stretch/>
        </p:blipFill>
        <p:spPr>
          <a:xfrm>
            <a:off x="3203640" y="4437000"/>
            <a:ext cx="2592360" cy="2232000"/>
          </a:xfrm>
          <a:prstGeom prst="rect">
            <a:avLst/>
          </a:prstGeom>
          <a:ln w="28440">
            <a:solidFill>
              <a:srgbClr val="009999"/>
            </a:solidFill>
            <a:round/>
          </a:ln>
        </p:spPr>
      </p:pic>
      <p:pic>
        <p:nvPicPr>
          <p:cNvPr id="246" name="Picture 7" descr="PICT0043"/>
          <p:cNvPicPr/>
          <p:nvPr/>
        </p:nvPicPr>
        <p:blipFill>
          <a:blip r:embed="rId8"/>
          <a:stretch/>
        </p:blipFill>
        <p:spPr>
          <a:xfrm>
            <a:off x="250200" y="4005360"/>
            <a:ext cx="2808360" cy="2316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ТФОЛИ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держивать и стимулировать учебную мотивацию 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вать навыки рефлексивной и оценочной деятельности учащих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учиться - ставить цели, планировать и организовывать собственную учебную деятельн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ворческая лаборатория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 Нормативные документы и программно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етодическое обеспече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бочие программы учите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Используемые средства обу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Методическая копилка педагога.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V. Диагностические материалы педагог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редства обучения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ые образов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сурс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H="1">
            <a:off x="3058920" y="907920"/>
            <a:ext cx="93636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5364000" y="907920"/>
            <a:ext cx="9352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84360" y="1557360"/>
            <a:ext cx="324000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нновацио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5219640" y="1557360"/>
            <a:ext cx="324000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традицио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859280" y="2781360"/>
            <a:ext cx="399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дактический материа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аздаточный, демонстрацио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бные пособ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вающие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етодическая копил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конструктов у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сание современных образовательных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дидактически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 отчеты по теме, публикации, выступ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мероприятий внеуроч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 и проектные работы обучаю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йт учите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499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ониторинг образовательных достижений учащих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тивация к обучению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качества знаний (усвоение Г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речевой компетен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ивность  внеуроч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г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Формирование речевой компетентности учащихся младшего школьного возраста как условие их успешного обучения и развития»,ШМО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Использование компьютерной программы «Система интенсивного развития способностей» во внеурочной деятельности с целью повышения качества техники чтения и увеличение объёма памяти», ШМО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г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Формирование речевой компетентности учащихся младшего школьного возраста как условие их успешного обучения и развития», ГМО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МО - обобщение педагогического опыта по методической теме: «Формирования навыков грамотного безошибочного письма - как одна из основных задач организации учебной деятельнос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КТ  в процессе обучения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МО - обобщение педагогического опыта по методической теме: «Формирования навыков грамотного безошибочного письма - как одна из основных задач организации учебной деятельнос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общение опы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нтерактивной доски в процессе обуч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г.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общение опыта по теме «Использование в учебно-воспитательном процессе информационно-коммуникационных технологий»,статья опубликована в сбор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нварь 2008г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едставление системы педагогической деятельности»,ГМО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вгустовская конференция выступление с обобщением опыт по теме «Метод проектов - один из способов формирования ключевых компетентностей школьник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-2009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имаю участие во Всероссийском конкурсе «Фестиваль исследовательских и творческих работ «Портфолио», являюсь руководителем проектов учащихся Бреус Данила, Харенко Богдана, Чернова Кирил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-2009г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нимаю участие во Всероссийском конкурсе «Фестиваль педагогических идей «Открытый урок», С целью обобщения и представления своего педагогического представлена разработка интегрированного учебного занятия по теме «Зарождение поэзии через русский фолькло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сероссийский 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Русский медвежонок –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языкознание для всех»</a:t>
            </a:r>
            <a:br>
              <a:rPr sz="2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5" descr="Безымянный"/>
          <p:cNvPicPr/>
          <p:nvPr/>
        </p:nvPicPr>
        <p:blipFill>
          <a:blip r:embed="rId1"/>
          <a:stretch/>
        </p:blipFill>
        <p:spPr>
          <a:xfrm>
            <a:off x="5219640" y="1844640"/>
            <a:ext cx="3544920" cy="439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Rectangle 6"/>
          <p:cNvSpPr/>
          <p:nvPr/>
        </p:nvSpPr>
        <p:spPr>
          <a:xfrm>
            <a:off x="324000" y="2000520"/>
            <a:ext cx="51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место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г. Лангепас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ХМА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сероссийск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вристическая олимпиада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 эк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968720" cy="4608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324000" y="2492280"/>
            <a:ext cx="4032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-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разование: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ше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валификация учитель начальных классов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точно-Казахстанский государственный университет, психолого-педагогический факультет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пециальност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подавание в начальных классах- педагогика и методика начального образован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дагогический стаж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8 лет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анном учреждении 11 лет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валификационная категория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ша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393840"/>
            <a:ext cx="56167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изитная карт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Обнинская ол"/>
          <p:cNvPicPr/>
          <p:nvPr/>
        </p:nvPicPr>
        <p:blipFill>
          <a:blip r:embed="rId1"/>
          <a:stretch/>
        </p:blipFill>
        <p:spPr>
          <a:xfrm>
            <a:off x="5435640" y="1628640"/>
            <a:ext cx="352908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оссийский заочный конкурс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ознание и творчество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496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царстве математ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 знаю русский язы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ваненко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рко Алё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24360" y="333360"/>
            <a:ext cx="837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Международный математически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конкурс-игра «Кенгуру»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4" descr="Кенгуру"/>
          <p:cNvPicPr/>
          <p:nvPr/>
        </p:nvPicPr>
        <p:blipFill>
          <a:blip r:embed="rId1"/>
          <a:srcRect l="2292" t="1840" r="0" b="0"/>
          <a:stretch/>
        </p:blipFill>
        <p:spPr>
          <a:xfrm>
            <a:off x="6093000" y="1916280"/>
            <a:ext cx="3051000" cy="3817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324000" y="1700280"/>
            <a:ext cx="6551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исов Тимур ХМАО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-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 ХМАО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24000" y="476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грамма воспитательной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боты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Вместе - дружная семья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584760" cy="4680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89" name="Picture 5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неурочн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Picture 4" descr="PICT0324"/>
          <p:cNvPicPr/>
          <p:nvPr/>
        </p:nvPicPr>
        <p:blipFill>
          <a:blip r:embed="rId1"/>
          <a:stretch/>
        </p:blipFill>
        <p:spPr>
          <a:xfrm>
            <a:off x="5508720" y="4076640"/>
            <a:ext cx="3024000" cy="252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92" name="Picture 5" descr="Изображение 079"/>
          <p:cNvPicPr/>
          <p:nvPr/>
        </p:nvPicPr>
        <p:blipFill>
          <a:blip r:embed="rId2"/>
          <a:stretch/>
        </p:blipFill>
        <p:spPr>
          <a:xfrm>
            <a:off x="900000" y="1341360"/>
            <a:ext cx="3167280" cy="2374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93" name="Picture 7" descr="PICT0008"/>
          <p:cNvPicPr/>
          <p:nvPr/>
        </p:nvPicPr>
        <p:blipFill>
          <a:blip r:embed="rId3"/>
          <a:stretch/>
        </p:blipFill>
        <p:spPr>
          <a:xfrm>
            <a:off x="826920" y="4076640"/>
            <a:ext cx="3240360" cy="244800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3097080" cy="244800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5" name="Picture 8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вывеска последняя"/>
          <p:cNvPicPr/>
          <p:nvPr/>
        </p:nvPicPr>
        <p:blipFill>
          <a:blip r:embed="rId6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Изображение 020"/>
          <p:cNvPicPr/>
          <p:nvPr/>
        </p:nvPicPr>
        <p:blipFill>
          <a:blip r:embed="rId1"/>
          <a:stretch/>
        </p:blipFill>
        <p:spPr>
          <a:xfrm>
            <a:off x="5148360" y="4076640"/>
            <a:ext cx="3313080" cy="258444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8" name="Picture 3" descr="IMG_0009"/>
          <p:cNvPicPr/>
          <p:nvPr/>
        </p:nvPicPr>
        <p:blipFill>
          <a:blip r:embed="rId2"/>
          <a:stretch/>
        </p:blipFill>
        <p:spPr>
          <a:xfrm>
            <a:off x="395280" y="419040"/>
            <a:ext cx="3456000" cy="254628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9" name="Picture 4" descr="IMG_0112"/>
          <p:cNvPicPr/>
          <p:nvPr/>
        </p:nvPicPr>
        <p:blipFill>
          <a:blip r:embed="rId3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0" name="Picture 6" descr="1 (2)"/>
          <p:cNvPicPr/>
          <p:nvPr/>
        </p:nvPicPr>
        <p:blipFill>
          <a:blip r:embed="rId4"/>
          <a:stretch/>
        </p:blipFill>
        <p:spPr>
          <a:xfrm>
            <a:off x="468360" y="3933720"/>
            <a:ext cx="3382920" cy="244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1" name="Picture 7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IMG_0112"/>
          <p:cNvPicPr/>
          <p:nvPr/>
        </p:nvPicPr>
        <p:blipFill>
          <a:blip r:embed="rId6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3" name="Picture 4" descr="IMG_0112"/>
          <p:cNvPicPr/>
          <p:nvPr/>
        </p:nvPicPr>
        <p:blipFill>
          <a:blip r:embed="rId7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1687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5" name="Picture 4" descr="IMG_0039"/>
          <p:cNvPicPr/>
          <p:nvPr/>
        </p:nvPicPr>
        <p:blipFill>
          <a:blip r:embed="rId2"/>
          <a:stretch/>
        </p:blipFill>
        <p:spPr>
          <a:xfrm>
            <a:off x="4211640" y="836640"/>
            <a:ext cx="3168720" cy="266364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306" name="Picture 5" descr="IMG_0026"/>
          <p:cNvPicPr/>
          <p:nvPr/>
        </p:nvPicPr>
        <p:blipFill>
          <a:blip r:embed="rId3"/>
          <a:stretch/>
        </p:blipFill>
        <p:spPr>
          <a:xfrm>
            <a:off x="5148360" y="3933720"/>
            <a:ext cx="3071880" cy="2519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7" name="Picture 6" descr="IMG_0028"/>
          <p:cNvPicPr/>
          <p:nvPr/>
        </p:nvPicPr>
        <p:blipFill>
          <a:blip r:embed="rId4"/>
          <a:stretch/>
        </p:blipFill>
        <p:spPr>
          <a:xfrm>
            <a:off x="684360" y="3860640"/>
            <a:ext cx="3095640" cy="276876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308" name="Picture 7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97080" y="260280"/>
            <a:ext cx="89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ангепасская капел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минация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Художественное слово»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92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9г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пломант 3 степени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89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9г.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пломант 2 степен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колин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13" name="Ink 7"/>
          <p:cNvSpPr/>
          <p:nvPr/>
        </p:nvSpPr>
        <p:spPr>
          <a:xfrm>
            <a:off x="1143000" y="6850080"/>
            <a:ext cx="1440" cy="7920"/>
          </a:xfrm>
          <a:custGeom>
            <a:avLst/>
            <a:gdLst/>
            <a:ahLst/>
            <a:rect l="l" t="t" r="r" b="b"/>
            <a:pathLst>
              <a:path w="1" h="23">
                <a:moveTo>
                  <a:pt x="3175" y="19028"/>
                </a:moveTo>
                <a:cubicBezTo>
                  <a:pt x="3175" y="19035"/>
                  <a:pt x="3175" y="19043"/>
                  <a:pt x="3175" y="190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40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естиваль духовной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эзи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 воспоёт душа моя Господа»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8г. -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уреат 1 степени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рон Ю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8г. -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уреат 2 степени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5688000" cy="88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творческих рабо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25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Шаг от пропасти -2008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минация «Электронное творчество»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ипломант-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ливанов Ви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Лучший читатель года 2008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ауре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енко Бог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оригинальную книжку- календа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 rot="20194800">
            <a:off x="5148360" y="1988640"/>
            <a:ext cx="1947600" cy="2737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176560" cy="2421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3"/>
          <a:stretch/>
        </p:blipFill>
        <p:spPr>
          <a:xfrm rot="640200">
            <a:off x="6948360" y="1844280"/>
            <a:ext cx="1973520" cy="2654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вывеска последняя"/>
          <p:cNvPicPr/>
          <p:nvPr/>
        </p:nvPicPr>
        <p:blipFill>
          <a:blip r:embed="rId4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утешествуем по миру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194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8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ам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лиуллин Иль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жиганова Кс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1" descr="SWScan00040"/>
          <p:cNvPicPr/>
          <p:nvPr/>
        </p:nvPicPr>
        <p:blipFill>
          <a:blip r:embed="rId1"/>
          <a:stretch/>
        </p:blipFill>
        <p:spPr>
          <a:xfrm>
            <a:off x="5494320" y="1700280"/>
            <a:ext cx="3649680" cy="4941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вышение квалифик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solidFill>
            <a:srgbClr val="0068ae"/>
          </a:solidFill>
          <a:ln w="9360">
            <a:solidFill>
              <a:srgbClr val="afe1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7г.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У ДПО Институт развития образования «Информационные технологии в деятельности учителя-предметника», свидетельство № 890, г.Ханты-Мансийс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8-2009г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ОУ Педагогический университет дистанционного образования «Современные подходы к изучению орфографии в начальных классах», г.Моск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9-2010г-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У Педагогический университет дистанционного образования «Психологические особенности и механизмы развития ребёнка младшего школьного возраста», г.Моск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самодельной игрушки</a:t>
            </a:r>
            <a:br>
              <a:rPr sz="3600"/>
            </a:b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505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ам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лиуллин Ильшат- (2 рабо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жиганова Кс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агодарственное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черин Евг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енко Бог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ридонова Елиза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реева Анаста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таева Г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SWScan00042"/>
          <p:cNvPicPr/>
          <p:nvPr/>
        </p:nvPicPr>
        <p:blipFill>
          <a:blip r:embed="rId1"/>
          <a:stretch/>
        </p:blipFill>
        <p:spPr>
          <a:xfrm>
            <a:off x="6084720" y="2492280"/>
            <a:ext cx="2864160" cy="3861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-757080" y="620640"/>
            <a:ext cx="9396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07г.-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селье у Хрюши»-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бедител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-«Новоселье у Мыш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56108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Бычок- смоляной бочок»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09г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олин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рко Алё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еус Да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таева Г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иридонова Елиза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36" name="Ink 6"/>
          <p:cNvSpPr/>
          <p:nvPr/>
        </p:nvSpPr>
        <p:spPr>
          <a:xfrm>
            <a:off x="635040" y="5556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4" y="15434"/>
                </a:moveTo>
                <a:lnTo>
                  <a:pt x="1764" y="15434"/>
                </a:lnTo>
              </a:path>
              <a:path w="1" h="1">
                <a:moveTo>
                  <a:pt x="1764" y="15434"/>
                </a:moveTo>
                <a:lnTo>
                  <a:pt x="1764" y="154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Мой Лангепас в будуще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ственные письма, ценные под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бедител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18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41120" y="3573360"/>
            <a:ext cx="886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ственное письм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ции гимна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активное участие класса в конку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6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нкурс эруди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7г. «Осенняя интеллектуальная сесс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сеева Там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мес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русск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математи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3050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Лауреаты именно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ремии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ОО ЛУКойл-Западная Сибирь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5040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Аврамова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ваненко Ан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7170840" y="4292640"/>
            <a:ext cx="1973160" cy="2565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вывеска последняя"/>
          <p:cNvPicPr/>
          <p:nvPr/>
        </p:nvPicPr>
        <p:blipFill>
          <a:blip r:embed="rId3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остижения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 rot="20569800">
            <a:off x="1258560" y="1052640"/>
            <a:ext cx="2031840" cy="2549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 rot="11992800">
            <a:off x="5724360" y="907920"/>
            <a:ext cx="2176560" cy="2803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 rot="1294800">
            <a:off x="5724000" y="3715920"/>
            <a:ext cx="2168640" cy="287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 rot="20181600">
            <a:off x="826920" y="3645000"/>
            <a:ext cx="2046600" cy="290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5"/>
          <a:stretch/>
        </p:blipFill>
        <p:spPr>
          <a:xfrm>
            <a:off x="3203640" y="3573360"/>
            <a:ext cx="2198520" cy="302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6"/>
          <a:stretch/>
        </p:blipFill>
        <p:spPr>
          <a:xfrm>
            <a:off x="3564000" y="836640"/>
            <a:ext cx="1976400" cy="244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вывеска последняя"/>
          <p:cNvPicPr/>
          <p:nvPr/>
        </p:nvPicPr>
        <p:blipFill>
          <a:blip r:embed="rId7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58" name="Ink 12"/>
          <p:cNvSpPr/>
          <p:nvPr/>
        </p:nvSpPr>
        <p:spPr>
          <a:xfrm>
            <a:off x="5810400" y="3738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40" y="10385"/>
                </a:moveTo>
                <a:lnTo>
                  <a:pt x="16140" y="103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Ink 13"/>
          <p:cNvSpPr/>
          <p:nvPr/>
        </p:nvSpPr>
        <p:spPr>
          <a:xfrm>
            <a:off x="2389320" y="36831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37" y="10231"/>
                </a:moveTo>
                <a:lnTo>
                  <a:pt x="6637" y="102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179280" y="619200"/>
            <a:ext cx="8964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. - Грам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работе во Всероссийской конференции «Информационные технологии в высшей и средней школе», статья опубликована в сборн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 - Грам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подготовку дипломантов в фестивале духовной поэзии «И воспоет  душа моя Госпо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.-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новогодней поделки «Новоселье для Мыш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 г.- Диплом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подготовку дипломантов городского конкурса творческих работ «Шаг от проп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9г.-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«Мой Лангепас в будуще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9г. –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новогодней поделки «Бычок-смоляной боч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5414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общение опы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нварь 2007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 ГМО - обобщение педагогического опыта по методической теме: «Формирования навыков грамотного безошибочного письма – как одна из основных задач организации учебной деятельност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кабрь 2007 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нтерактивной доски в процессе обуч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рт 2008г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обобщение опыта по теме «Использование в учебно-воспитательном процессе информационно-коммуникационных технологий»,статья опубликована в  сборни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вгуст 2008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овская конференция выступление с обобщением опыт по теме «Метод проектов – один из способов формирования ключевых компетентностей школьн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08-2009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частие во Всероссийском конкурсе «Фестиваль исследовательских и творческих работ «Портфолио», являюсь руководителем проектов учащихся Бреус Данила, Харенко Богдана, Чернова Кирил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08-2009г-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во Всероссийском конкурсе «Фестиваль педагогических идей «Открытый урок», представлены  разработки интегрированных учебных занят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целью обобщения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едста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го педагогическог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пыта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танционного взаимодействия с коллегами подготовлен материал для открытия сай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шрутный лист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тура конкур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ая лаборатория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тевой город – как образовательный ресурс (взаимообмен творческими проект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ема педагогического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ирование речев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устной и письменной) компетентности учащихся младшего школьного возраста как условие их успешного обучения и развит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 педагогической деятельност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386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ние условий для индивидуального развития   учащихся и достижения ими высокого качества образов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524720" y="11592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6"/>
          <p:cNvSpPr/>
          <p:nvPr/>
        </p:nvSpPr>
        <p:spPr>
          <a:xfrm>
            <a:off x="0" y="160488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125360"/>
          <a:ext cx="8964720" cy="6766200"/>
        </p:xfrm>
        <a:graphic>
          <a:graphicData uri="http://schemas.openxmlformats.org/drawingml/2006/table">
            <a:tbl>
              <a:tblPr/>
              <a:tblGrid>
                <a:gridCol w="2050920"/>
                <a:gridCol w="2592360"/>
                <a:gridCol w="2082960"/>
                <a:gridCol w="22384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рганизация учебного простран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Дополните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нформацио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ех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ства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согласно «Требованиям к оснащению образовательного процесса  в соответствии с содержательным наполнением учебных предметов Федерального компонента государственного стандарта общего образова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УМК «Начальная школа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XX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ве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сский язык Л.Е.Журова С.В.Иван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тературное чтение. Л.А.Ефросинина, М.И.Оморок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тематика. В.Н.Рудниц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ружающий мир. Н.Ф.Виноград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.А.Холодова «РП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альтернативные учебные пособ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идактический матери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видеоте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аудиоте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электронные словари, справочники, энциклопеди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электронные учебные пособ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банк презентаци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интерактивная до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компьютер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мультимедийный проектор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телевизор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видеомагнитофон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магнито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16"/>
          <p:cNvSpPr/>
          <p:nvPr/>
        </p:nvSpPr>
        <p:spPr>
          <a:xfrm>
            <a:off x="0" y="1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РАЗОВАТЕЛЬНАЯ     СРЕ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2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7477200" cy="53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инципы обуч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гум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целостности образа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вариативности содерж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ы и технологии обу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овая технология (дидактическая, ролевая игр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 (ИКТ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оровьесберегающие техноло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ки КС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портфоли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етод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навательных навыков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я самостоятельно конструировать свои 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я видеть, формулировать и решать пробл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кого мыш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5:13Z</dcterms:created>
  <dc:creator>SamLab.ws</dc:creator>
  <dc:description/>
  <dc:language>en-US</dc:language>
  <cp:lastModifiedBy>UserXP</cp:lastModifiedBy>
  <dcterms:modified xsi:type="dcterms:W3CDTF">2012-03-15T13:54:09Z</dcterms:modified>
  <cp:revision>83</cp:revision>
  <dc:subject/>
  <dc:title>Система педагогической деятельности  учителя начальных классов МОУ «Гимназия №6» Немчиновой Ларисы Иосифовны</dc:title>
</cp:coreProperties>
</file>