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BE4-FFCB-4C73-99D5-89E0F16E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F67-EA4F-4C8B-807E-2F6C2129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44F-CCDB-4270-B09B-6C0C8089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294-B056-4189-ADA0-AEF1C06E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437-D184-4021-B3ED-0C5B557A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21E-925B-46B3-B7C6-B96553CF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3BE-424B-42DA-9834-B01395EF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D6E-17AB-4988-8BF5-C3734B5A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191-AE5F-4098-AFBF-B07286F6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3F7-5836-441C-A993-BA6F2911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2BD-035D-44E9-B587-4DFCEA1B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9DB-BCE4-473E-9722-C5CA00B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5544A-6F86-45B4-BF9E-2C7D031E0D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cccccc"/>
                </a:solidFill>
                <a:latin typeface="Times New Roman"/>
              </a:rPr>
              <a:t>Цикл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КОМБИНИРОВАННЫЕ АЛГОРИТ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с 24-25 декаб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8 февр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б. задач по программированию Златопольского Д.М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адачи по теме «Циклы» часть2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7719" t="14768" r="44291" b="47983"/>
          <a:stretch/>
        </p:blipFill>
        <p:spPr>
          <a:xfrm>
            <a:off x="1974960" y="2144880"/>
            <a:ext cx="5765760" cy="43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Темы заданий, номера задач и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роки выполнения работ часть 1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88960" y="1278000"/>
            <a:ext cx="8771040" cy="59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Тема «Циклы». Каждый этап завершается оценкой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выполнено в срок и полностью, программы записаны в тетради, на компьютере сохранены, все работают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выполнено полностью, возможно с опозданием, есть отдельные ошибки, в тетради записано полностью, все программы работают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выполнено не менее 75 % работ, все записано в тетради, на компьютере программы работают, есть отдельные ошибки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e6e6e6"/>
                </a:solidFill>
                <a:uFillTx/>
                <a:latin typeface="Times New Roman"/>
              </a:rPr>
              <a:t>1 этап (9-15 января)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задачи: презентация «Циклы» слайд 7, таблица умножения на любое число — слайд 5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z25 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и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z25-1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 ,  перевод долларов по курсу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z23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 +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з.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От 11-14 января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( задачи со слайда 68 презентации «Паскаль_Основы»)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e6e6e6"/>
                </a:solidFill>
                <a:uFillTx/>
                <a:latin typeface="Times New Roman"/>
              </a:rPr>
              <a:t>2 этап(21-25 января)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сборник задач Златопольского или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слайды 9, 10 задачи №№ 5.3, 5.8, 5.9, 5.17-5.23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1 вариант — 5.3в, 5.9, 5.17, 5.21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2 вариант — 5.10, 5.12,5.18, 5.22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Темы заданий, номера задач и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роки выполнения работ часть 2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e6e6e6"/>
                </a:solidFill>
                <a:uFillTx/>
                <a:latin typeface="Times New Roman"/>
              </a:rPr>
              <a:t>3 этап (28 января-01 февраля)</a:t>
            </a:r>
            <a:r>
              <a:rPr b="0" lang="ru-RU" sz="2400" spc="-1" strike="noStrike" u="sng">
                <a:solidFill>
                  <a:srgbClr val="e6e6e6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Блок-схемы и трассировочные таблицы для циклов. Работа в тетради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Повторяем арифметические выражения в программах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e6e6e6"/>
                </a:solidFill>
                <a:uFillTx/>
                <a:latin typeface="Times New Roman"/>
              </a:rPr>
              <a:t>4 этап (4 февраля — 8 февраля)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зачет по теме циклы: все программы в тетради и на компьютере сданы, 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В классе выполняется письменная работа: написать программу (этап 1 и этап 2), составить трассировочную таблицу (этап 3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9966"/>
                </a:solidFill>
                <a:latin typeface="Arial"/>
              </a:rPr>
              <a:t>План урока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Орг вопросы – 5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Актуализация знаний (этапы решения задач, ввод и вывод данных, целые и вещественные данные) – 5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Анализ выполнения задач прошлого урока. 3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Новые задачи. Объяснение – 7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Самостоятельная работа – 15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Проверка – 5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Выдача д/з – 5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Для выполнения заданий: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Записывать на уроке все, что указал учитель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Повторять дома программы, написанные в классе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оделывать самостоятельно дома то, что не успели в классе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С вопросами подходить по средам с 15.00 до 15 30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У всех дома стоит algo_rus?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У всех дома есть учебник – презентация?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Материал урока полностью записан в тетрадь?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Алгоритм решения задач</a:t>
            </a:r>
            <a:br>
              <a:rPr sz="2400"/>
            </a:b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 на языке программирования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800360"/>
            <a:ext cx="899964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Постановка задачи (текст условия известен и понятен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Математическая модель (дано, найти, действия, ответ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Блок-схема (строим алгоритм, планируем входные и выходные данные по математическому условию, действия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Программа (записываем алгоритм на языке программирования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Тестирование и отладка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ВАЖНО!!! сл.25, 26 – вывод целых и вещественных данных различный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Комбинированные алгоритмы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9640" y="1079280"/>
            <a:ext cx="87724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ветвление+цикл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Следование+ ветвление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Следование+ цикл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Следование + ветвление + цикл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Задача: вывести на экран таблицу чисел и их квадратов от 10 до 20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ано 10 возвести в квадрат вывести 100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ано 11 возвести в квадрат вывести 121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ано 12 возвести в квадрат вывести 144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ано 13 возвести в квадрат вывести 169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ано a возвести в квадрат вывести a   a*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  <a:ea typeface="Arial Unicode MS"/>
              </a:rPr>
              <a:t>В программе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начало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Описание данных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Действия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Для чисел от  a  до b выполнить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(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  <a:ea typeface="Arial Unicode MS"/>
              </a:rPr>
              <a:t>c=a*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вывод 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  <a:ea typeface="Arial Unicode MS"/>
              </a:rPr>
              <a:t>а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 и 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  <a:ea typeface="Arial Unicode MS"/>
              </a:rPr>
              <a:t>c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конец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128520"/>
            <a:ext cx="8609040" cy="2293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9966"/>
                </a:solidFill>
                <a:latin typeface="Arial"/>
              </a:rPr>
              <a:t>Практикум.</a:t>
            </a:r>
            <a:br>
              <a:rPr sz="3200"/>
            </a:br>
            <a:br>
              <a:rPr sz="3200"/>
            </a:b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Используя словесный алгоритм и подсказки справа, составить программу по заданию со слайда 6.</a:t>
            </a:r>
            <a:br>
              <a:rPr sz="2400"/>
            </a:b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Записать программу в тетрадь.</a:t>
            </a:r>
            <a:br>
              <a:rPr sz="2400"/>
            </a:b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Имя программы z21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58880" y="270036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For a:=...  to … d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b80047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…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.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…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.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b80047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2622600"/>
            <a:ext cx="42814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31640" indent="-3222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В програ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Описание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 u="sng">
                <a:solidFill>
                  <a:srgbClr val="3deb3d"/>
                </a:solidFill>
                <a:uFillTx/>
                <a:latin typeface="Times New Roman"/>
              </a:rPr>
              <a:t>Для 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чисел </a:t>
            </a:r>
            <a:r>
              <a:rPr b="1" i="1" lang="de-DE" sz="2400" spc="-1" strike="noStrike" u="sng">
                <a:solidFill>
                  <a:srgbClr val="3deb3d"/>
                </a:solidFill>
                <a:uFillTx/>
                <a:latin typeface="Times New Roman"/>
              </a:rPr>
              <a:t>от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  a  </a:t>
            </a:r>
            <a:r>
              <a:rPr b="1" i="1" lang="de-DE" sz="2400" spc="-1" strike="noStrike" u="sng">
                <a:solidFill>
                  <a:srgbClr val="3deb3d"/>
                </a:solidFill>
                <a:uFillTx/>
                <a:latin typeface="Times New Roman"/>
              </a:rPr>
              <a:t>до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 b </a:t>
            </a:r>
            <a:r>
              <a:rPr b="1" i="1" lang="de-DE" sz="2400" spc="-1" strike="noStrike" u="sng">
                <a:solidFill>
                  <a:srgbClr val="3deb3d"/>
                </a:solidFill>
                <a:uFillTx/>
                <a:latin typeface="Times New Roman"/>
              </a:rPr>
              <a:t>выпол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600" spc="-1" strike="noStrike">
                <a:solidFill>
                  <a:srgbClr val="b80047"/>
                </a:solidFill>
                <a:latin typeface="Times New Roman"/>
              </a:rPr>
              <a:t>(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</a:rPr>
              <a:t>c=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вывод 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</a:rPr>
              <a:t>а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 и 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</a:rPr>
              <a:t>c</a:t>
            </a:r>
            <a:r>
              <a:rPr b="1" i="1" lang="de-DE" sz="3600" spc="-1" strike="noStrike">
                <a:solidFill>
                  <a:srgbClr val="b80047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61440" y="2357280"/>
            <a:ext cx="16189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задания для самостоятельной работы для 1 этапа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0720" y="1433520"/>
            <a:ext cx="877248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Z22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.Вывести на экран кубы целых чисел от 5 до 15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Z23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.Составить таблицу значений рубля и доллара от 1 до 30 $, учитывая курс, указанный на сайте rbc.ru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Z24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.Составить таблицу перевода дюймов  сантиметры от 10 до 22 дюймов, учитывая, что 1 дюйм = 25,4 мм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Z25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.Вывести на экран таблицу умножения на 7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1 х 7 = 7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2 х 7 = 14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Z25-1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.Вывести на экран таблицу умножения на любое число, число вводится с клавиатуры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б. задач по программированию Златопольского Д.М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адачи по теме «Циклы» часть 1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7719" t="38755" r="44291" b="46141"/>
          <a:stretch/>
        </p:blipFill>
        <p:spPr>
          <a:xfrm>
            <a:off x="2160720" y="1979640"/>
            <a:ext cx="587988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59057" t="36906" r="4426" b="40601"/>
          <a:stretch/>
        </p:blipFill>
        <p:spPr>
          <a:xfrm>
            <a:off x="2208240" y="3959280"/>
            <a:ext cx="5891040" cy="28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1 1</cp:lastModifiedBy>
  <dcterms:modified xsi:type="dcterms:W3CDTF">2012-12-23T19:59:31Z</dcterms:modified>
  <cp:revision>3</cp:revision>
  <dc:subject/>
  <dc:title/>
</cp:coreProperties>
</file>