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B3E-230B-4D7B-A5A4-AF6FC403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380-5687-4ADE-A7DC-E5863813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839-FDF3-41A7-9195-1C4F9494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342-FBAD-4CD2-A20A-CB5A851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927-CE3A-471E-8CDF-3D2568BE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95C-E277-4B66-814C-A595E9A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809-F15B-490D-85AF-28BBA8DD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408-0137-4A0F-9997-7DE9A31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0B8-5CA3-43E7-B9D5-12A7195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EAA-35F5-46EA-9C69-50EDA61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D5B-78DA-4F51-BFD0-5576EE6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36B-9E2C-465B-97BA-1566CED6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1206A-2BBC-4A06-9662-2E2DF5419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cccccc"/>
                </a:solidFill>
                <a:latin typeface="Times New Roman"/>
              </a:rPr>
              <a:t>Цик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КОМБИНИРОВАННЫЕ АЛГОРИТ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с 24-25 дека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cccccc"/>
                </a:solidFill>
                <a:latin typeface="Times New Roman"/>
              </a:rPr>
              <a:t>8 февр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б. задач по программированию Златопольского Д.М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дачи по теме «Циклы» часть2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7719" t="14768" r="44291" b="47983"/>
          <a:stretch/>
        </p:blipFill>
        <p:spPr>
          <a:xfrm>
            <a:off x="1974960" y="2144880"/>
            <a:ext cx="5765760" cy="43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емы заданий, номера задач и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роки выполнения работ часть 1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8960" y="1278000"/>
            <a:ext cx="8771040" cy="59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Тема «Циклы». Каждый этап завершается оценкой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выполнено в срок и полностью, программы записаны в тетради, на компьютере сохранены, все работаю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выполнено полностью, возможно с опозданием, есть отдельные ошибки, в тетради записано полностью, все программы работаю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выполнено не менее 75 % работ, все записано в тетради, на компьютере программы работают, есть отдельные ошибки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1 этап (9-15 января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задачи: презентация «Циклы» слайд 7, таблица умножения на любое число — слайд 5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z25 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и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z25-1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 ,  перевод долларов по курсу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z23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з.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От 11-14 января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 задачи со слайда 68 презентации «Паскаль_Основы»)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2 этап(21-25 января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сборник задач Златопольского или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слайды 9, 10 задачи №№ 5.3, 5.8, 5.9, 5.17-5.23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1 вариант — 5.3в, 5.9, 5.17, 5.21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2 вариант — 5.10, 5.12,5.18, 5.22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емы заданий, номера задач и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роки выполнения работ часть 2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3 этап (28 января-01 февраля)</a:t>
            </a:r>
            <a:r>
              <a:rPr b="0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Блок-схемы и трассировочные таблицы для циклов. Работа в тетради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Повторяем арифметические выражения в программах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e6e6e6"/>
                </a:solidFill>
                <a:uFillTx/>
                <a:latin typeface="Times New Roman"/>
              </a:rPr>
              <a:t>4 этап (4 февраля — 8 февраля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: зачет по теме циклы: все программы в тетради и на компьютере сданы, 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В классе выполняется письменная работа: написать программу (этап 1 и этап 2), составить трассировочную таблицу (этап 3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9966"/>
                </a:solidFill>
                <a:latin typeface="Arial"/>
              </a:rPr>
              <a:t>План урока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Орг вопросы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Актуализация знаний (этапы решения задач, ввод и вывод данных, целые и вещественные данные)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Анализ выполнения задач прошлого урока. 3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Новые задачи. Объяснение – 7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Самостоятельная работа – 1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Проверка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Выдача д/з – 5 мин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Для выполнения заданий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Записывать на уроке все, что указал учитель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Повторять дома программы, написанные в классе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оделывать самостоятельно дома то, что не успели в классе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С вопросами подходить по средам с 15.00 до 15 30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У всех дома стоит algo_rus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У всех дома есть учебник – презентация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Материал урока полностью записан в тетрадь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Алгоритм решения задач</a:t>
            </a:r>
            <a:br>
              <a:rPr sz="24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 на языке программирования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89996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Постановка задачи (текст условия известен и понятен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Математическая модель (дано, найти, действия, ответ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Блок-схема (строим алгоритм, планируем входные и выходные данные по математическому условию, действия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Программа (записываем алгоритм на языке программирования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Тестирование и отладка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e6e6e6"/>
                </a:solidFill>
                <a:latin typeface="Times New Roman"/>
              </a:rPr>
              <a:t>ВАЖНО!!! сл.25, 26 – вывод целых и вещественных данных различный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Комбинированные алгоритмы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640" y="107928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ветвление+цикл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Следование+ ветвление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Следование+ цикл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Следование + ветвление + цикл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Задача: вывести на экран таблицу чисел и их квадратов от 10 до 20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0 возвести в квадрат вывести 100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1 возвести в квадрат вывести 121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2 возвести в квадрат вывести 144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13 возвести в квадрат вывести 169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Дано a возвести в квадрат вывести a   a*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В программе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начало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Описание данных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Действия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Для чисел от  a  до b выполнить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(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  <a:ea typeface="Arial Unicode MS"/>
              </a:rPr>
              <a:t>c=a*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вывод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  <a:ea typeface="Arial Unicode MS"/>
              </a:rPr>
              <a:t>а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 и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  <a:ea typeface="Arial Unicode MS"/>
              </a:rPr>
              <a:t>c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  <a:ea typeface="Arial Unicode MS"/>
              </a:rPr>
              <a:t>конец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128520"/>
            <a:ext cx="860904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9966"/>
                </a:solidFill>
                <a:latin typeface="Arial"/>
              </a:rPr>
              <a:t>Практикум.</a:t>
            </a:r>
            <a:br>
              <a:rPr sz="3200"/>
            </a:br>
            <a:br>
              <a:rPr sz="32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Используя словесный алгоритм и подсказки справа, составить программу по заданию со слайда 6.</a:t>
            </a:r>
            <a:br>
              <a:rPr sz="24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Записать программу в тетрадь.</a:t>
            </a:r>
            <a:br>
              <a:rPr sz="2400"/>
            </a:b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Имя программы z21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8880" y="270036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For a:=...  to … d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b80047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…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…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b80047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2622600"/>
            <a:ext cx="4281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Описание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Для 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чисел </a:t>
            </a: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от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  a  </a:t>
            </a: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до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 b </a:t>
            </a:r>
            <a:r>
              <a:rPr b="1" i="1" lang="de-DE" sz="2400" spc="-1" strike="noStrike" u="sng">
                <a:solidFill>
                  <a:srgbClr val="3deb3d"/>
                </a:solidFill>
                <a:uFillTx/>
                <a:latin typeface="Times New Roman"/>
              </a:rPr>
              <a:t>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b80047"/>
                </a:solidFill>
                <a:latin typeface="Times New Roman"/>
              </a:rPr>
              <a:t>(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</a:rPr>
              <a:t>c=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вывод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</a:rPr>
              <a:t>а</a:t>
            </a: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 и </a:t>
            </a:r>
            <a:r>
              <a:rPr b="1" i="1" lang="de-DE" sz="2400" spc="-1" strike="noStrike">
                <a:solidFill>
                  <a:srgbClr val="00dcff"/>
                </a:solidFill>
                <a:latin typeface="Times New Roman"/>
              </a:rPr>
              <a:t>c</a:t>
            </a:r>
            <a:r>
              <a:rPr b="1" i="1" lang="de-DE" sz="3600" spc="-1" strike="noStrike">
                <a:solidFill>
                  <a:srgbClr val="b80047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3deb3d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61440" y="2357280"/>
            <a:ext cx="16189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9966"/>
                </a:solidFill>
                <a:latin typeface="Arial"/>
              </a:rPr>
              <a:t>задания для самостоятельной работы для 1 этапа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720" y="1433520"/>
            <a:ext cx="8772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2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Вывести на экран кубы целых чисел от 5 до 1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3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Составить таблицу значений рубля и доллара от 1 до 30 $, учитывая курс, указанный на сайте rbc.r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4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Составить таблицу перевода дюймов  сантиметры от 10 до 22 дюймов, учитывая, что 1 дюйм = 25,4 мм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5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Вывести на экран таблицу умножения на 7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1 х 7 = 7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2 х 7 = 14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Z25-1</a:t>
            </a:r>
            <a:r>
              <a:rPr b="0" lang="de-DE" sz="2400" spc="-1" strike="noStrike">
                <a:solidFill>
                  <a:srgbClr val="e6e6e6"/>
                </a:solidFill>
                <a:latin typeface="Times New Roman"/>
              </a:rPr>
              <a:t>.Вывести на экран таблицу умножения на любое число, число вводится с клавиатуры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Сб. задач по программированию Златопольского Д.М.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Задачи по теме «Циклы» часть 1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7719" t="38755" r="44291" b="46141"/>
          <a:stretch/>
        </p:blipFill>
        <p:spPr>
          <a:xfrm>
            <a:off x="2160720" y="1979640"/>
            <a:ext cx="587988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59057" t="36906" r="4426" b="40601"/>
          <a:stretch/>
        </p:blipFill>
        <p:spPr>
          <a:xfrm>
            <a:off x="2208240" y="3959280"/>
            <a:ext cx="5891040" cy="28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1 1</cp:lastModifiedBy>
  <dcterms:modified xsi:type="dcterms:W3CDTF">2012-12-23T19:59:31Z</dcterms:modified>
  <cp:revision>3</cp:revision>
  <dc:subject/>
  <dc:title/>
</cp:coreProperties>
</file>