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899-49AC-48C6-AF35-7D3B29F7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DB7-5E8F-4218-B9CF-8B7AA8C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33C-6540-457F-8567-B436F289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CB1-6D63-4EE9-BBFC-0069E610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95C4-53D5-460E-B8EA-9FACC12A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C908-3A6E-4B7D-A3EE-0E91FBA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E667-ED28-400D-9B58-87D7C05E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075-99FC-44D8-8824-0A20211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1A55-FB9D-429D-849B-41635D1D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F335-7ED1-4EBC-B24F-5AD203E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CBA0-0BA1-44EB-B177-C8C92C7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9DF-6C07-4D44-A6AA-B3B734E1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0F0A-1438-4B21-8D90-F07A4A2B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F086-6798-412A-ABB1-82AE16D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790C-7D5B-468A-89A1-657FF60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561-27DE-4E2E-A9AA-66D7C140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4A79-7CB9-4C79-B0C1-A1080AB1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DB0CF-608B-4824-B447-FE2483BB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782FA-4FBA-471C-96ED-6E83FE62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4186F-7699-4491-837D-EC55EC2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1222A-EB27-4453-B53C-77EE0F89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745CD-9642-4BE8-B24E-BCEB00C2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B55-0B75-4072-A7CE-808B193D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81962-97BB-4CF8-8135-E9CB6D52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7B04B-E20A-41FC-A503-B3D6D49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9CED6-97BE-44DE-ADB6-534A5B2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6A335-5CED-405A-B91D-809EA3C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9F671-DCCD-4DEF-9E5E-44085EE1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434EE-FE2D-4B45-9FFE-7AA64256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93149-54F6-440C-B4F4-42BBACC2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54A8-26A2-44BD-834B-E5C078A4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2CE8-1E2E-4B06-AC9E-23D18E3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15E3-FF6D-4177-9F85-F8B76DE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1EA-7875-4961-9B42-B82D00C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A0EE-BF16-46B4-BB06-D5F3E635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364B-0F09-4A3A-B930-81FE2F95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F16E-F64B-4E07-AA00-430BEE4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3215-5EF1-4DEE-91F1-E064C12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77CF-9231-47C0-BC44-2A44B9BD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68BF-AE2E-487C-AC99-6EF2826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528E-AF36-4351-9B06-CC1E2631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C9F19-8972-4508-B345-E32314E3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2B89-5E7D-467B-9EAC-1BDA7B69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717F9-F4FB-4BCA-845C-96AF4BEB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1BC-7829-4009-B7AF-3FDB92F7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C96B1-BA71-4013-8986-D014F4E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2F37C-9B7F-4E4C-BA50-DE590723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488BA-6511-48E5-B008-2DBC129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BF913-A71A-4CE0-A0CA-D2159289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F0825-3D82-4969-8FE9-D3C0810D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B21E4-325F-4278-99BD-DB29729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B8BA8-6291-40FC-BD4F-DA59C61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13067-AFBE-4207-8C16-94846B4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366FC-5B82-40C2-ACED-6920CF9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94658-18FC-4E0D-B4DE-FF88C086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F6D-E3A8-4D34-A124-266E72D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775F5-7909-4D76-9695-D00B6DF3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F2FC1-2F73-4758-AF4F-3D78E087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EE8F0-DDA3-41A5-99FE-27DFFC9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2B7FE-8141-4A6D-BAC4-106F9E0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7BCF9-984A-4B42-A528-8AA29FB5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B80CB-B252-48CE-A5E4-F5C26B40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AA301-DB56-4727-B12C-08E0FE8B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7D821-C7F4-429F-95CD-D7D55127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50C5C-C5B9-4718-B53F-E33FCCB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C585F-2682-4243-9D09-8B8317A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139-ACE4-4A07-93A3-6B1149BB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46574-108B-43EE-9BD7-2D4CC9D7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C8024-5A24-4912-A778-B61FD63B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34692-022C-450D-AEEB-F831CA40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98207-2694-47A2-8360-9B905689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88302-87BC-4D30-B903-393BA6D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04F36-FF1B-4C9B-97A8-C4CB0DD9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9EE97-450F-402B-8E9E-B153B553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95D8A-B4E9-4488-8EB3-DE9A36D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8FC3B-1BE3-4750-9956-73E02C8F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158A3-7374-4706-B7E8-E7C74D3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8B0-F9A1-435A-AFB6-D8DE6C59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34BD5-794F-4F74-8288-8BF8AD2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84EC4-9558-42B2-B349-BBF7ABF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A5CE6-D3E0-4D1A-BE69-5A83111F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85FF9-E192-4DCD-BFD2-CAB0C6E2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F4CB6-9BAA-47BC-9060-A0DF9F25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E28-1B29-4472-B79B-EEB34E39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9C61-4ACD-4427-8892-487E42C894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EA86-69BC-4F18-8926-4D9C68341D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26A8-0E66-47AB-81F2-5C4E3FB271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317-6287-47B0-BB2F-0B88C00C41E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01A-9CD6-4F0C-A8AD-1138CD4246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B115-322C-477E-B012-5C19942197D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D48A-2ABC-40FC-AED4-58B578024A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АВЕЛ БАЖОВ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Серебряное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копытце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entury Schoolbook"/>
              </a:rPr>
              <a:t>Афоненко В.В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entury Schoolbook"/>
              </a:rPr>
              <a:t>МАОУ Туендатская ООШ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C:\Documents and Settings\Admin\Рабочий стол\бажов\117175_1.jpg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Documents and Settings\Admin\Рабочий стол\бажов\a6d613a8c16cd5c408e1accda4222091.png"/>
          <p:cNvPicPr/>
          <p:nvPr/>
        </p:nvPicPr>
        <p:blipFill>
          <a:blip r:embed="rId1"/>
          <a:stretch/>
        </p:blipFill>
        <p:spPr>
          <a:xfrm>
            <a:off x="249120" y="114480"/>
            <a:ext cx="83235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Admin\Рабочий стол\бажов\0_2b31c_54bc3900_XL.jpg"/>
          <p:cNvPicPr/>
          <p:nvPr/>
        </p:nvPicPr>
        <p:blipFill>
          <a:blip r:embed="rId1"/>
          <a:stretch/>
        </p:blipFill>
        <p:spPr>
          <a:xfrm>
            <a:off x="2039760" y="193680"/>
            <a:ext cx="46198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Documents and Settings\Admin\Рабочий стол\бажов\03labr7vg1301388793.jpg"/>
          <p:cNvPicPr/>
          <p:nvPr/>
        </p:nvPicPr>
        <p:blipFill>
          <a:blip r:embed="rId1"/>
          <a:stretch/>
        </p:blipFill>
        <p:spPr>
          <a:xfrm>
            <a:off x="1692360" y="65160"/>
            <a:ext cx="5256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Documents and Settings\Admin\Рабочий стол\бажов\02lab5vph1220437759.jpg"/>
          <p:cNvPicPr/>
          <p:nvPr/>
        </p:nvPicPr>
        <p:blipFill>
          <a:blip r:embed="rId1"/>
          <a:stretch/>
        </p:blipFill>
        <p:spPr>
          <a:xfrm>
            <a:off x="1835280" y="115920"/>
            <a:ext cx="468144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C:\Documents and Settings\Admin\Рабочий стол\бажов\iCA8HCGKT.jpg"/>
          <p:cNvPicPr/>
          <p:nvPr/>
        </p:nvPicPr>
        <p:blipFill>
          <a:blip r:embed="rId1"/>
          <a:stretch/>
        </p:blipFill>
        <p:spPr>
          <a:xfrm>
            <a:off x="142920" y="95400"/>
            <a:ext cx="882180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C:\Documents and Settings\Admin\Рабочий стол\бажов\muzon_org_sk.jpg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431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Documents and Settings\Admin\Рабочий стол\бажов\05labj6l81291241625.jpg"/>
          <p:cNvPicPr/>
          <p:nvPr/>
        </p:nvPicPr>
        <p:blipFill>
          <a:blip r:embed="rId2"/>
          <a:stretch/>
        </p:blipFill>
        <p:spPr>
          <a:xfrm>
            <a:off x="4589640" y="785880"/>
            <a:ext cx="41972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Documents and Settings\Admin\Рабочий стол\бажов\img_10.jpg"/>
          <p:cNvPicPr/>
          <p:nvPr/>
        </p:nvPicPr>
        <p:blipFill>
          <a:blip r:embed="rId1"/>
          <a:stretch/>
        </p:blipFill>
        <p:spPr>
          <a:xfrm>
            <a:off x="241200" y="1357200"/>
            <a:ext cx="8516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Documents and Settings\Admin\Рабочий стол\бажов\22.bmp"/>
          <p:cNvPicPr/>
          <p:nvPr/>
        </p:nvPicPr>
        <p:blipFill>
          <a:blip r:embed="rId1"/>
          <a:stretch/>
        </p:blipFill>
        <p:spPr>
          <a:xfrm>
            <a:off x="411120" y="351000"/>
            <a:ext cx="823284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C:\Documents and Settings\Admin\Рабочий стол\бажов\1257987356_6.jpg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Documents and Settings\Admin\Рабочий стол\бажов\__________ _________________ ____________________ ______________ 7.jpg"/>
          <p:cNvPicPr/>
          <p:nvPr/>
        </p:nvPicPr>
        <p:blipFill>
          <a:blip r:embed="rId1"/>
          <a:stretch/>
        </p:blipFill>
        <p:spPr>
          <a:xfrm>
            <a:off x="500040" y="371520"/>
            <a:ext cx="82152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7252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8760" y="2714760"/>
            <a:ext cx="749592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 писателя Павла Петровича Бажова счастливая судьба. Он родился 27 января 1879 года на Урале в семье рабочего Сысертского завода. Благодаря случаю и своим способностям он получил возможность учиться. Закончил училище, затем духовную Пермскую семинарию. Восемнадцать лет учительствовал. Счастливо женился на своей ученице и стал главой большой семьи, в которой было семеро дет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C:\Documents and Settings\Admin\Рабочий стол\бажов\0_2b06c_95bf52b6_XL.jpg"/>
          <p:cNvPicPr/>
          <p:nvPr/>
        </p:nvPicPr>
        <p:blipFill>
          <a:blip r:embed="rId1"/>
          <a:stretch/>
        </p:blipFill>
        <p:spPr>
          <a:xfrm>
            <a:off x="3214800" y="285840"/>
            <a:ext cx="1876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28172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Documents and Settings\Admin\Рабочий стол\бажов\0_617a2_120f8400_L.jpg"/>
          <p:cNvPicPr/>
          <p:nvPr/>
        </p:nvPicPr>
        <p:blipFill>
          <a:blip r:embed="rId1"/>
          <a:stretch/>
        </p:blipFill>
        <p:spPr>
          <a:xfrm>
            <a:off x="2643120" y="2143080"/>
            <a:ext cx="34448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28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ПРИНЯЛ ОКТЯБРЬСКУЮ РЕВОЛЮЦИЮ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 ВОЗМОЖНОСТЬ ПОКОНЧИТЬ С СОЦИАЛЬНЫМ НЕРАВЕНСТВОМ, ВОЕВАЛ В ГРАЖДАНСКУЮ НА СТОРОНЕ КРАСНЫХ, СТАЛ ЖУРНАЛИСТОМ, А ЗАТЕМ - РЕДАКТОРОМ, ПИСАЛ КНИГИ ПО ИСТОРИИ УРАЛА, СОБИРАЛ ФОЛЬКЛОРНЫЕ ЗАПИСИ. ВСЕГДА МНОГО РАБОТАЛ, КАК СКАЗАЛИ БЫ В СОВЕТСКИЕ ВРЕМЕНА, БЫЛ "РЯДОВЫМ ТРУЖЕНИКОМ"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C:\Documents and Settings\Admin\Рабочий стол\бажов\13.jpg"/>
          <p:cNvPicPr/>
          <p:nvPr/>
        </p:nvPicPr>
        <p:blipFill>
          <a:blip r:embed="rId1"/>
          <a:stretch/>
        </p:blipFill>
        <p:spPr>
          <a:xfrm>
            <a:off x="5357880" y="2871720"/>
            <a:ext cx="24289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286840" cy="565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ВДРУГ, ЧТО НАЗЫВАЕТСЯ В ОДНОЧАСЬЕ ПРИШЛА К НЕМУ ИЗВЕСТНОСТЬ, ДА ЕЩЕ КАКАЯ… В 1936 ГОДУ В ЖУРНАЛЕ БЫЛ ОПУБЛИКОВАН ЕГО ПЕРВЫЙ СКАЗ "ДЕВКА АЗОВКА". В 1939 В "СВЕДЛГИЗЕ" ВЫШЕЛ ПЕРВЫЙ СБОРНИК СКАЗОВ "МАЛАХИТОВАЯ ШКАТУЛКА". В 1942 И 1944 "МАЛАХИТОВАЯ ШКАТУЛКА", ЗАМЕТНО ПОПОЛНЕВШАЯ, ВЫХОДИТ В МОСКВЕ В ЦЕНТРАЛЬНЫХ ИЗДАТЕЛЬСТВА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 СТАЛ ЛАУРЕАТОМ ГОСУДАРСТВЕННОЙ ПРЕМИИ, НАГРАЖДЕН ОРДЕНОМ ЛЕНИНА ЗА ЛИТЕРАТУРНУЮ РАБОТУ. В 1944 ГОДУ "МАЛАХИТОВАЯ ШКАТУЛКА" ПЕРЕВЕДЕНА НА АНГЛИЙСКИЙ И ВЫШЛА В ЛОНДОНЕ И НЬЮ-ЙОРКЕ, ПОТОМ В ПРАГЕ, В 1947 - В ПАРИЖЕ. ПЕРЕВЕДЕНА НА НЕМЕЦКИЙ, ВЕНГЕРСКИЙ, РУМЫНСКИЙ, КИТАЙСКИЙ, ЯПОНСКИЙ ЯЗЫКИ. ВСЕГО, ПО СВЕДЕНИЯМ БИБЛИОТЕКИ ИМ. ЛЕНИНА, - НА 100 ЯЗЫКОВ МИРА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501040" cy="581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ЯНВАРЕ 1949 ГОДА ТОРЖЕСТВЕННО БЫЛ ОТМЕЧЕН 70-ЛЕТНИЙ ЮБИЛЕЙ П.П. БАЖОВА. В ЗАЛЕ СВЕРДЛОВСКОЙ ГОСУДАРСТВЕННОЙ ФИЛАРМОНИИ СОБРАЛИСЬ ДРУЗЬЯ, ЧИТАТЕЛИ. МНОГО ТОРЖЕСТВЕННЫХ И СМЕШНЫХ ПОДАРКОВ. ЮБИЛЯР РАСТРОГАН, БЛАГОДАРЕН, ВЗВОЛНОВАН. ОН БЛАГОДАРИЛ СВОИХ БЛИЗКИХ, ДРУЗЕЙ, ЛИТЕРАТОРОВ, ЖУРНАЛИСТОВ, ИЗДАТЕЛЕЙ И ЧИТАТЕЛЕЙ ЗА ВНИМАНИЕ К ЕГО РАБОТЕ И ЗА ПОМОЩЬ И ВНОВЬ ПОВТОРИЛ ТО, ЧТО ГОВОРИЛ ВСЕГДА: "ЭТО ВНИМАНИЕ, РАЗУМЕЕТСЯ, НЕ КО МНЕ, А К ТЕМ БЕЗВЕСТНЫМ ТВОРЦАМ, МАТЕРИАЛ КОТОРЫХ ДОШЕЛ ДО МЕНЯ И СТАЛ ДОСТУПЕН ЧИТАТЕЛЮ. МОЯ РОЛЬ В ЭТОМ ВТОРОСТЕПЕННАЯ"…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2868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10-ГО ДЕКАБРЯ 1950-ГО ГОДА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В МОРОЗНЫЙ ДЕНЬ БАЖОВ УМЕР. ЕГО ПОХОРОНИЛИ НА ВЫСОКОМ ХОЛМЕ, С КОТОРОГО ВИДЕН УРАЛ - ЛЕСА И ПЕРЕЛЕСКИ, ГОРЫ И ПРУДЫ - ВСЕ, ЧТО ОН ЛЮБИЛ, ЧТО ВСЕГДА БЫЛО ДОРОГО ЕГО СЕРДЦУ. 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Documents and Settings\Admin\Рабочий стол\бажов\d338c8ba95ced5635e2aef123654ada8.jpg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ЕБРЯНОЕ КОПЫТЦЕ.</a:t>
            </a:r>
            <a:br>
              <a:rPr sz="29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Documents and Settings\Admin\Рабочий стол\бажов\img_2.jpg"/>
          <p:cNvPicPr/>
          <p:nvPr/>
        </p:nvPicPr>
        <p:blipFill>
          <a:blip r:embed="rId1"/>
          <a:stretch/>
        </p:blipFill>
        <p:spPr>
          <a:xfrm>
            <a:off x="2340000" y="971640"/>
            <a:ext cx="4176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Documents and Settings\Admin\Рабочий стол\бажов\iCA0TCUU7.jpg"/>
          <p:cNvPicPr/>
          <p:nvPr/>
        </p:nvPicPr>
        <p:blipFill>
          <a:blip r:embed="rId1"/>
          <a:stretch/>
        </p:blipFill>
        <p:spPr>
          <a:xfrm>
            <a:off x="16668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C:\Documents and Settings\Admin\Рабочий стол\бажов\967905147382.jpg"/>
          <p:cNvPicPr/>
          <p:nvPr/>
        </p:nvPicPr>
        <p:blipFill>
          <a:blip r:embed="rId1"/>
          <a:stretch/>
        </p:blipFill>
        <p:spPr>
          <a:xfrm>
            <a:off x="527040" y="38160"/>
            <a:ext cx="82375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я</cp:lastModifiedBy>
  <dcterms:modified xsi:type="dcterms:W3CDTF">2013-01-17T06:57:19Z</dcterms:modified>
  <cp:revision>23</cp:revision>
  <dc:subject/>
  <dc:title>Павел Бажов</dc:title>
</cp:coreProperties>
</file>