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A35-3594-4CA0-B601-6CE9B0D3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E72-C8E8-4308-AA5C-CB3576B8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CCB8-A81E-4AFC-8F9F-B57C8ECA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944-2566-446D-A8F3-0B259121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0853-05E4-4B22-BA0E-402ED36A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10BC-0F87-4D32-8E03-3FD04B84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4D2A-0D7D-4088-8B61-B6E969A1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14F3-E500-4496-B5B9-007101A8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4849-F713-4D36-8DC0-D66C3D32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8EB4-BB7B-4263-8F3A-95114259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C85A-65D9-4EE3-AF72-1DF54DB5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EC6-29C4-493A-A2A3-45B92465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7249-BAF4-4789-A150-D42ABC43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80D9-FFF0-4E6A-8137-F6781F11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3997-1A11-4C88-BA72-10626F6C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71D2-414C-45BD-94E2-5C5F0841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D7CB-0E8B-4AFA-B31D-A0DC001E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B69C6-1041-4803-AA1B-5CD98AFE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DD117-002B-4A1B-9CF9-FD4E4430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A04A5-936C-407E-8549-3AF08A26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C9CA8-C3D0-4FAF-B801-7680E462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8590B-BADF-4C81-A0D7-50717158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DA7-CD38-4BAD-AC07-CBB7AA74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70343-0EED-4507-A42D-984F6459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E0BC2-0317-4BE4-BD95-EB2EDB89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EC201-E857-4F40-A141-4648A6B4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F1276-582E-4EB9-8455-1DF883EA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4B03F-8097-432E-AE3E-86BC34E5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005A8-B491-4E57-ABD2-853EA353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011D9-C425-499C-8B16-A7E81CFA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A793E-9876-4059-A525-EDAECE8E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3369C-6923-43AB-A290-670941E3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4D059-A8F8-44C1-A11A-2A34EED2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B1A-DBE4-4702-803B-22085161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A0267-B591-4A16-A021-5D41A072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5293D-C275-4FAF-8F95-79B87CE6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CC976-1FEA-43D9-A1BA-68F2D7BA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BD04A-81E7-48A0-9AED-BEF35E94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7A9DF-62A3-43BF-AA2E-CBDB109B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A5530-3349-4669-9B96-B447E813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F2787-82C1-4D04-9705-E7DF0177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7E37C-47AA-42CD-927E-8A366469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83186-B60C-45AC-ADE3-B7A996F0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0EB256-4932-46A3-B30D-19596055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786-3AC0-4A29-A638-4713E4B6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24B57-7953-4754-A4C5-C37DD4A7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86529C-44F3-4DFD-A3D5-15E0EF8A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DDBD1-FD7B-4FAB-83CB-817702E9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A1D1C-C867-4D92-8DB0-4EE524AA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96BB0A-9EC3-4962-8B36-494E404D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8F57B-A286-4916-8BBD-8E0494FE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9ABA1C-DA50-4FBF-9EA3-FCB6DAC0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C61E6-084F-4C8E-96BA-44004840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F70B5D-AF3C-45E3-8FA8-285EAAF2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A9DF9E-0D3D-43D7-9E08-E8F17A2E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C89-598C-46A1-A82A-6645355B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79E5D-09C1-43E5-8C1B-FB34C56F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93CB2F-1D0C-42AF-B6BA-3320B2BA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CD51C0-A9DC-4DAD-A2BB-271D7707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A2546-94E7-42DE-B56A-A19B1B0F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DE44F-655B-42F2-A2EA-644CC431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B8F3B-5745-475F-BE2D-12E02085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4B6EF0-3043-4A7C-BC49-63B180CA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990A97-645E-4A4B-96D8-ECE90EB4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5D7415-C2C0-4878-B0D8-FB1DB621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CB736F-E857-4031-92AE-0A01C6E6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661-E087-4DDF-8AB8-FC6B85C1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E88C62-5CCB-4FFB-A3DA-33144F32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DDCC7-C0FB-4EA5-9A01-96701019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26006B-68EC-49ED-9494-720F2FB2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C44B1-66D0-464D-A314-ACE53B43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459FC-4287-43D8-85AA-06C4F47E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ED01A7-A658-4596-8844-A0E07A2C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F337C0-8DBC-46AD-AD26-5D7FCAE1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452C90-CCD7-4A60-A5D4-568D56AE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881AF-89D8-456E-ADE1-F6C8B119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5537F7-C02B-4068-B7E0-A4B2A077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135-93F9-4B1C-8894-6A7E0237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B86135-FB21-4DC1-999B-F83E88C9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80DC6-5206-49F0-8B5A-71064D2A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6A0252-B368-4DE7-A9AF-EC4C509C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9F26D-AFEC-4536-8AC6-3D5D090C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5F1A3-A9C5-432F-91A8-32FCED21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D56-5E05-4857-880C-53800362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3502-CC06-4EB3-80A5-2EC209E7BBE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D2D7-3452-4E6B-8283-812C8DC0F1E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D84D-94FE-43DA-8B46-E6147877B56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5C54-7865-4FAF-B300-63F76EDBF90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227C-757F-4E71-B94B-BCAB330E449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0C21-2B92-4046-840B-415A37B2700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76E3-BE2C-47DA-B5FF-11C813C54C3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ПАВЕЛ БАЖОВ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Серебряное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копытце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entury Schoolbook"/>
              </a:rPr>
              <a:t>Афоненко В.В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entury Schoolbook"/>
              </a:rPr>
              <a:t>МАОУ Туендатская ООШ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3" descr="C:\Documents and Settings\Admin\Рабочий стол\бажов\117175_1.jpg"/>
          <p:cNvPicPr/>
          <p:nvPr/>
        </p:nvPicPr>
        <p:blipFill>
          <a:blip r:embed="rId1"/>
          <a:stretch/>
        </p:blipFill>
        <p:spPr>
          <a:xfrm>
            <a:off x="4788000" y="1268280"/>
            <a:ext cx="331308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C:\Documents and Settings\Admin\Рабочий стол\бажов\a6d613a8c16cd5c408e1accda4222091.png"/>
          <p:cNvPicPr/>
          <p:nvPr/>
        </p:nvPicPr>
        <p:blipFill>
          <a:blip r:embed="rId1"/>
          <a:stretch/>
        </p:blipFill>
        <p:spPr>
          <a:xfrm>
            <a:off x="249120" y="114480"/>
            <a:ext cx="83235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Admin\Рабочий стол\бажов\0_2b31c_54bc3900_XL.jpg"/>
          <p:cNvPicPr/>
          <p:nvPr/>
        </p:nvPicPr>
        <p:blipFill>
          <a:blip r:embed="rId1"/>
          <a:stretch/>
        </p:blipFill>
        <p:spPr>
          <a:xfrm>
            <a:off x="2039760" y="193680"/>
            <a:ext cx="461988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C:\Documents and Settings\Admin\Рабочий стол\бажов\03labr7vg1301388793.jpg"/>
          <p:cNvPicPr/>
          <p:nvPr/>
        </p:nvPicPr>
        <p:blipFill>
          <a:blip r:embed="rId1"/>
          <a:stretch/>
        </p:blipFill>
        <p:spPr>
          <a:xfrm>
            <a:off x="1692360" y="65160"/>
            <a:ext cx="525600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C:\Documents and Settings\Admin\Рабочий стол\бажов\02lab5vph1220437759.jpg"/>
          <p:cNvPicPr/>
          <p:nvPr/>
        </p:nvPicPr>
        <p:blipFill>
          <a:blip r:embed="rId1"/>
          <a:stretch/>
        </p:blipFill>
        <p:spPr>
          <a:xfrm>
            <a:off x="1835280" y="115920"/>
            <a:ext cx="468144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3" descr="C:\Documents and Settings\Admin\Рабочий стол\бажов\iCA8HCGKT.jpg"/>
          <p:cNvPicPr/>
          <p:nvPr/>
        </p:nvPicPr>
        <p:blipFill>
          <a:blip r:embed="rId1"/>
          <a:stretch/>
        </p:blipFill>
        <p:spPr>
          <a:xfrm>
            <a:off x="142920" y="95400"/>
            <a:ext cx="8821800" cy="66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3" descr="C:\Documents and Settings\Admin\Рабочий стол\бажов\muzon_org_sk.jpg"/>
          <p:cNvPicPr/>
          <p:nvPr/>
        </p:nvPicPr>
        <p:blipFill>
          <a:blip r:embed="rId1"/>
          <a:stretch/>
        </p:blipFill>
        <p:spPr>
          <a:xfrm>
            <a:off x="179280" y="189000"/>
            <a:ext cx="4321440" cy="4319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C:\Documents and Settings\Admin\Рабочий стол\бажов\05labj6l81291241625.jpg"/>
          <p:cNvPicPr/>
          <p:nvPr/>
        </p:nvPicPr>
        <p:blipFill>
          <a:blip r:embed="rId2"/>
          <a:stretch/>
        </p:blipFill>
        <p:spPr>
          <a:xfrm>
            <a:off x="4589640" y="785880"/>
            <a:ext cx="41972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C:\Documents and Settings\Admin\Рабочий стол\бажов\img_10.jpg"/>
          <p:cNvPicPr/>
          <p:nvPr/>
        </p:nvPicPr>
        <p:blipFill>
          <a:blip r:embed="rId1"/>
          <a:stretch/>
        </p:blipFill>
        <p:spPr>
          <a:xfrm>
            <a:off x="241200" y="1357200"/>
            <a:ext cx="8516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C:\Documents and Settings\Admin\Рабочий стол\бажов\22.bmp"/>
          <p:cNvPicPr/>
          <p:nvPr/>
        </p:nvPicPr>
        <p:blipFill>
          <a:blip r:embed="rId1"/>
          <a:stretch/>
        </p:blipFill>
        <p:spPr>
          <a:xfrm>
            <a:off x="411120" y="351000"/>
            <a:ext cx="823284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" descr="C:\Documents and Settings\Admin\Рабочий стол\бажов\1257987356_6.jpg"/>
          <p:cNvPicPr/>
          <p:nvPr/>
        </p:nvPicPr>
        <p:blipFill>
          <a:blip r:embed="rId1"/>
          <a:stretch/>
        </p:blipFill>
        <p:spPr>
          <a:xfrm>
            <a:off x="1908000" y="115920"/>
            <a:ext cx="5112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C:\Documents and Settings\Admin\Рабочий стол\бажов\__________ _________________ ____________________ ______________ 7.jpg"/>
          <p:cNvPicPr/>
          <p:nvPr/>
        </p:nvPicPr>
        <p:blipFill>
          <a:blip r:embed="rId1"/>
          <a:stretch/>
        </p:blipFill>
        <p:spPr>
          <a:xfrm>
            <a:off x="500040" y="371520"/>
            <a:ext cx="82152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7252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28760" y="2714760"/>
            <a:ext cx="749592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 писателя Павла Петровича Бажова счастливая судьба. Он родился 27 января 1879 года на Урале в семье рабочего Сысертского завода. Благодаря случаю и своим способностям он получил возможность учиться. Закончил училище, затем духовную Пермскую семинарию. Восемнадцать лет учительствовал. Счастливо женился на своей ученице и стал главой большой семьи, в которой было семеро дете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2" descr="C:\Documents and Settings\Admin\Рабочий стол\бажов\0_2b06c_95bf52b6_XL.jpg"/>
          <p:cNvPicPr/>
          <p:nvPr/>
        </p:nvPicPr>
        <p:blipFill>
          <a:blip r:embed="rId1"/>
          <a:stretch/>
        </p:blipFill>
        <p:spPr>
          <a:xfrm>
            <a:off x="3214800" y="285840"/>
            <a:ext cx="18763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28172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Schoolbook"/>
              </a:rPr>
              <a:t>СПАСИБО ЗА ВНИМАНИЕ!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Picture 2" descr="C:\Documents and Settings\Admin\Рабочий стол\бажов\0_617a2_120f8400_L.jpg"/>
          <p:cNvPicPr/>
          <p:nvPr/>
        </p:nvPicPr>
        <p:blipFill>
          <a:blip r:embed="rId1"/>
          <a:stretch/>
        </p:blipFill>
        <p:spPr>
          <a:xfrm>
            <a:off x="2643120" y="2143080"/>
            <a:ext cx="344484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29640" cy="28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Н ПРИНЯЛ ОКТЯБРЬСКУЮ РЕВОЛЮЦИЮ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К ВОЗМОЖНОСТЬ ПОКОНЧИТЬ С СОЦИАЛЬНЫМ НЕРАВЕНСТВОМ, ВОЕВАЛ В ГРАЖДАНСКУЮ НА СТОРОНЕ КРАСНЫХ, СТАЛ ЖУРНАЛИСТОМ, А ЗАТЕМ - РЕДАКТОРОМ, ПИСАЛ КНИГИ ПО ИСТОРИИ УРАЛА, СОБИРАЛ ФОЛЬКЛОРНЫЕ ЗАПИСИ. ВСЕГДА МНОГО РАБОТАЛ, КАК СКАЗАЛИ БЫ В СОВЕТСКИЕ ВРЕМЕНА, БЫЛ "РЯДОВЫМ ТРУЖЕНИКОМ".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Picture 2" descr="C:\Documents and Settings\Admin\Рабочий стол\бажов\13.jpg"/>
          <p:cNvPicPr/>
          <p:nvPr/>
        </p:nvPicPr>
        <p:blipFill>
          <a:blip r:embed="rId1"/>
          <a:stretch/>
        </p:blipFill>
        <p:spPr>
          <a:xfrm>
            <a:off x="5357880" y="2871720"/>
            <a:ext cx="242892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286840" cy="565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 ВДРУГ, ЧТО НАЗЫВАЕТСЯ В ОДНОЧАСЬЕ ПРИШЛА К НЕМУ ИЗВЕСТНОСТЬ, ДА ЕЩЕ КАКАЯ… В 1936 ГОДУ В ЖУРНАЛЕ БЫЛ ОПУБЛИКОВАН ЕГО ПЕРВЫЙ СКАЗ "ДЕВКА АЗОВКА". В 1939 В "СВЕДЛГИЗЕ" ВЫШЕЛ ПЕРВЫЙ СБОРНИК СКАЗОВ "МАЛАХИТОВАЯ ШКАТУЛКА". В 1942 И 1944 "МАЛАХИТОВАЯ ШКАТУЛКА", ЗАМЕТНО ПОПОЛНЕВШАЯ, ВЫХОДИТ В МОСКВЕ В ЦЕНТРАЛЬНЫХ ИЗДАТЕЛЬСТВАХ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Н СТАЛ ЛАУРЕАТОМ ГОСУДАРСТВЕННОЙ ПРЕМИИ, НАГРАЖДЕН ОРДЕНОМ ЛЕНИНА ЗА ЛИТЕРАТУРНУЮ РАБОТУ. В 1944 ГОДУ "МАЛАХИТОВАЯ ШКАТУЛКА" ПЕРЕВЕДЕНА НА АНГЛИЙСКИЙ И ВЫШЛА В ЛОНДОНЕ И НЬЮ-ЙОРКЕ, ПОТОМ В ПРАГЕ, В 1947 - В ПАРИЖЕ. ПЕРЕВЕДЕНА НА НЕМЕЦКИЙ, ВЕНГЕРСКИЙ, РУМЫНСКИЙ, КИТАЙСКИЙ, ЯПОНСКИЙ ЯЗЫКИ. ВСЕГО, ПО СВЕДЕНИЯМ БИБЛИОТЕКИ ИМ. ЛЕНИНА, - НА 100 ЯЗЫКОВ МИРА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501040" cy="581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ЯНВАРЕ 1949 ГОДА ТОРЖЕСТВЕННО БЫЛ ОТМЕЧЕН 70-ЛЕТНИЙ ЮБИЛЕЙ П.П. БАЖОВА. В ЗАЛЕ СВЕРДЛОВСКОЙ ГОСУДАРСТВЕННОЙ ФИЛАРМОНИИ СОБРАЛИСЬ ДРУЗЬЯ, ЧИТАТЕЛИ. МНОГО ТОРЖЕСТВЕННЫХ И СМЕШНЫХ ПОДАРКОВ. ЮБИЛЯР РАСТРОГАН, БЛАГОДАРЕН, ВЗВОЛНОВАН. ОН БЛАГОДАРИЛ СВОИХ БЛИЗКИХ, ДРУЗЕЙ, ЛИТЕРАТОРОВ, ЖУРНАЛИСТОВ, ИЗДАТЕЛЕЙ И ЧИТАТЕЛЕЙ ЗА ВНИМАНИЕ К ЕГО РАБОТЕ И ЗА ПОМОЩЬ И ВНОВЬ ПОВТОРИЛ ТО, ЧТО ГОВОРИЛ ВСЕГДА: "ЭТО ВНИМАНИЕ, РАЗУМЕЕТСЯ, НЕ КО МНЕ, А К ТЕМ БЕЗВЕСТНЫМ ТВОРЦАМ, МАТЕРИАЛ КОТОРЫХ ДОШЕЛ ДО МЕНЯ И СТАЛ ДОСТУПЕН ЧИТАТЕЛЮ. МОЯ РОЛЬ В ЭТОМ ВТОРОСТЕПЕННАЯ"…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828684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10-ГО ДЕКАБРЯ 1950-ГО ГОДА 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В МОРОЗНЫЙ ДЕНЬ БАЖОВ УМЕР. ЕГО ПОХОРОНИЛИ НА ВЫСОКОМ ХОЛМЕ, С КОТОРОГО ВИДЕН УРАЛ - ЛЕСА И ПЕРЕЛЕСКИ, ГОРЫ И ПРУДЫ - ВСЕ, ЧТО ОН ЛЮБИЛ, ЧТО ВСЕГДА БЫЛО ДОРОГО ЕГО СЕРДЦУ. 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C:\Documents and Settings\Admin\Рабочий стол\бажов\d338c8ba95ced5635e2aef123654ada8.jpg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СЕРЕБРЯНОЕ КОПЫТЦЕ.</a:t>
            </a:r>
            <a:br>
              <a:rPr sz="29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2" descr="C:\Documents and Settings\Admin\Рабочий стол\бажов\img_2.jpg"/>
          <p:cNvPicPr/>
          <p:nvPr/>
        </p:nvPicPr>
        <p:blipFill>
          <a:blip r:embed="rId1"/>
          <a:stretch/>
        </p:blipFill>
        <p:spPr>
          <a:xfrm>
            <a:off x="2340000" y="971640"/>
            <a:ext cx="4176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C:\Documents and Settings\Admin\Рабочий стол\бажов\iCA0TCUU7.jpg"/>
          <p:cNvPicPr/>
          <p:nvPr/>
        </p:nvPicPr>
        <p:blipFill>
          <a:blip r:embed="rId1"/>
          <a:stretch/>
        </p:blipFill>
        <p:spPr>
          <a:xfrm>
            <a:off x="166680" y="189000"/>
            <a:ext cx="889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C:\Documents and Settings\Admin\Рабочий стол\бажов\967905147382.jpg"/>
          <p:cNvPicPr/>
          <p:nvPr/>
        </p:nvPicPr>
        <p:blipFill>
          <a:blip r:embed="rId1"/>
          <a:stretch/>
        </p:blipFill>
        <p:spPr>
          <a:xfrm>
            <a:off x="527040" y="38160"/>
            <a:ext cx="82375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рия</cp:lastModifiedBy>
  <dcterms:modified xsi:type="dcterms:W3CDTF">2013-01-17T06:57:19Z</dcterms:modified>
  <cp:revision>23</cp:revision>
  <dc:subject/>
  <dc:title>Павел Бажов</dc:title>
</cp:coreProperties>
</file>