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explode.wav" ContentType="audio/x-wav"/>
  <Override PartName="/ppt/media/image8.gif" ContentType="image/gif"/>
  <Override PartName="/ppt/media/image10.jpeg" ContentType="image/jpeg"/>
  <Override PartName="/ppt/media/image6.gif" ContentType="image/gif"/>
  <Override PartName="/ppt/media/image17.png" ContentType="image/png"/>
  <Override PartName="/ppt/media/type.wav" ContentType="audio/x-wav"/>
  <Override PartName="/ppt/media/image15.jpeg" ContentType="image/jpeg"/>
  <Override PartName="/ppt/media/image16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jpeg" ContentType="image/jpeg"/>
  <Override PartName="/ppt/media/image11.png" ContentType="image/png"/>
  <Override PartName="/ppt/media/image1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437-3DAA-42B5-980A-1BC8F384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B72-45FF-4888-A623-7F05D99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E44-3B67-4F04-AD32-376202E8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475-B786-47FC-8CBA-EECCE4A6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D8C0-F4C3-4E34-A6BF-CA53A48B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E981-E189-4B91-9A17-821CE8EC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1AA0-6835-4851-BD19-1B9DE55B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1A48-8D88-45A2-9624-97CAB8A9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3F93-E246-4D4B-933A-E0CD6833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045-3080-4B43-9AB0-DEA5FFEF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C0B4-FCDD-4318-BC54-7D46CC89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6E8-779F-4A0E-AF90-19DB3AC1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3D48-669A-4073-A3D0-FC04A7E4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AC96-63D0-4E0D-8442-F49372C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EFEC-5777-49C8-B1BD-92787A05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DB82-3331-474E-B5A9-E4163991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209D-22A9-4639-958D-7FCF4780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554-B696-45D8-B867-A81BF10F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7C1-29D7-44AC-8807-81FB84E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3CA-B62A-435D-B3CA-64795EE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FC9-4911-4530-849A-E42D194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2A4-5F01-4E83-80C6-6932BD6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2F5-D016-4B60-92F9-128E26C9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CEB-5CBD-4C12-BB2F-D76E67E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CE89-F407-4339-820A-F68B7807E4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9C4E-C616-480E-8A1B-8D8C48912F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hyperlink" Target="http://www.posternazakaz.ru/shop/makeframe/58906/1131/82/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-1324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Реактивное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вижение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42900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252960" cy="4552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533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 апреля 1961 года Юрий Алексеевич Гагарин совершил первый в мире пилотируемый космический полет на корабле-спутнике "Восток-1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36232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е о "Востоке-1"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......................................4,73 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...............1 ч. 48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та над Землей...............327 к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исло витков........................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траектории.................41 000 к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4572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ый в мире космический полет, первый в мире космонавт, первый в мире выход в открытый космос, первое в мире "прикосновение" к другим небесным объектам и многое другое первое в мире в деле практического освоения космоса принадлежит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0384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8080" y="3808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5c984"/>
                </a:solidFill>
                <a:latin typeface="Times New Roman"/>
              </a:rPr>
              <a:t>Значение освоения космос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752480"/>
            <a:ext cx="807696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Использование спутников для связи. Осуществление телефонной и телевизионной связ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Использование спутников для навигации морских судов и самол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Использование спутников в метеорологии и для изучения процессов, происходящих в атмосфере; прогнозирование стихийных явл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Использование спутников для проведения научных исследований, осуществления различных технологических процессов в условиях невесомости, уточнение природных ресур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Использование спутников для изучения космоса и физической природы других тел Солнечной сист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0"/>
            <a:ext cx="777240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Я говорю человеку: поверь в себя!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Ты все можешь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Ты можешь познать все тайны вечности,. стать хозяином всех богатств природы. У тебя крылья за спиной. Взмахни ими! Ну, взмахни, и ты будешь счастлив, могуществен и свободен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. Э. Циолковски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1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75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175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19810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22860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0920" y="98064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иды движения невозможны без взаимодействия тел данной системы с окружающей средой. А для осуществления реактивного движения не требуется взаимодействия тела с окружающей средо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04920" y="5105520"/>
            <a:ext cx="2133360" cy="1293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409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TCRAK036. Фото ракеты, постеры ракеты, плакаты и фотографии с изображением ракет, постеры Ракет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421160"/>
            <a:ext cx="280836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295280"/>
            <a:ext cx="777240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жение тела, возникающее вследствие отделения от него части его массы с некоторой скоростью, называют </a:t>
            </a:r>
            <a:r>
              <a:rPr b="0" lang="ru-RU" sz="3600" spc="-1" strike="noStrike">
                <a:solidFill>
                  <a:srgbClr val="45c984"/>
                </a:solidFill>
                <a:latin typeface="Times New Roman"/>
              </a:rPr>
              <a:t>реактивны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ы реактивного движения находят широкое практическое применение в авиации и космонавти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20574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00200" y="2133720"/>
            <a:ext cx="6019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5c984"/>
                </a:solidFill>
                <a:latin typeface="Times New Roman"/>
              </a:rPr>
              <a:t>Из истории развития реактивного движен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23270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788000" y="18900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м проектом пилотируемой ракеты был в 1881 году проект ракеты с пороховым двигателем известного революционера Николая Ивановича Кибальчича (1853-188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449568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дучи осужденным царским судом за участие в убийстве императора Александра II, Кибальчич в камере смертников за 10 дней до казни подал администации тюрьмы записку с описанием своего изобретения. Но царские чиновники скрыли от ученых этот проект. О нем стало известно только в 1916 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Кибальчич Николай Иванович"/>
          <p:cNvPicPr/>
          <p:nvPr/>
        </p:nvPicPr>
        <p:blipFill>
          <a:blip r:embed="rId1"/>
          <a:stretch/>
        </p:blipFill>
        <p:spPr>
          <a:xfrm>
            <a:off x="900000" y="189000"/>
            <a:ext cx="3611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9907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03 году Константин Эдуардович Циолковский предложил первую конструкцию ракеты для космических полетов на жидком топливе и вывел формулу скорости движения раке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299556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4038480"/>
            <a:ext cx="3733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29 году ученый предложил идею создания ракетных поездов (многоступенчатых ракет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505320" y="685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1916280"/>
            <a:ext cx="4211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5c984"/>
                </a:solidFill>
                <a:latin typeface="Times New Roman"/>
              </a:rPr>
              <a:t>Устройство ракеты-носител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457200"/>
            <a:ext cx="441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гей Павлович Королев был крупнейшим конструктором ракетно-космических систем. Под его руководством были осуществлены запуски первых в мире искусственных спутников Земли, Луны и Солнца, первых пилотируемых космических кораблей и первый выход человека из спутника в открытый косм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Королёв Сергей Павлович - его биография и жизнеописание"/>
          <p:cNvPicPr/>
          <p:nvPr/>
        </p:nvPicPr>
        <p:blipFill>
          <a:blip r:embed="rId1"/>
          <a:stretch/>
        </p:blipFill>
        <p:spPr>
          <a:xfrm>
            <a:off x="5292720" y="2781360"/>
            <a:ext cx="316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81280" y="380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октября 1957 года в нашей стране был запущен первый в мире искусственный спутник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24382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ноября 1957 года в космос был запущен спутник с собакой Лайкой на бор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648320"/>
            <a:ext cx="7086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января 1959 года была запущена первая автоматическая межпланетная станция "Луна-1", которая стала первым искусственным спутником Солнц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21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3:35:36Z</dcterms:created>
  <dc:creator>Slushatel-4-1</dc:creator>
  <dc:description/>
  <dc:language>en-US</dc:language>
  <cp:lastModifiedBy>Admin</cp:lastModifiedBy>
  <dcterms:modified xsi:type="dcterms:W3CDTF">2011-12-19T15:57:45Z</dcterms:modified>
  <cp:revision>115</cp:revision>
  <dc:subject/>
  <dc:title>Презентация PowerPoint</dc:title>
</cp:coreProperties>
</file>