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explode.wav" ContentType="audio/x-wav"/>
  <Override PartName="/ppt/media/image8.gif" ContentType="image/gif"/>
  <Override PartName="/ppt/media/image10.jpeg" ContentType="image/jpeg"/>
  <Override PartName="/ppt/media/image6.gif" ContentType="image/gif"/>
  <Override PartName="/ppt/media/image17.png" ContentType="image/png"/>
  <Override PartName="/ppt/media/type.wav" ContentType="audio/x-wav"/>
  <Override PartName="/ppt/media/image15.jpeg" ContentType="image/jpeg"/>
  <Override PartName="/ppt/media/image16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jpeg" ContentType="image/jpeg"/>
  <Override PartName="/ppt/media/image11.png" ContentType="image/png"/>
  <Override PartName="/ppt/media/image1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385-A527-44FC-A697-6A027BEC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B34-9E32-4675-8226-BCD3A6B3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DE1-5772-460D-81FF-B697D0F1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C13-7122-4E7C-AA0B-4C51560A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70B3-CC21-4542-AB60-804FE7EF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DC32-8483-4EE2-B42A-0D3D541E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3449-2551-4CD1-8DFC-C04D8AE4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F82F-EA6B-4736-99B0-F0462E6A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4154-0146-4D60-96F1-DDAA3139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E8DB-B25F-4FF7-BBF4-FAAE5F7E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A610-BAEF-44E9-A32D-F4F7D22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B53-84C3-4CDF-9D62-419E2947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A31C-2A27-4B1B-9ED2-23D304C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D4FD-4FAE-4593-932D-0552854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AA3D-92A8-42A1-93D9-1756274F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1C70-59BA-47FA-818A-1507BBFA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6431-E7E4-49BF-9DD5-61748783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BAB-A9AB-4982-83E7-BCC082C2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BC5-01F7-4A78-AD97-0DDBD9F1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33A-6E21-4462-87A4-C41CAB34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EB0-E938-4FED-857F-63E9E019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C14-7688-44F6-A391-63C055BE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FAF-FF70-4A63-9A47-677BB1AC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029-C672-4A79-8594-385F5673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0172-6400-4924-AE3B-426B9A2B1B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2DAB-13ED-45E9-B5D2-9934EA7827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hyperlink" Target="http://www.posternazakaz.ru/shop/makeframe/58906/1131/82/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9280" y="-1324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Реактивное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вижение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342900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252960" cy="4552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" y="533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2 апреля 1961 года Юрий Алексеевич Гагарин совершил первый в мире пилотируемый космический полет на корабле-спутнике "Восток-1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362320"/>
            <a:ext cx="50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е о "Востоке-1"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......................................4,73 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...............1 ч. 48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та над Землей...............327 к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исло витков........................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траектории.................41 000 к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4572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ый в мире космический полет, первый в мире космонавт, первый в мире выход в открытый космос, первое в мире "прикосновение" к другим небесным объектам и многое другое первое в мире в деле практического освоения космоса принадлежит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0384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38080" y="3808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5c984"/>
                </a:solidFill>
                <a:latin typeface="Times New Roman"/>
              </a:rPr>
              <a:t>Значение освоения космоса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752480"/>
            <a:ext cx="807696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Использование спутников для связи. Осуществление телефонной и телевизионной связ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Использование спутников для навигации морских судов и самоле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Использование спутников в метеорологии и для изучения процессов, происходящих в атмосфере; прогнозирование стихийных явл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Использование спутников для проведения научных исследований, осуществления различных технологических процессов в условиях невесомости, уточнение природных ресур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Использование спутников для изучения космоса и физической природы других тел Солнечной сист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0"/>
            <a:ext cx="777240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Я говорю человеку: поверь в себя!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Ты все можешь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Ты можешь познать все тайны вечности,. стать хозяином всех богатств природы. У тебя крылья за спиной. Взмахни ими! Ну, взмахни, и ты будешь счастлив, могуществен и свободен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. Э. Циолковски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1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75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4175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75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19810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228600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0920" y="98064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виды движения невозможны без взаимодействия тел данной системы с окружающей средой. А для осуществления реактивного движения не требуется взаимодействия тела с окружающей средо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04920" y="5105520"/>
            <a:ext cx="2133360" cy="1293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409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TCRAK036. Фото ракеты, постеры ракеты, плакаты и фотографии с изображением ракет, постеры Ракет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421160"/>
            <a:ext cx="280836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295280"/>
            <a:ext cx="777240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ижение тела, возникающее вследствие отделения от него части его массы с некоторой скоростью, называют </a:t>
            </a:r>
            <a:r>
              <a:rPr b="0" lang="ru-RU" sz="3600" spc="-1" strike="noStrike">
                <a:solidFill>
                  <a:srgbClr val="45c984"/>
                </a:solidFill>
                <a:latin typeface="Times New Roman"/>
              </a:rPr>
              <a:t>реактивны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ы реактивного движения находят широкое практическое применение в авиации и космонавти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205740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00200" y="2133720"/>
            <a:ext cx="6019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5c984"/>
                </a:solidFill>
                <a:latin typeface="Times New Roman"/>
              </a:rPr>
              <a:t>Из истории развития реактивного движен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23270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788000" y="18900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ым проектом пилотируемой ракеты был в 1881 году проект ракеты с пороховым двигателем известного революционера Николая Ивановича Кибальчича (1853-188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449568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дучи осужденным царским судом за участие в убийстве императора Александра II, Кибальчич в камере смертников за 10 дней до казни подал администации тюрьмы записку с описанием своего изобретения. Но царские чиновники скрыли от ученых этот проект. О нем стало известно только в 1916 го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Кибальчич Николай Иванович"/>
          <p:cNvPicPr/>
          <p:nvPr/>
        </p:nvPicPr>
        <p:blipFill>
          <a:blip r:embed="rId1"/>
          <a:stretch/>
        </p:blipFill>
        <p:spPr>
          <a:xfrm>
            <a:off x="900000" y="189000"/>
            <a:ext cx="36115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9907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903 году Константин Эдуардович Циолковский предложил первую конструкцию ракеты для космических полетов на жидком топливе и вывел формулу скорости движения раке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299556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4038480"/>
            <a:ext cx="3733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929 году ученый предложил идею создания ракетных поездов (многоступенчатых ракет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505320" y="685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1916280"/>
            <a:ext cx="4211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5c984"/>
                </a:solidFill>
                <a:latin typeface="Times New Roman"/>
              </a:rPr>
              <a:t>Устройство ракеты-носител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457200"/>
            <a:ext cx="441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гей Павлович Королев был крупнейшим конструктором ракетно-космических систем. Под его руководством были осуществлены запуски первых в мире искусственных спутников Земли, Луны и Солнца, первых пилотируемых космических кораблей и первый выход человека из спутника в открытый косм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Королёв Сергей Павлович - его биография и жизнеописание"/>
          <p:cNvPicPr/>
          <p:nvPr/>
        </p:nvPicPr>
        <p:blipFill>
          <a:blip r:embed="rId1"/>
          <a:stretch/>
        </p:blipFill>
        <p:spPr>
          <a:xfrm>
            <a:off x="5292720" y="2781360"/>
            <a:ext cx="316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81280" y="380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октября 1957 года в нашей стране был запущен первый в мире искусственный спутник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24382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ноября 1957 года в космос был запущен спутник с собакой Лайкой на бор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648320"/>
            <a:ext cx="7086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января 1959 года была запущена первая автоматическая межпланетная станция "Луна-1", которая стала первым искусственным спутником Солнц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21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3:35:36Z</dcterms:created>
  <dc:creator>Slushatel-4-1</dc:creator>
  <dc:description/>
  <dc:language>en-US</dc:language>
  <cp:lastModifiedBy>Admin</cp:lastModifiedBy>
  <dcterms:modified xsi:type="dcterms:W3CDTF">2011-12-19T15:57:45Z</dcterms:modified>
  <cp:revision>115</cp:revision>
  <dc:subject/>
  <dc:title>Презентация PowerPoint</dc:title>
</cp:coreProperties>
</file>