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45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44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E84-1478-4F2C-B8BA-63D1E514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CA3-E9F7-41B8-8EC5-F7A32F39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F96-5FEC-4729-BC58-3A522C52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251-73BD-416C-B109-C521C603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085-4647-4AE1-ADE6-DA0E05A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0F2-70CA-4A92-B981-7219CF5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320-467C-496E-980A-2C09EC6C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8D7-6AF7-402F-BB6E-6561F928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AE2-6304-4373-A5FC-DD158ED4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265-8127-4F9C-8BFA-4ADF0B9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FBD-5874-4E02-B18C-AD024E0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7B9-FDF2-4014-A4DD-54EA6F4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C1D1-876A-41EA-8D8B-474115C8B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12.xml"/><Relationship Id="rId5" Type="http://schemas.openxmlformats.org/officeDocument/2006/relationships/image" Target="../media/image22.jpeg"/><Relationship Id="rId6" Type="http://schemas.openxmlformats.org/officeDocument/2006/relationships/slide" Target="slide12.xm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4.xml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8.xml"/><Relationship Id="rId3" Type="http://schemas.openxmlformats.org/officeDocument/2006/relationships/image" Target="../media/image13.jpeg"/><Relationship Id="rId4" Type="http://schemas.openxmlformats.org/officeDocument/2006/relationships/slide" Target="slide8.xm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image" Target="../media/image17.jpeg"/><Relationship Id="rId4" Type="http://schemas.openxmlformats.org/officeDocument/2006/relationships/slide" Target="slide10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обложка копия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589840" y="335772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Цель: 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2857680" y="2000160"/>
            <a:ext cx="3857400" cy="4208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" descr=""/>
          <p:cNvPicPr/>
          <p:nvPr/>
        </p:nvPicPr>
        <p:blipFill>
          <a:blip r:embed="rId2"/>
          <a:stretch/>
        </p:blipFill>
        <p:spPr>
          <a:xfrm>
            <a:off x="1920960" y="43812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pull dir="ld"/>
    <p:sndAc>
      <p:stSnd>
        <p:snd r:embed="rId3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Безимени-4.jpg"/>
          <p:cNvPicPr/>
          <p:nvPr/>
        </p:nvPicPr>
        <p:blipFill>
          <a:blip r:embed="rId2"/>
          <a:stretch/>
        </p:blipFill>
        <p:spPr>
          <a:xfrm>
            <a:off x="1071720" y="57168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Безимени-4.jpg"/>
          <p:cNvPicPr/>
          <p:nvPr/>
        </p:nvPicPr>
        <p:blipFill>
          <a:blip r:embed="rId3"/>
          <a:stretch/>
        </p:blipFill>
        <p:spPr>
          <a:xfrm>
            <a:off x="4786200" y="4357800"/>
            <a:ext cx="150048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Безимени-4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00880" y="5716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Безимени-4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43280" y="2500200"/>
            <a:ext cx="171468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2928960" y="2571840"/>
            <a:ext cx="35845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1852560" y="72540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Безимени-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Безимени-5.jpg"/>
          <p:cNvPicPr/>
          <p:nvPr/>
        </p:nvPicPr>
        <p:blipFill>
          <a:blip r:embed="rId4"/>
          <a:stretch/>
        </p:blipFill>
        <p:spPr>
          <a:xfrm>
            <a:off x="2643120" y="2500200"/>
            <a:ext cx="171468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2571840" y="2357280"/>
            <a:ext cx="3817800" cy="3500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Безимени-6.jpg"/>
          <p:cNvPicPr/>
          <p:nvPr/>
        </p:nvPicPr>
        <p:blipFill>
          <a:blip r:embed="rId2"/>
          <a:stretch/>
        </p:blipFill>
        <p:spPr>
          <a:xfrm>
            <a:off x="4500720" y="57168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Безимени-6.jpg"/>
          <p:cNvPicPr/>
          <p:nvPr/>
        </p:nvPicPr>
        <p:blipFill>
          <a:blip r:embed="rId3"/>
          <a:stretch/>
        </p:blipFill>
        <p:spPr>
          <a:xfrm>
            <a:off x="2652840" y="2643120"/>
            <a:ext cx="1695240" cy="150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2143080" y="1857240"/>
            <a:ext cx="4442040" cy="3929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36504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Безимени-7.jpg"/>
          <p:cNvPicPr/>
          <p:nvPr/>
        </p:nvPicPr>
        <p:blipFill>
          <a:blip r:embed="rId2"/>
          <a:stretch/>
        </p:blipFill>
        <p:spPr>
          <a:xfrm>
            <a:off x="6572160" y="28584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Безимени-7.jpg"/>
          <p:cNvPicPr/>
          <p:nvPr/>
        </p:nvPicPr>
        <p:blipFill>
          <a:blip r:embed="rId3"/>
          <a:stretch/>
        </p:blipFill>
        <p:spPr>
          <a:xfrm>
            <a:off x="4643280" y="2286000"/>
            <a:ext cx="1643400" cy="1571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2357280" y="2286000"/>
            <a:ext cx="3957840" cy="37861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639800" y="65232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  <p:sndAc>
      <p:stSnd>
        <p:snd r:embed="rId3" name="applau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Безимени-9.jpg"/>
          <p:cNvPicPr/>
          <p:nvPr/>
        </p:nvPicPr>
        <p:blipFill>
          <a:blip r:embed="rId2"/>
          <a:stretch/>
        </p:blipFill>
        <p:spPr>
          <a:xfrm>
            <a:off x="6572160" y="57168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Безимени-9.jpg"/>
          <p:cNvPicPr/>
          <p:nvPr/>
        </p:nvPicPr>
        <p:blipFill>
          <a:blip r:embed="rId3"/>
          <a:stretch/>
        </p:blipFill>
        <p:spPr>
          <a:xfrm>
            <a:off x="2714760" y="2428920"/>
            <a:ext cx="1639800" cy="178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944120" cy="420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2857680" y="2571840"/>
            <a:ext cx="3429000" cy="35845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Безимени-10.jpg"/>
          <p:cNvPicPr/>
          <p:nvPr/>
        </p:nvPicPr>
        <p:blipFill>
          <a:blip r:embed="rId2"/>
          <a:stretch/>
        </p:blipFill>
        <p:spPr>
          <a:xfrm>
            <a:off x="457200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Безимени-10.jpg"/>
          <p:cNvPicPr/>
          <p:nvPr/>
        </p:nvPicPr>
        <p:blipFill>
          <a:blip r:embed="rId3"/>
          <a:stretch/>
        </p:blipFill>
        <p:spPr>
          <a:xfrm>
            <a:off x="1000080" y="25002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2928960" y="3214800"/>
            <a:ext cx="3273480" cy="30002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1079640"/>
            <a:ext cx="5754960" cy="1487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Безимени-1 копия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Безимени-1 копия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2928960" y="242892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1500120" y="6159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Безимени-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29080" y="57168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Безимени-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2357280" y="2571840"/>
            <a:ext cx="409896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017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Безимени-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Безимени-2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3280" y="2357280"/>
            <a:ext cx="1714680" cy="1643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2714760" y="2143080"/>
            <a:ext cx="4025880" cy="38577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69800"/>
            <a:ext cx="6364440" cy="164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Безимени-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00080" y="571680"/>
            <a:ext cx="157176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Безимени-3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43800" y="2500200"/>
            <a:ext cx="157140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1:18Z</dcterms:created>
  <dc:creator>storm</dc:creator>
  <dc:description/>
  <dc:language>en-US</dc:language>
  <cp:lastModifiedBy>ОЕМ</cp:lastModifiedBy>
  <dcterms:modified xsi:type="dcterms:W3CDTF">2010-01-20T06:52:47Z</dcterms:modified>
  <cp:revision>4</cp:revision>
  <dc:subject/>
  <dc:title>Слайд 1</dc:title>
</cp:coreProperties>
</file>