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476-6B20-44C1-82FA-CF1A77F7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422-C40A-41CD-AEA1-40FC8ECD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2C4-08A4-46C0-A409-91ECA8B7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8DB7-02A2-4DFB-B8A2-B7785B9B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3A7F-F417-4770-9440-22A8A88C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0101-932A-463D-8608-52D98EA0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39F9-867D-4756-A8F1-5E347EBE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2E72-14B1-4BDE-8D3B-19C4DA6A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2348-92A0-4146-A828-37C9396A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D747-0E50-4FAD-9A9A-E4FEC1AD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64D0-96D0-4D50-8ACB-44634B10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A55-EC51-4FC2-9303-37720CE9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D434-0BF8-4373-8E9F-AF41B93E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5075-48E5-47E4-904A-E0BED58B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C75A-D9B1-4643-8D8E-E8BE837D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DCAD-647F-4F63-86A5-FA697EDB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90E3-FA93-4912-A69A-EE67EFF6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87C-69C7-4BA8-AF56-D098B5BB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A8D-CEF6-47D7-8583-4284EB7C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9C8-2F0B-4F4B-AF24-37E1854D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02F-C2D7-49F3-BB48-74BC31E3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4C3-02D9-4818-857B-4B0C8420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BA4-A395-43F3-98AC-F515A169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BE1-2FAB-45B5-BF81-CF1CA27F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5366-DF2D-478C-9CC1-22EDBCD894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DBE5-3ABA-4D15-AA11-0134293FDA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33"/>
                </a:solidFill>
                <a:latin typeface="Times New Roman"/>
              </a:rPr>
              <a:t>Что изучают в курсе «География материков и океанов»?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508720" y="4508640"/>
            <a:ext cx="2720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сильева Е.А. -учитель географии МБОУ    СОШ п.Солидарность Елецкого муниципального района Липец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и: 1) определить предмет изучения курса «География материков и океанов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познакомиться с материками и частями св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расширять кругозор школьников и прививать интерес к изучаемому предм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удование: карта полушарий, атласы, учебники, тетр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приступаем к изучению нового курса – географии материков и океанов. Это один из интереснейших курсов географии. В этом году мы познакомимся с материками и островами, океанами, горами и равнинами. Вы сами ответите на вопросы: почему на экваторе идут дожди, а в Сахаре – сухо. Почему в разных районах Земли обитают и живут разные растения и животные и на многие другие вопросы. Давайте вспомним, что такое материки, океаны и остр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365200" cy="107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2089080" cy="100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3635280" y="189000"/>
            <a:ext cx="2089080" cy="109692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r>
              <a:rPr b="1" i="1" lang="ru-RU" sz="3800" spc="-1" strike="noStrike">
                <a:solidFill>
                  <a:srgbClr val="660066"/>
                </a:solidFill>
                <a:latin typeface="Times New Roman"/>
              </a:rPr>
              <a:t>Работа в тетради</a:t>
            </a:r>
            <a:br>
              <a:rPr sz="3800"/>
            </a:b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 (изображение схемы)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ета Зем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ки                                Оке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                                    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                                          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                              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                                    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дание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ьт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ебя по учебнику (работа с текстом учебника: «Материки (континенты) и острова) стр.5-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320364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651672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26920" y="155700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ие знания необходимы для того, чтобы предвидеть последствия вмешательства человека в природу, помня, что каждый из нас в ответе за планету, на которой мы жив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3200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лощадь Земли –             510 млн. кв.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лощадь суши – 149 млн. кв.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лощадь океанов и материков (см. рис.2 и рис.3 на стр. 6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0066"/>
                </a:solidFill>
                <a:latin typeface="Times New Roman"/>
              </a:rPr>
              <a:t>Работа с текстом учебник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689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честь раздел «Части света». В чём отличие частей света от материков? Назовите части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лнить таблиц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42920" y="2781360"/>
          <a:ext cx="6985080" cy="3384360"/>
        </p:xfrm>
        <a:graphic>
          <a:graphicData uri="http://schemas.openxmlformats.org/drawingml/2006/table">
            <a:tbl>
              <a:tblPr/>
              <a:tblGrid>
                <a:gridCol w="3492720"/>
                <a:gridCol w="349236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св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а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ная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ая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аркт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660066"/>
                </a:solidFill>
                <a:latin typeface="Times New Roman"/>
              </a:rPr>
              <a:t>Работа с картами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ть задания №№1-3 (стр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креп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то изучает география материков и океан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казать по карте материки и части с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е на дом 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картой мира  (уметь показывать материки, океаны и части све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13:46:58Z</dcterms:created>
  <dc:creator>Demon</dc:creator>
  <dc:description/>
  <dc:language>en-US</dc:language>
  <cp:lastModifiedBy>User</cp:lastModifiedBy>
  <dcterms:modified xsi:type="dcterms:W3CDTF">2013-01-17T18:12:59Z</dcterms:modified>
  <cp:revision>3</cp:revision>
  <dc:subject/>
  <dc:title>Что изучают в курсе «География материков и океанов»?</dc:title>
</cp:coreProperties>
</file>