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2F0-7107-4F1F-882F-53087A3C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3D8-3824-46F2-AB8A-30AF2BD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AAE-FEF8-47B2-8582-2950C9A8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3E8-FB8D-49D7-B0F2-4F08A475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893-44FA-45BF-872A-F6C4AFA0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549-1626-4570-8CC9-CD316E4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142-DA4C-470A-9681-73DAE75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9C6-F1B8-4C85-92E5-008D884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3ED8-A1BF-4AFD-9AB8-AEA9905A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9CAA-6755-4F35-89DA-BEF595B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B8D-1D46-4C31-9606-2B1D31E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EFE-6901-46C4-9F07-3EF198A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658-2CC3-417C-A498-227FFC8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747-641E-441B-AEAA-CC50B6B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CD40-B803-4E2D-AB48-0152FD2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B895-96A1-4FD8-97E1-7DBBE13D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374-FC4A-48D4-8446-3252D0DD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F3C-0649-490C-90B1-51E2D9A2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C07-2A14-412D-9035-EF211AD8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EF9-6A79-4467-90B1-A21286D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E3F-6310-45FA-A8FA-C140D56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BF6-7A5A-4908-8D61-0D746D2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D86-9681-4E51-87A1-B5B5A87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EFE-7BD5-4D1B-A0DD-1E496C0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CBB-EA61-4744-91B9-2FD88E4860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B5F4-76CB-46DC-A51B-885D479029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Что изучают в курсе «География материков и океанов»?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508720" y="4508640"/>
            <a:ext cx="2720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ьева Е.А. -учитель географии МБОУ    СОШ п.Солидарность Елецкого муниципального района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: 1) определить предмет изучения курса «География материков и океанов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ознакомиться с материками и частями с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асширять кругозор школьников и прививать интерес к изучаем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: карта полушарий, атласы, учебники,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ступаем к изучению нового курса – географии материков и океанов. Это один из интереснейших курсов географии. В этом году мы познакомимся с материками и островами, океанами, горами и равнинами. Вы сами ответите на вопросы: почему на экваторе идут дожди, а в Сахаре – сухо. Почему в разных районах Земли обитают и живут разные растения и животные и на многие другие вопросы. Давайте вспомним, что такое материки, океаны и ост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6520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08908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635280" y="189000"/>
            <a:ext cx="2089080" cy="109692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i="1" lang="ru-RU" sz="3800" spc="-1" strike="noStrike">
                <a:solidFill>
                  <a:srgbClr val="660066"/>
                </a:solidFill>
                <a:latin typeface="Times New Roman"/>
              </a:rPr>
              <a:t>Работа в тетради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(изображение схемы)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ета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и                                Оке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                           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                          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   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                              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ебя по учебнику (работа с текстом учебника: «Материки (континенты) и острова) стр.5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20364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651672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ие знания необходимы для того, чтобы предвидеть последствия вмешательства человека в природу, помня, что каждый из нас в ответе за планету, на которой мы жив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Земли –             510 млн. кв.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суши – 149 млн. кв.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океанов и материков (см. рис.2 и рис.3 на стр. 6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66"/>
                </a:solidFill>
                <a:latin typeface="Times New Roman"/>
              </a:rPr>
              <a:t>Работа с текстом учебник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689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есть раздел «Части света». В чём отличие частей света от материков? Назовите части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лнить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781360"/>
          <a:ext cx="6985080" cy="338436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ркт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0066"/>
                </a:solidFill>
                <a:latin typeface="Times New Roman"/>
              </a:rPr>
              <a:t>Работа с картам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я №№1-3 (стр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изучает география материков и оке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казать по карте материки и части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 на дом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картой мира  (уметь показывать материки, океаны и части св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Vasilyeva E.A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46:58Z</dcterms:created>
  <dc:creator>Demon</dc:creator>
  <dc:description/>
  <dc:language>en-US</dc:language>
  <cp:lastModifiedBy>User</cp:lastModifiedBy>
  <dcterms:modified xsi:type="dcterms:W3CDTF">2013-01-17T18:12:59Z</dcterms:modified>
  <cp:revision>3</cp:revision>
  <dc:subject/>
  <dc:title>Что изучают в курсе «География материков и океанов»?</dc:title>
</cp:coreProperties>
</file>