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A6D-EB03-4923-BA57-4C15BAAC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98B-461B-43F1-9FE2-C758655E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16F24-A056-40D4-B7EE-36AA45CA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025AE-90A2-4094-8594-BEC0C81E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BFBCF-FAF1-4E2A-ABA4-41C55238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5C310-D6AE-4AFC-8905-82245A4E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B9DDD-92A7-4382-A6FA-526477D2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13828-0E97-417C-BDFF-4E768924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ADE1E-308B-4F3E-B689-E44064DC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F6919-C350-4568-B50B-888B1B4F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40DE9-551A-4AE4-A42B-DE55C83A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BF85D-ECC4-4863-AAF5-C06C3749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1E9-BC84-4F8B-8846-A62BF1EB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C4535-EE85-4EEB-8478-45AC601C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69947-7B7D-4306-8909-51D3232E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E5C05-5EE1-4F5A-B914-5044C6BE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87C98-ADBF-44F3-B7B5-ED12C405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6B18A-DE58-4C31-BD71-A8597C9C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CC500-0D83-41D8-89D1-D837AA9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819F1-AD7E-4506-9CEE-35C7F46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40EA4-9170-4E47-9DFB-2C92EFB7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5A191-028A-4476-B3E5-892FED64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6F028-E09C-4172-807E-EEFE98BF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B7A-336B-4D44-948E-2C42AA9C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7AF55-1002-4829-8D3A-F6479B4B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AFE1E-7760-448F-BE44-5F04C45D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F87B8-301B-4869-8353-C42C1AB3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4919F-D14A-4A6F-B880-34DDF68B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79B5C-AB3C-40D8-BA6C-F36C1AC7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1AA6C-6B2C-4AF5-9D42-10EB70D4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1DA7B-5DDA-412E-9D87-33750973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D8477-1560-4906-A03C-FDABBD55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36B6F-54AD-462C-A1EE-51DA4510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91C8D-DADB-4233-97DC-41A6B01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E4E7-B5E2-45EB-B236-879B0A42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77478-1BD7-4400-BFD1-920D0D54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62CAA-CE6F-4024-83C5-0C157807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37661-CB70-4194-AC0D-915CDB35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19872-57C7-4129-84F8-997855F3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F6A54-1AF3-4288-9479-082921DB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DDBDC-CF94-4891-BB6E-260A32AC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6C08B-F7B6-4BFA-8F8F-0F0B1782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57B4C-6970-47FC-8829-7C849191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4B5D6-7433-4E1D-B8D2-462679C8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702EF-BEAE-4F20-9278-96AFB4A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5A1B-6D2A-474F-91FA-75DF55A9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1011F-DA82-477C-83D2-3C24BEC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C1329-1A1D-4F76-8B4E-A018604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C902F-88DD-4F06-B709-FF848FFC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A5442-87F5-4CFA-ADD4-8A50B8F0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50FCC-16DF-447F-AABC-4BADC2C0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C4FE-DB8B-42A6-868C-F44B2F9E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F7F0-5E02-4311-A55F-AEE7AE41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21A4-EAFD-4B0D-AD79-049C4E7D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A24E-D07E-406F-A776-7491FC37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6D20-9CD0-4A3F-A577-D617AF82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75C-D3E2-4B75-9D02-9A29436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4C7F-EF8E-4D8D-BF7B-EB12BF85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248D-0AB8-47DF-AAEA-82E879A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C7AB-F0BD-4DF4-AB3C-24E5C80E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A38B-A341-470C-83A8-DE3B6B08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C68D-620B-4FC0-BFE8-E0247E63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0481-40E6-4B5F-9854-A8EEDDB7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7668-2583-490A-9A57-9F786580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A7E74-9AA0-47B9-8556-17C50951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D8C2-1EC2-4061-BE2B-FA5B4A90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AF8C-EC29-4E28-B335-4172BD1F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097-8259-4C3B-886A-C2C008B3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FC0AA-0E7C-4F8F-9E71-EAA2E185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59D6-5B5D-4142-9720-B57B0C0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7F26-D2D6-461D-842D-564F0678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E4D9-8556-4040-84B4-45A80A3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F00B-2F61-477B-97F3-9D7F0827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14D0-C416-4359-89A3-86D4A289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099A-DC15-4F5C-AE58-EF2CBCF3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B611-BB1D-4AEA-8D48-06CD704F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8703F-A0B3-45FC-895B-F2334D8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E44F-C329-4287-9181-319D0E1B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23D-F7EC-4975-9645-BF2CA0BE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474E-D533-4AD6-B273-706808E0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1A10-F14D-4BC6-8B42-7A3DF63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C637-8A3B-4C4F-8A8C-2E7031C9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BF128-6D96-407E-A7D8-B5A21E2F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63C2-26A9-4E98-B096-FAD43759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C558-3088-4333-ACC1-A8AED26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909A-D01B-4482-989A-B2CE4AD5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5F2FA-CB05-40C1-A152-376AC2B5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524A-DE38-4346-B3A4-78B20C93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77C2D-30BF-4EF2-B3EC-7F35917F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103-6CF4-4010-AF2F-2D7FEFEA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6A09-CA06-43FA-99DB-518AF538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3DB18-B31C-4729-AACD-8570F178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EB6B5-FFB5-407A-B5C2-CEE8899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D022C-774C-4528-9EB3-4F6354B1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FAEB-8EAF-4550-B8FF-AAF5FE66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57E11-B07D-442A-B861-F8108671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361C9-43E3-4DBA-84EF-4619EF4D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57637-CE5C-4EFC-BAE6-AFC4CCB4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67E36-E45F-4FA2-B21C-10CB32F2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967B7-0CB4-4272-B304-8589EF5B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ABC-CC70-47A2-BB02-A626824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EBB1-95EF-4202-BBE1-775D3BF5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BA05E-BD7D-4D29-91CF-965298DB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19883-4456-45BC-A949-773CCB7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02C7-C14E-4732-8E26-2971F27D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8D25-4869-42CC-AC55-860725E9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47625-9BF1-436B-811C-EADBC300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E344-1B04-43E7-B96E-EEC74D3F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AAEFC-73AB-4F01-9116-22864692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AE52-9463-4392-A7F8-41C764B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01DAD-8500-40BF-AB05-862C4386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6BD-7C2E-4219-8907-DE410B3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F3A8-539B-4082-A678-EF7EF41C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405E6-9BDA-4444-A976-6AB93E79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21D00-BDB2-4145-9ECE-592300CF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5762F-43E3-4C53-B5E1-A21FED7E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239B0-F27B-44A7-AFB5-4454CB19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1A489-E207-4FA5-89E9-32801562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E7A55-3B91-4BCF-A0B2-6F6A92C5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3E080-449B-4962-BB46-62357BE9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17FAB-AABE-4B72-95EE-AC416CA9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32C51-CC91-49EF-9703-4C05489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C71-43AF-4EF2-A41D-6EDDAC8F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BDFF-CFCC-4AE3-AB0B-90D9E409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7019E-5A39-4156-8606-0EEE78D9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05262-A05C-458A-B42D-FA577B55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22F4-3EF1-47A6-87B0-3DD5FD1A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EDC8-25D0-4748-BEC9-48CFF048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AE03B-9076-4243-AE2F-4C986B0B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0020-37F2-43FA-8CFB-B675FDCC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1692-B4F5-4261-8228-5B2FE58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0CFA8-E4FB-420F-8528-2702F577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E88CE-667B-4B66-A144-A833B43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BB9-315F-44CD-BF52-D47D2C8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526CE-4EB1-4102-AD64-B55EE9CD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8A136-2AAD-48ED-8B9C-344C2FF4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F6CE3-0EE4-4827-986D-A6A6276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AD5D4-7B7B-4B77-98E8-165DA82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D88A9-8C7F-47AF-8397-14D1E1D4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A6D67-E176-4782-BB91-F1A62BA8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BC1C-9C74-4417-99F0-0DBF8D02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0D2C7-DCDA-42F8-95CF-AAAE0A21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A0BE2-C70D-47F0-B925-2DF5FF74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B09DA-44C9-415B-B543-8CCC0C6F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AFD6-A3A8-40D7-BFC2-BD6A64E9CC6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DD8C-942B-460C-8113-AC61851898D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6DA6-C3E9-4F0B-B4AD-D9E6FD8B82C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89DE-A717-497F-807D-98E2558E935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F3F3-5ECE-4A66-882C-7F7BB2904F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5CA-0270-4340-A8F3-41424B72982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F959-BB24-4A90-B162-DAF6B0F39CB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B3FA-95AB-4D1B-A898-8B6BE992E30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C14C-9F2C-4F4E-BF60-6C56CD5726B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81CE-B762-4101-B30C-E538B40F30A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7542-26B6-4070-84A7-35E99C676DFD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E539-F50E-4994-AE4D-C725DFE0FDF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643360" y="3214800"/>
            <a:ext cx="32144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3.10.201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46b86"/>
                </a:solidFill>
                <a:latin typeface="Georgia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46b86"/>
                </a:solidFill>
                <a:latin typeface="Georgia"/>
              </a:rPr>
              <a:t>ИСТОРИЯ ДРЕВНЕГО МИР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Повторение глав 1, 2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chasi.avi" descr=""/>
          <p:cNvPicPr/>
          <p:nvPr/>
        </p:nvPicPr>
        <p:blipFill>
          <a:blip r:embed="rId1"/>
          <a:stretch/>
        </p:blipFill>
        <p:spPr>
          <a:xfrm>
            <a:off x="324000" y="2906640"/>
            <a:ext cx="4824360" cy="36165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100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eorgia"/>
              </a:rPr>
              <a:t>Как жили земледельцы и ремесленники в Египте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лава тебе, Нил, приходящий, чтобы оживить Египет!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рошающий землю, владыка рыб и птиц, творец зерна и травы для скот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Если он медлит, жизнь замирает и люди гибнут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огда он приходит, земля ликует и все живое в радост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Еда появляется после его разлив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се живут благодаря ему и богатства обретают по его вол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Georgia"/>
              </a:rPr>
              <a:t>- Почему египтяне писали подобные хвалебные песни Нилу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Налог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платеж чем-либо (деньгами, частью урожая, скота, сделанной продукцией) господину зависимым населением 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продукты труда, которые крестьяне и ремесленники отдавали в казну фараон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Жители Егип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Содержимое 5" descr="Скульптурный портрет писца Каи.bmp"/>
          <p:cNvPicPr/>
          <p:nvPr/>
        </p:nvPicPr>
        <p:blipFill>
          <a:blip r:embed="rId1"/>
          <a:stretch/>
        </p:blipFill>
        <p:spPr>
          <a:xfrm>
            <a:off x="4357800" y="1571760"/>
            <a:ext cx="4532040" cy="5043240"/>
          </a:xfrm>
          <a:prstGeom prst="rect">
            <a:avLst/>
          </a:prstGeom>
          <a:ln w="0">
            <a:noFill/>
          </a:ln>
        </p:spPr>
      </p:pic>
      <p:pic>
        <p:nvPicPr>
          <p:cNvPr id="638" name="Содержимое 3" descr="Статуя царского сановника Каапера.bmp"/>
          <p:cNvPicPr/>
          <p:nvPr/>
        </p:nvPicPr>
        <p:blipFill>
          <a:blip r:embed="rId2"/>
          <a:stretch/>
        </p:blipFill>
        <p:spPr>
          <a:xfrm>
            <a:off x="285840" y="1571760"/>
            <a:ext cx="450036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Жители Егип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0" name="Содержимое 3" descr="Фреска.bmp"/>
          <p:cNvPicPr/>
          <p:nvPr/>
        </p:nvPicPr>
        <p:blipFill>
          <a:blip r:embed="rId1"/>
          <a:stretch/>
        </p:blipFill>
        <p:spPr>
          <a:xfrm>
            <a:off x="714240" y="1479600"/>
            <a:ext cx="8001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Жители Егип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Содержимое 3" descr="Пахота, сев, молотьба.bmp"/>
          <p:cNvPicPr/>
          <p:nvPr/>
        </p:nvPicPr>
        <p:blipFill>
          <a:blip r:embed="rId1"/>
          <a:stretch/>
        </p:blipFill>
        <p:spPr>
          <a:xfrm>
            <a:off x="214200" y="1598760"/>
            <a:ext cx="4572000" cy="5087880"/>
          </a:xfrm>
          <a:prstGeom prst="rect">
            <a:avLst/>
          </a:prstGeom>
          <a:ln w="0">
            <a:noFill/>
          </a:ln>
        </p:spPr>
      </p:pic>
      <p:pic>
        <p:nvPicPr>
          <p:cNvPr id="643" name="Содержимое 3" descr="Шадуф.bmp"/>
          <p:cNvPicPr/>
          <p:nvPr/>
        </p:nvPicPr>
        <p:blipFill>
          <a:blip r:embed="rId2"/>
          <a:stretch/>
        </p:blipFill>
        <p:spPr>
          <a:xfrm>
            <a:off x="4500720" y="1622520"/>
            <a:ext cx="448596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Повторяем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какие группы делилось население Древнего Египта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е ремесленные специальности существовали в Древнем Египт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то обозначает понятие «налоги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 называли сборщиков налогов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Домашнее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13840" y="1526760"/>
            <a:ext cx="4357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§ 6-7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авить рассказ от имени египетского земледельца о том, как прошел его день. На каких работах он был занят? Что ел на обед? Опишите дом, в котором он жил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Рисунок 3" descr="Фараон Эхнатон.bmp"/>
          <p:cNvPicPr/>
          <p:nvPr/>
        </p:nvPicPr>
        <p:blipFill>
          <a:blip r:embed="rId1"/>
          <a:stretch/>
        </p:blipFill>
        <p:spPr>
          <a:xfrm>
            <a:off x="4495680" y="3000240"/>
            <a:ext cx="44290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1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2249640"/>
            <a:ext cx="63212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6349"/>
                </a:solidFill>
                <a:latin typeface="Georgia"/>
              </a:rPr>
              <a:t>Подумай!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0" name="Picture 6" descr="ag00317_"/>
          <p:cNvPicPr/>
          <p:nvPr/>
        </p:nvPicPr>
        <p:blipFill>
          <a:blip r:embed="rId1"/>
          <a:stretch/>
        </p:blipFill>
        <p:spPr>
          <a:xfrm>
            <a:off x="6912000" y="260280"/>
            <a:ext cx="1793880" cy="2305080"/>
          </a:xfrm>
          <a:prstGeom prst="rect">
            <a:avLst/>
          </a:prstGeom>
          <a:ln w="0">
            <a:noFill/>
          </a:ln>
        </p:spPr>
      </p:pic>
      <p:sp>
        <p:nvSpPr>
          <p:cNvPr id="611" name="Содержимое 2"/>
          <p:cNvSpPr/>
          <p:nvPr/>
        </p:nvSpPr>
        <p:spPr>
          <a:xfrm>
            <a:off x="301680" y="2349360"/>
            <a:ext cx="8504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В каком году нашего летоисчисления был казнен Иисус Христос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каком век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давно это был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метьте на ленте време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6349"/>
                </a:solidFill>
                <a:latin typeface="Georgia"/>
              </a:rPr>
              <a:t>Подумай!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6" descr="ag00317_"/>
          <p:cNvPicPr/>
          <p:nvPr/>
        </p:nvPicPr>
        <p:blipFill>
          <a:blip r:embed="rId1"/>
          <a:stretch/>
        </p:blipFill>
        <p:spPr>
          <a:xfrm>
            <a:off x="6912000" y="260280"/>
            <a:ext cx="1793880" cy="2305080"/>
          </a:xfrm>
          <a:prstGeom prst="rect">
            <a:avLst/>
          </a:prstGeom>
          <a:ln w="0">
            <a:noFill/>
          </a:ln>
        </p:spPr>
      </p:pic>
      <p:sp>
        <p:nvSpPr>
          <p:cNvPr id="614" name="Содержимое 2"/>
          <p:cNvSpPr/>
          <p:nvPr/>
        </p:nvSpPr>
        <p:spPr>
          <a:xfrm>
            <a:off x="301680" y="2349360"/>
            <a:ext cx="8504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Древне римский писатель Тит Ливий, книги «История Рима от основания города», родился в 59 г. до н.э., а умер в 17 г.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каком возрасте он умер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давно это был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метьте на ленте време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6349"/>
                </a:solidFill>
                <a:latin typeface="Georgia"/>
              </a:rPr>
              <a:t>Подумай!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6" descr="ag00317_"/>
          <p:cNvPicPr/>
          <p:nvPr/>
        </p:nvPicPr>
        <p:blipFill>
          <a:blip r:embed="rId1"/>
          <a:stretch/>
        </p:blipFill>
        <p:spPr>
          <a:xfrm>
            <a:off x="6912000" y="260280"/>
            <a:ext cx="1793880" cy="2305080"/>
          </a:xfrm>
          <a:prstGeom prst="rect">
            <a:avLst/>
          </a:prstGeom>
          <a:ln w="0">
            <a:noFill/>
          </a:ln>
        </p:spPr>
      </p:pic>
      <p:sp>
        <p:nvSpPr>
          <p:cNvPr id="617" name="Содержимое 2"/>
          <p:cNvSpPr/>
          <p:nvPr/>
        </p:nvSpPr>
        <p:spPr>
          <a:xfrm>
            <a:off x="301680" y="2349360"/>
            <a:ext cx="8504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Древне римский историк Тацит в своей книге пишет, что начинает повествование с 831 года от «основания нашего города» (т.е. основания Рима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ыл ли этот год до Рождества Христова или посл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менно это был год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метьте на ленте време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643360" y="3214800"/>
            <a:ext cx="32144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3.10.201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46b86"/>
                </a:solidFill>
                <a:latin typeface="Georgia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46b86"/>
                </a:solidFill>
                <a:latin typeface="Georgia"/>
              </a:rPr>
              <a:t>ИСТОРИЯ ДРЕВНЕГО МИР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16349"/>
                </a:solidFill>
                <a:latin typeface="Georgia"/>
              </a:rPr>
              <a:t>Древний Египет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d16349"/>
                </a:solidFill>
                <a:latin typeface="Georgia"/>
              </a:rPr>
              <a:t>Государство на берегах Нила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Рисунок 3" descr="Египетские пирамиды.bmp"/>
          <p:cNvPicPr/>
          <p:nvPr/>
        </p:nvPicPr>
        <p:blipFill>
          <a:blip r:embed="rId1"/>
          <a:stretch/>
        </p:blipFill>
        <p:spPr>
          <a:xfrm>
            <a:off x="285840" y="2679840"/>
            <a:ext cx="521496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От первобытности к цивилизаци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осударство, территория, город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Царь, войско, казн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еннос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емледелие, рек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Рисунок 3" descr="Охота в Нильских зарослях_роспись гробницы в Фивах.bmp"/>
          <p:cNvPicPr/>
          <p:nvPr/>
        </p:nvPicPr>
        <p:blipFill>
          <a:blip r:embed="rId1"/>
          <a:stretch/>
        </p:blipFill>
        <p:spPr>
          <a:xfrm>
            <a:off x="5143680" y="2139840"/>
            <a:ext cx="37004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Страна Египе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143320" y="1428480"/>
            <a:ext cx="366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рта (стр. 31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ил (стр. 33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апирус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рог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ельт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редиземное мор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ивийская пустын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азис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емфис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ара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Рисунок 3" descr="Иероглифы.bmp"/>
          <p:cNvPicPr/>
          <p:nvPr/>
        </p:nvPicPr>
        <p:blipFill>
          <a:blip r:embed="rId1"/>
          <a:stretch/>
        </p:blipFill>
        <p:spPr>
          <a:xfrm>
            <a:off x="285840" y="1523880"/>
            <a:ext cx="4572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Посмотри на карту (стр. 31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ое государство описывает в своих воспоминаниях Диодор Сицилийский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де находится Египет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ем защищен Египет с Запада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ем защищена восточная часть страны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м морем омывается северная часть страны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ой рельеф имеет страна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Посмотри на карту (стр. 31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14200" y="1428480"/>
            <a:ext cx="8715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 какой реке идет речь в документе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Где берет свое начало река Нил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уда впадает Нил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Что такое дельта реки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Что происходит с рекой, когда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инается летнее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лнцестояние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акие занятия существовали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 жителей Египта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то управлял Египтом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3" descr="Палетка царя Нармера.bmp"/>
          <p:cNvPicPr/>
          <p:nvPr/>
        </p:nvPicPr>
        <p:blipFill>
          <a:blip r:embed="rId1"/>
          <a:stretch/>
        </p:blipFill>
        <p:spPr>
          <a:xfrm>
            <a:off x="5072040" y="2409840"/>
            <a:ext cx="38433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7:34:24Z</dcterms:created>
  <dc:creator>Татьяна</dc:creator>
  <dc:description/>
  <dc:language>en-US</dc:language>
  <cp:lastModifiedBy>MSI</cp:lastModifiedBy>
  <dcterms:modified xsi:type="dcterms:W3CDTF">2011-10-02T11:02:07Z</dcterms:modified>
  <cp:revision>11</cp:revision>
  <dc:subject/>
  <dc:title>Древний Египет  Государство на берегах Нила</dc:title>
</cp:coreProperties>
</file>