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F84-F033-47AC-B233-B0A2B6DF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280-F4BC-42D4-8B02-0780FAB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24AF9-5B90-40D6-A019-8244680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1EE1D-446D-45D4-8573-C93FC122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3FEF8-962C-4596-AC14-A07086A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3F7AF-8A44-4296-8087-E03C300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9D99C-6E68-47E3-83EF-4370C73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C2BB8-873E-48D8-B533-9AE17CC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255BF-0B4B-401D-8E18-9FA24765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D32D8-E753-44BF-BE1F-5C6FD3F3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7B05D-1183-405B-89FA-D552856E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6CFEF-6B50-48F3-8394-B8F49654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67B-BBB5-4340-A727-20FA6D67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AF60D-192E-4C1A-8ADC-7A14A99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D2DED-D071-4C9E-ADE2-63341F85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88437-BF0F-4FA8-91D0-D1CEB23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AF973-904F-4871-B6A8-9791A63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480BC-31A0-4F02-B722-061EEED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6A307-EDFD-4CC0-91E2-B8CDCDE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09F1A-4D2D-41C3-B11F-0849A5B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4D89D-F852-46A6-89B5-EA35CBD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B5849-883A-47E3-AC98-5EB8DAE6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410CE-909E-4E3C-968D-807F1518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899-88EE-4A1E-AF59-2825673E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438ED-2A69-4131-B562-EE9069A1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38FCD-F3E8-41FC-B21B-90F7D76D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D5F3C-31BB-4B2E-9E79-19CCF49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41C4-E53A-4376-BA1B-1212222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01E5-0B11-40E5-AE4F-EF4B2A9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686CC-8379-40E5-8BCD-9AF2B031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01974-C7F7-49E9-8ED5-3E09007D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1E718-39C3-4975-99E1-C4C6560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0B95E-ED1A-424C-B989-62B54CD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37C5C-E110-4AAA-98E7-5EDD5BC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A8A5-2F70-4C57-BAC8-87A6687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F6105-9F9B-4FE8-B479-9C4AFB8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C117-D81D-4EC5-B004-F9CD1F25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97B64-B873-4E90-9AB2-74646EA4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11882-622A-4D7B-AE52-5B5ABDC4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66D1C-A197-4DF3-B1D0-A68E2D21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AF621-0608-4ACD-9FFA-82417F5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8A833-B292-4612-91C7-B9F08A97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8E42E-4D22-4A48-B088-3B3BFCC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D878F-C7F5-4271-89E8-DEAD3F5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00DB9-7FD4-4776-BCA2-21F8F73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F389-F4DA-49B7-B0E3-3CDC875C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4DAA2-B374-4E09-95C5-596923F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C0522-9CE5-49C4-A36D-535C7C5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2E313-279A-4C0B-BF4B-A6C51BCF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FD430-AD7B-4CF7-BB99-3FAEC7E9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DF89C-36F9-419D-B4E2-F1E52E67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E80-F8D6-41C2-9FC5-CC30AB7C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12B7-F24E-49D3-BC07-87967E3D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E4BD-0618-4D20-A025-6AB2FB71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14C-3831-4F10-B989-DE0ED713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9AEF-EBE1-4B7A-BBFF-EFA9967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656-B95A-4D5E-BF6C-D98A4FA5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7322-97BB-454B-A6E9-827C207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4A30-B69F-4786-B0C1-73C8968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F109-1FFA-4B40-94FA-EA7FCD0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84CC-AD9A-475E-9BE0-9DD00942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841B-ADA2-409F-B7A1-CB6D4231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DF50-CF0A-4BFF-A57D-34D552D8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8940-793C-477E-99FC-00304F39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5C05-EC35-4B57-91CD-892ED16A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2A70-9D98-419C-8C86-FC659357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11A3-C7EF-4592-B4A4-78F806F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7DE-AC76-4A73-8645-75BC38E4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7CFB-8FBF-4740-8F36-B12D9DA2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27C1-FDCC-4398-8B2F-F2CFDF9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3B53-182C-4928-A7EF-4F0F6C9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D777-7F89-4913-8D50-D6EA24E3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6938-DA79-4A4E-8541-A49B439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98F7-25CE-4DE5-BF6B-65FF4297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15A7-AC26-41A3-BDB8-17C79D72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DD0B-1274-483A-83A0-6C282B90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CE49-889B-4E84-AF2A-5BD2989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7E06-698D-4677-8A17-A44E47D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039-736A-4BB1-840A-8B211F3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22E6-2397-4E22-9023-748C831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B3BA-B44B-4D77-847E-55679B9D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CE51-DE65-4E3A-ACFB-31BBD5D8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8D88-6A2B-4D03-9A30-91D589D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783A-20CD-46CC-81EA-FB8B829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265E-5E57-4114-BC4E-FAA458C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37C9-9497-4093-B14D-9B060BC2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2BE0-DAEB-41E5-AE1B-2C544555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D2C9-1839-4AEA-9E3B-814848EA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7E41-F858-410B-9A8C-46E38CF6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BB4-6700-48C0-AB3B-292023E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F187-3074-42E9-B7C7-54508A21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1CDA-28AD-4220-BB35-D72A3D1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EF9E-2C7F-4DCE-8663-C789A3EC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B299-C6CF-41BB-A2A2-A3ECBBB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A746-8909-4538-BDAA-B15A516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BF21-9EA8-4644-842A-9449C7C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5374-8BAD-4567-9950-05A6444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C7E1-82C9-4945-ADE0-E8F0B9F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452C-47A9-4DFE-9FD5-099627C0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4CD2-A5F5-45BE-8D1E-E5689AC1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A64-6AC4-4A58-A98D-EB46A1E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F97DC-9504-42EE-9B3B-545D5916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C432-E759-4BB6-9023-FF8C210E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5526-99F4-4904-8360-CCEA486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FB19-F180-4E96-A6B6-98DFD6A6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5CEC-72CB-412B-A4B9-1EF0DF61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AE49-6A8C-4FA6-8A3C-8EE1A82C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A39F5-3BB6-4D28-98A7-3A1145D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C6A8B-97FF-449C-98F8-D5DF496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C037E-3B78-4D48-892F-BAAEE18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3A38-3AC1-44FE-B4DB-B7627ED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991-51BB-4826-B460-10E6192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4BAC-D569-4673-BA0B-19C588B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BA03-C841-4CDF-B868-CAC916B3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DEA9-186D-4B85-B208-D6B7A192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8017-DA11-411F-A936-94972223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FA8A-0B34-4DE4-8450-F5216D8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1F21-2C09-4ECC-AC26-A0F0EF6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9172-ED0B-4C0E-A42F-E8C9B28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CEF2-D047-4C59-8C3F-C3B9425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E196-6027-48AE-A78D-B89FE515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1DE17-63D8-4E93-B5DC-0DFF175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623-83B7-4F44-87A0-3948856D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436A-B2AD-4A8B-9590-B1B4536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2B02-5261-4D3A-8DE0-92FAFA7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E0BA-2738-42EF-AD5F-357FAC5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5AF46-5058-4655-86A3-A8AEBC2C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6FE5-69A3-4CE6-AEC2-17666D97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05B2-A4CF-4950-91CF-968A13B8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D3ABA-A87C-4126-827D-DDCF078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4A32-F9F7-41B5-B6B3-5C879F3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D8BD-9662-4D96-98EF-4ACE24CF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70D9-1F69-448E-85D0-5CCEAF8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CAD-B40B-416F-8AF4-FF14255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0979-17D0-497A-B0BE-C29DAF6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5783-23AC-4CC9-A79C-E5160D4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1B13-59AF-4396-80AB-12CC426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0BB7-B25F-4804-B732-7B1E892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EADB-1CED-4AD7-BCAE-03C44B9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CACE-C00B-41DE-8829-C59F12A2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9554-4677-4798-8D1B-00E748F9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F4AFA-C814-45AB-82B5-C1F9F33D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EAF14-3FA7-4C23-8C8F-642223C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2DBCE-FF55-471E-90DA-FEAD477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09A-54CC-4FAE-A1F3-C10233C4489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A32-1FF5-4458-8018-89BEFDD928A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84D-3356-445A-83F6-7602277101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0EA-07AD-46C1-B310-EBB4EB263F5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45E-8669-48A4-AD2E-3630CF165FB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C6B-BF00-4529-AAF9-487DA5293A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888E-92B5-4546-BCB2-3330FB41CD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C12C-B3F4-4765-AAA0-7E20095A4A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06A4-BDBE-434D-9191-4559775ABD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DD0-B98A-4E2B-9CD0-7D6926AC73B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516A-1C0E-4FF6-B7A2-8634A704B19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B93-1D28-4519-885E-F3C1C792AAC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643360" y="3214800"/>
            <a:ext cx="3214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3.10.20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Повторение глав 1, 2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chasi.avi" descr=""/>
          <p:cNvPicPr/>
          <p:nvPr/>
        </p:nvPicPr>
        <p:blipFill>
          <a:blip r:embed="rId1"/>
          <a:stretch/>
        </p:blipFill>
        <p:spPr>
          <a:xfrm>
            <a:off x="324000" y="2906640"/>
            <a:ext cx="4824360" cy="3616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00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eorgia"/>
              </a:rPr>
              <a:t>Как жили земледельцы и ремесленники в Египте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лава тебе, Нил, приходящий, чтобы оживить Египет!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рошающий землю, владыка рыб и птиц, творец зерна и травы для скот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он медлит, жизнь замирает и люди гибнут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огда он приходит, земля ликует и все живое в радост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да появляется после его разлив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се живут благодаря ему и богатства обретают по его вол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Georgia"/>
              </a:rPr>
              <a:t>- Почему египтяне писали подобные хвалебные песни Нилу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Налог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платеж чем-либо (деньгами, частью урожая, скота, сделанной продукцией) господину зависимым населением 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продукты труда, которые крестьяне и ремесленники отдавали в казну фарао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Содержимое 5" descr="Скульптурный портрет писца Каи.bmp"/>
          <p:cNvPicPr/>
          <p:nvPr/>
        </p:nvPicPr>
        <p:blipFill>
          <a:blip r:embed="rId1"/>
          <a:stretch/>
        </p:blipFill>
        <p:spPr>
          <a:xfrm>
            <a:off x="4357800" y="1571760"/>
            <a:ext cx="4532040" cy="5043240"/>
          </a:xfrm>
          <a:prstGeom prst="rect">
            <a:avLst/>
          </a:prstGeom>
          <a:ln w="0">
            <a:noFill/>
          </a:ln>
        </p:spPr>
      </p:pic>
      <p:pic>
        <p:nvPicPr>
          <p:cNvPr id="638" name="Содержимое 3" descr="Статуя царского сановника Каапера.bmp"/>
          <p:cNvPicPr/>
          <p:nvPr/>
        </p:nvPicPr>
        <p:blipFill>
          <a:blip r:embed="rId2"/>
          <a:stretch/>
        </p:blipFill>
        <p:spPr>
          <a:xfrm>
            <a:off x="285840" y="1571760"/>
            <a:ext cx="45003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Содержимое 3" descr="Фреска.bmp"/>
          <p:cNvPicPr/>
          <p:nvPr/>
        </p:nvPicPr>
        <p:blipFill>
          <a:blip r:embed="rId1"/>
          <a:stretch/>
        </p:blipFill>
        <p:spPr>
          <a:xfrm>
            <a:off x="714240" y="1479600"/>
            <a:ext cx="8001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Жители Егип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Содержимое 3" descr="Пахота, сев, молотьба.bmp"/>
          <p:cNvPicPr/>
          <p:nvPr/>
        </p:nvPicPr>
        <p:blipFill>
          <a:blip r:embed="rId1"/>
          <a:stretch/>
        </p:blipFill>
        <p:spPr>
          <a:xfrm>
            <a:off x="214200" y="1598760"/>
            <a:ext cx="4572000" cy="5087880"/>
          </a:xfrm>
          <a:prstGeom prst="rect">
            <a:avLst/>
          </a:prstGeom>
          <a:ln w="0">
            <a:noFill/>
          </a:ln>
        </p:spPr>
      </p:pic>
      <p:pic>
        <p:nvPicPr>
          <p:cNvPr id="643" name="Содержимое 3" descr="Шадуф.bmp"/>
          <p:cNvPicPr/>
          <p:nvPr/>
        </p:nvPicPr>
        <p:blipFill>
          <a:blip r:embed="rId2"/>
          <a:stretch/>
        </p:blipFill>
        <p:spPr>
          <a:xfrm>
            <a:off x="4500720" y="1622520"/>
            <a:ext cx="4485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вторя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какие группы делилось население Древнего Египт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ремесленные специальности существовали в Древнем Египт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 обозначает понятие «налоги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 называли сборщиков налогов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13840" y="1526760"/>
            <a:ext cx="4357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§ 6-7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авить рассказ от имени египетского земледельца о том, как прошел его день. На каких работах он был занят? Что ел на обед? Опишите дом, в котором он жил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Рисунок 3" descr="Фараон Эхнатон.bmp"/>
          <p:cNvPicPr/>
          <p:nvPr/>
        </p:nvPicPr>
        <p:blipFill>
          <a:blip r:embed="rId1"/>
          <a:stretch/>
        </p:blipFill>
        <p:spPr>
          <a:xfrm>
            <a:off x="4495680" y="3000240"/>
            <a:ext cx="44290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2249640"/>
            <a:ext cx="63212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1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В каком году нашего летоисчисления был казнен Иисус Христо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каком век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давно это был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4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Древне римский писатель Тит Ливий, книги «История Рима от основания города», родился в 59 г. до н.э., а умер в 17 г.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каком возрасте он умер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давно это был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6349"/>
                </a:solidFill>
                <a:latin typeface="Georgia"/>
              </a:rPr>
              <a:t>Подумай!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6" descr="ag00317_"/>
          <p:cNvPicPr/>
          <p:nvPr/>
        </p:nvPicPr>
        <p:blipFill>
          <a:blip r:embed="rId1"/>
          <a:stretch/>
        </p:blipFill>
        <p:spPr>
          <a:xfrm>
            <a:off x="6912000" y="260280"/>
            <a:ext cx="1793880" cy="2305080"/>
          </a:xfrm>
          <a:prstGeom prst="rect">
            <a:avLst/>
          </a:prstGeom>
          <a:ln w="0">
            <a:noFill/>
          </a:ln>
        </p:spPr>
      </p:pic>
      <p:sp>
        <p:nvSpPr>
          <p:cNvPr id="617" name="Содержимое 2"/>
          <p:cNvSpPr/>
          <p:nvPr/>
        </p:nvSpPr>
        <p:spPr>
          <a:xfrm>
            <a:off x="301680" y="2349360"/>
            <a:ext cx="850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Древне римский историк Тацит в своей книге пишет, что начинает повествование с 831 года от «основания нашего города» (т.е. основания Рима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ыл ли этот год до Рождества Христова или посл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менно это был год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метьте на ленте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643360" y="3214800"/>
            <a:ext cx="3214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3.10.20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46b86"/>
                </a:solidFill>
                <a:latin typeface="Georgia"/>
              </a:rPr>
              <a:t>ИСТОРИЯ ДРЕВНЕГО МИР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Древний Египет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Государство на берегах Нила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Рисунок 3" descr="Египетские пирамиды.bmp"/>
          <p:cNvPicPr/>
          <p:nvPr/>
        </p:nvPicPr>
        <p:blipFill>
          <a:blip r:embed="rId1"/>
          <a:stretch/>
        </p:blipFill>
        <p:spPr>
          <a:xfrm>
            <a:off x="285840" y="2679840"/>
            <a:ext cx="52149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От первобытности к цивилизац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сударство, территория, горо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Царь, войско, казн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еннос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емледелие, рек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Рисунок 3" descr="Охота в Нильских зарослях_роспись гробницы в Фивах.bmp"/>
          <p:cNvPicPr/>
          <p:nvPr/>
        </p:nvPicPr>
        <p:blipFill>
          <a:blip r:embed="rId1"/>
          <a:stretch/>
        </p:blipFill>
        <p:spPr>
          <a:xfrm>
            <a:off x="5143680" y="2139840"/>
            <a:ext cx="37004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Страна Егип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143320" y="1428480"/>
            <a:ext cx="366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рта (стр. 31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ил (стр. 33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апиру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рог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льт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иземное мор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ивийская пусты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ази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мфис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ара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Рисунок 3" descr="Иероглифы.bmp"/>
          <p:cNvPicPr/>
          <p:nvPr/>
        </p:nvPicPr>
        <p:blipFill>
          <a:blip r:embed="rId1"/>
          <a:stretch/>
        </p:blipFill>
        <p:spPr>
          <a:xfrm>
            <a:off x="285840" y="1523880"/>
            <a:ext cx="4572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смотри на карту (стр. 31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ое государство описывает в своих воспоминаниях Диодор Сицилийский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де находится Египет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м защищен Египет с Запад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м защищена восточная часть стран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м морем омывается северная часть стран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ой рельеф имеет стран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Посмотри на карту (стр. 31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14200" y="1428480"/>
            <a:ext cx="8715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 какой реке идет речь в документ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де берет свое начало река Нил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уда впадает Нил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то такое дельта реки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то происходит с рекой, когд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инается летнее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лнцестояни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акие занятия существовали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 жителей Египта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то управлял Египтом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3" descr="Палетка царя Нармера.bmp"/>
          <p:cNvPicPr/>
          <p:nvPr/>
        </p:nvPicPr>
        <p:blipFill>
          <a:blip r:embed="rId1"/>
          <a:stretch/>
        </p:blipFill>
        <p:spPr>
          <a:xfrm>
            <a:off x="5072040" y="2409840"/>
            <a:ext cx="3843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7:34:24Z</dcterms:created>
  <dc:creator>Татьяна</dc:creator>
  <dc:description/>
  <dc:language>en-US</dc:language>
  <cp:lastModifiedBy>MSI</cp:lastModifiedBy>
  <dcterms:modified xsi:type="dcterms:W3CDTF">2011-10-02T11:02:07Z</dcterms:modified>
  <cp:revision>11</cp:revision>
  <dc:subject/>
  <dc:title>Древний Египет  Государство на берегах Нила</dc:title>
</cp:coreProperties>
</file>