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DA5-70B1-4A33-B216-1A9FA783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0E64-D62A-43CC-BB64-8D5CD9CE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DAFF-9928-499C-8749-C331294A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FEB9-77EE-4D44-A97A-6D51A61C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8C7-E541-4F71-B600-DA9A6319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2BE-EC97-4057-B6CC-2E46ECA3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5C2-2576-419A-9D77-5EA5F110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D5E-CFAB-4DAB-A072-6306F765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942-8EC1-431C-ACEB-1C7656AD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BA9-3268-48F0-AD32-D663DC1F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49B-A40D-440E-ADBD-38C8130C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9CC1-4F72-484C-A1AA-00DC7C47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1D34-DE6A-4C0B-8AFA-3405086A87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КТОРЫ ВЫЖИВ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. Может ли человек научиться контролировать страх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00" y="2356920"/>
            <a:ext cx="825804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Да, может научить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Может, но только в возрасте до 16 л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Может, но только в возрасте после 16 л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Нет, не мож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. Устройство укрытия от солнца, уменьшение физической активности, экономное расходование воды – все эти меры облегчат наше положение пр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71680" y="3786120"/>
            <a:ext cx="811512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Сильном голод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Сильной бол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Сильном переутомле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ильной жаж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Какого цвета должна быть одежда турис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28480" y="2285640"/>
            <a:ext cx="73292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Яркого, выделяющего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Однотонног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С камуфлирующей расцветк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Не имеет зна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Какая задача является главной при подготовке и проведении туристического поход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13880" y="2642760"/>
            <a:ext cx="80154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Выполнение целей и задач похо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Обеспечение безопас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Полное прохождение маршру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Своевременное возвращение из пох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Опытные туристы считают, что нельзя отправляться в лес без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1428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Воды, печенья, спиче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Ножа, спичек, сол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Компаса, блокнота, нож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Спичек, компаса, во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Назовите правильный вариант от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 Во время похода на нас могут воздействовать опасные фактор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85520" y="1928520"/>
            <a:ext cx="79009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Природ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Катастроф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Техноген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оциаль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Каких опасных факторов не существу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. К личному снаряжению туриста  не относи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71760" y="2143080"/>
            <a:ext cx="71150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Фляга для питья во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Перочинный нож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Растопка для кост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Индивидуальная аптеч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. К групповому снаряжению туриста не относи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85920" y="1928880"/>
            <a:ext cx="7400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Кар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Посуда для приготовления пищ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Растопка для кост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Индивидуальная аптеч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. У подготовленных людей страх вызывает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85520" y="1999800"/>
            <a:ext cx="79009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Полный упадок си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Невозможность сопротивляться трудностя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Способность сосредоточиться и собрать все силы для решения задач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Сомнения в своих силах и возможност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. Как называется состояние возникающее у путешественника при длительных интенсивных физических и психических нагрузках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9680" y="3357720"/>
            <a:ext cx="81867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Гиподинам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Стр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Переутом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Уны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30:31Z</dcterms:created>
  <dc:creator>Admin</dc:creator>
  <dc:description/>
  <dc:language>en-US</dc:language>
  <cp:lastModifiedBy>математика</cp:lastModifiedBy>
  <dcterms:modified xsi:type="dcterms:W3CDTF">2012-10-10T09:28:30Z</dcterms:modified>
  <cp:revision>6</cp:revision>
  <dc:subject/>
  <dc:title>ФАКТОРЫ ВЫЖИВАНИЯ.</dc:title>
</cp:coreProperties>
</file>