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9F1-559C-4229-BEDB-44CB5527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55A-8BCB-43AB-8833-7BA1ED5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525-6D9E-40AF-B062-82A46D2C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A52-8DAD-4644-A0DD-FE5B41E1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359-8994-4659-B473-415B85EF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44D-EFB9-4CF8-A483-C2CBBAE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626-A020-4D0A-BECC-C57CAEC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612-0199-468D-B1BF-A618DEBE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13D-4604-4267-8D50-2D48BA2D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A84-5992-4D48-B01A-28EAC6F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F43-0A43-4728-9167-F729F815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2F6-A261-49C0-89A5-4D34794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0F1-547A-4601-9C00-FCBA537F9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ВЫЖИВ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Может ли человек научиться контролировать страх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а, может научить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ожет, но только в возрасте до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ожет, но только в возрасте после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т, не 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Устройство укрытия от солнца, уменьшение физической активности, экономное расходование воды – все эти меры облегчат наше положение пр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680" y="3786120"/>
            <a:ext cx="81151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ильном голо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ильной 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ильном переутомл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ильной жаж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акого цвета должна быть одежда тури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8480" y="2285640"/>
            <a:ext cx="73292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Яркого, выделяющего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Однотонн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С камуфлирующей расцвет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Не имеет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акая задача является главной при подготовке и проведении туристического пох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3880" y="2642760"/>
            <a:ext cx="80154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Выполнение целей и задач по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Обеспечение безопас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Полное прохождение маршру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Своевременное возвращение из пох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Опытные туристы считают, что нельзя отправляться в лес бе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428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Воды, печенья, спиче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Ножа, спичек, со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Компаса, блокнота, но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Спичек, компаса, в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зовите правильны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Во время похода на нас могут воздействовать опасные факто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85520" y="1928520"/>
            <a:ext cx="79009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род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атастроф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Техног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оциа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аких опасных факторов не существ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К личному снаряжению туриста  не относ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71760" y="2143080"/>
            <a:ext cx="71150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Фляга для питья в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Перочинный нож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Растопка для кос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Индивидуальная апте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К групповому снаряжению туриста не относ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85920" y="1928880"/>
            <a:ext cx="7400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Кар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Посуда для приготовления пищ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Растопка для кос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Индивидуальная апте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У подготовленных людей страх вызыва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Полный упадок с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евозможность сопротивляться трудност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Способность сосредоточиться и собрать все силы для решения зада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Сомнения в своих силах и возможност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Как называется состояние возникающее у путешественника при длительных интенсивных физических и психических нагрузка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3357720"/>
            <a:ext cx="81867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иподинам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тр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ереутом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ны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0:31Z</dcterms:created>
  <dc:creator>Admin</dc:creator>
  <dc:description/>
  <dc:language>en-US</dc:language>
  <cp:lastModifiedBy>математика</cp:lastModifiedBy>
  <dcterms:modified xsi:type="dcterms:W3CDTF">2012-10-10T09:28:30Z</dcterms:modified>
  <cp:revision>6</cp:revision>
  <dc:subject/>
  <dc:title>ФАКТОРЫ ВЫЖИВАНИЯ.</dc:title>
</cp:coreProperties>
</file>