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CF03-3C6E-4E45-8657-F5DB262F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6BBE-CB94-4850-A9FD-AF726CE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3668-D24D-492A-B92F-C1A00CD8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2D03-BA0D-4823-B5EC-1E44E878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7841-AE73-4E3C-AF44-F68DE775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F13-D2D8-4C54-B5AE-CFE9374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00E7-930F-474E-90FB-CDE7C3B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DC0-AA24-4AD4-BDAC-12B3C2C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7D09-B16C-4A18-9E76-DC82925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19AE-26E2-4EBC-9DB3-622E8CA3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7DDF-11C3-4FBA-AFE0-B709A31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E8F2-7AC8-47CB-8210-C0EC513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6557-B3D0-47BF-B7CD-BB8193F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76A-0BE6-4DB8-AD38-2143B45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7A3-19EF-48E5-A4B8-B3F4BF2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152C-2FB7-449A-B87A-74D4283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25ED-57AA-406F-B0C0-954DA8CA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9221-CCFB-458F-B00C-55301FE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0D73-53A4-4D7F-9944-F1F361A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BDD2-8536-43CD-8C05-CDE94280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AF31-08E6-4EF9-BF46-A798589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4C21-B2C0-46B4-8983-2311429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6546-77D9-4425-8F6B-AC0387B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C2FE-BF44-4900-8073-36BC881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643-8DC1-4FD7-897B-C0FD0665CC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1C09-29AC-47F7-A866-5418D79D66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Герои войны - дети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Костя Кравчук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11 июня 1944 года на центральной площади Киева были выстроены части, уходившие на фронт. И перед этим боевым строем зачитали Указ Совета СССр о награждении пионера Кости Кравчука орденом красного знамени за то,что спас и сохранил два боевых знамени стрелковых полков в период оккупиции города Киева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Отступая из Киева два раненых бойца доверили Косте знамёна. И Костя обещал сохранить их. И всю долгую оккупацию нёс пионер свой нелёгкий караул у знамени, хотя и попадал в облаву, и даже бежал из эшелона, в котоом угоняли Киевлян в Германию Когда Киев освободили, Костя пришёл к военному коменданту города и развернул знамёна перед повидавшими види и всё же изумлёнными бойц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11 июня 1944 вновь сформированным частям, уходившим на фронт, вручили спасённые Костей знамё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Такая долгая войн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исок героев можно долго продолжать. Мы рассказали вам о нескольких ребятах. Они были нашими ровесниками. Кто-то постарше кто-то одногодки. Их жизнь, их подвиг, их человеческие качества всегда будут для нас примером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бята кладут гвоздики к портретам 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Победа!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 вас! Слава – героям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лава – освободителям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ан от вражеского ига!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ы всегда будем помн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495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чал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984320"/>
            <a:ext cx="38066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"Над проселочной дорогой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Пролетали самолеты..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Мальчуган лежит у стога,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Точно птенчик желторотый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Не успел малыш на крыльях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Разглядеть кресты паучьи.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Дали очередь – и взмыли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Вражьи летчики за тучи..."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Встреча с родителями"/>
          <p:cNvPicPr/>
          <p:nvPr/>
        </p:nvPicPr>
        <p:blipFill>
          <a:blip r:embed="rId1"/>
          <a:stretch/>
        </p:blipFill>
        <p:spPr>
          <a:xfrm>
            <a:off x="4495680" y="2216160"/>
            <a:ext cx="41911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Война и дети на ней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о время Великой Отечественной войны , когда родину захватили враги, стали устанавливать свои порядки, диктовать как жить, убивать, грабить, сжигать жилище, угонять в плен на чужбину, все как один встали на защиту своей стр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реди тех, кто защищал Родину, было очень много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Мы хотим напомнить вам их им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ИМЕНА ГЕРОЕВ: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итя Короб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ля Ко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Толя Шум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Боря Цар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Люся Герасим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олодя Щербацевич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ся Короб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Шура Коб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итя Хом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ася Шишков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олодя Дубинин и многие друг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74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Война обрушилась на белорусскую землю. В деревню, гле жил Марат с мамой, Аннной Александровной Казей, ворвались Фашисты. Осенью Марату уже не пришлось идти в школу в пятый класс.Школьное здание фашисты превратили в свою казарму.Враг лютовал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Ушёл к партизанам в Станьковский лес. Он стал разведчиком в штабе партизанской бригады. Проникал во вражеские гарнизоны и доставлял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Командованию ценные сведения. Используя эти данные, партизаны разработали дерзскую операцию и разгромили фашистский гарнизон в городе Дзержинске…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Марат участвовал в боях и неизменно проявлял отвагу, бесстрашие, вместе с опытными подрывниками минировал железную дорогу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Марат погиб в бою. Сражался до последнего патрона, а когда у него осталась одна лишь граната, подпустил врагов поближе и взорвал их… и себя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cc"/>
                </a:solidFill>
                <a:latin typeface="Tahoma"/>
              </a:rPr>
              <a:t>За мужество и отвагу пионер Марат Казей был удостоен звания Героя Советского союза. В городе Минске поставлен памятник юному герою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5240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Рос в деревне Лукино, на берегу реки Поло, что впадает в легендарное Ильмен-озеро. Когда его родное село захватил враг, мальчик ушёл к партизана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…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Был в его жизни бой, который Лёня вел один на один с вражеским генералом. Граната, брошенная мальчиком подбила машину. Из неё выбежал гитлеровец с портфелем в руках и, отстреливаясь, бросился бежать. Лёня - за ним. Почти километр преследовал он врага и, наконец, убил е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В портфеле оказались очень важные документы. Штаб партизан немедленно переправил их в Москв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Немало было ещё боёв в его недолгой жизни! И ни разу не дрогнул юный герой, сражавщ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…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cc"/>
                </a:solidFill>
                <a:latin typeface="Tahoma"/>
              </a:rPr>
              <a:t>2 апреля 1944 года опубликован приказ Верховного Совета СССР о присвоении пионеру-партизану звания Героя Советского Союз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хватч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371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В тот далёкий летний день 22 июня 1941 года люди занимались обычными для себя делами. Школьники готовились к выпускному вечеру. Девчонки играли в «дочки-матери», непоседливые мальчишки скакали верхом на деревянных лошадках, представляя себя красноармейцами. И никто не подозревал, что и приятные хлопоты, и задорные игры, и многие жизни перечеркнёт одно страшное слово – война. У целого поколения, рождённого с 1928 – 1945 год, украли детство. « Дети Великой Отечественной войны » - так называют сегодняшних 59 – 76 летних людей. И дело здесь не только в дате рождения. Их воспитала вой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45120" y="1905120"/>
            <a:ext cx="48988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724280" cy="403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72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17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Война застала ленинградскую пионерку Зину Портнову в деревне Зуя, куда она приехала на каникулы, - это неподалёку от станции Оболь Витебской области. В Оболи была создана подпольная комсомольско – молодёжная организация « Юные мстители », и Зину избрали членом её комитета. Она участвовала в операциях против врага, в диверсиях, распространяла листовки, по заданию партизанского отряда вела разведывательную де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… </a:t>
            </a: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Стоял декабрь 1943 года. Зина возвращалась с задания. В деревне Мостище её выдал предатель. Фашисты схватили юную партизанку, пытали. Во время одного из допросов, выбрав момент, Зина схватила со стола пистолет и в упор выстрелила в гестаповца. Отважная пионерка была зверски замучена, но до последней минуты оставалась стойкой, мужественной, несгибаемой. И Родина посмертно отметила её подвиг высшим своим званием – званием Героя Советского Сою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71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Валя Котик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Он родился 11 февраля 1930 года в селе Хмелё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Когда город захватили фашисты, Валя вместе с мамой и братом  Виктором ушёл к партизанам. Пионер, которому только-только исполнилось четырнадцать лет, сражался плечом к плечу со вз\рослыми, освобождая родную землю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На его счету шесть вражеских эшелонов, взорванных на пути к фронту. Валя Котик был награждён орденом отечественной войны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 </a:t>
            </a: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степени,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медалью « Партизану Отечественной Войны » 2 степени. Валя Котик погиб как герой, и Родина посмертно удостоила его звания Героя Советского Союз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77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9T11:35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