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AA49-D7C7-4924-9784-E830182B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8A50-5821-4CB7-AE84-3E7FEEE9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AD20-998C-4534-AAB3-094C40EC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19E8-FAC8-4FFF-BCCC-FDEBBD82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DE69-380E-4F83-B852-A85CA916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6584-C573-42B9-96B4-C001F564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3D38-CBAB-4353-B115-424AB16A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A030-C2E6-4C22-B97A-1766C886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7784-A8CD-42FB-BBB5-3162252B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9022-C670-49C5-ABAF-9C9F577F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8523-B3F2-438F-A9A1-35CECD55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A145-CA15-40C1-9568-3D0A01F8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02CD-81ED-4A1C-B251-A07FA490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DA45-3A97-46ED-BCDC-08EEE96D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E44A-BC9F-4B34-A40C-E41F803F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EFE-3B11-42E6-A995-9FEA07C2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34E6-8390-4EE4-BB73-1845FA2E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621B-28D4-41FE-8DBF-26EFD61E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01B7-7CF3-4D28-A529-A470ED73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B512-1762-4714-A80B-8E0E1B74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95A1-062A-4AC5-A179-6499A72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CBFA-AA55-4105-AE9A-6CB19F7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D8DE-360F-4070-8D11-1EA059E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3635-8305-45C1-B10E-7E8072A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B92-5FC7-4385-AFBD-85DBDBA8F1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86CA-D270-4D73-A21B-36B642322CE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Герои войны - дети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Костя Кравчук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11 июня 1944 года на центральной площади Киева были выстроены части, уходившие на фронт. И перед этим боевым строем зачитали Указ Совета СССр о награждении пионера Кости Кравчука орденом красного знамени за то,что спас и сохранил два боевых знамени стрелковых полков в период оккупиции города Киева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Отступая из Киева два раненых бойца доверили Косте знамёна. И Костя обещал сохранить их. И всю долгую оккупацию нёс пионер свой нелёгкий караул у знамени, хотя и попадал в облаву, и даже бежал из эшелона, в котоом угоняли Киевлян в Германию Когда Киев освободили, Костя пришёл к военному коменданту города и развернул знамёна перед повидавшими види и всё же изумлёнными бойц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11 июня 1944 вновь сформированным частям, уходившим на фронт, вручили спасённые Костей знамё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Такая долгая войн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писок героев можно долго продолжать. Мы рассказали вам о нескольких ребятах. Они были нашими ровесниками. Кто-то постарше кто-то одногодки. Их жизнь, их подвиг, их человеческие качества всегда будут для нас примером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ебята кладут гвоздики к портретам геро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Победа!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 вас! Слава – героям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лава – освободителям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ран от вражеского ига!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ы всегда будем помн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495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ачал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984320"/>
            <a:ext cx="38066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"Над проселочной дорогой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Пролетали самолеты...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Мальчуган лежит у стога,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Точно птенчик желторотый.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Не успел малыш на крыльях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Разглядеть кресты паучьи.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Дали очередь – и взмыли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Вражьи летчики за тучи..."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Встреча с родителями"/>
          <p:cNvPicPr/>
          <p:nvPr/>
        </p:nvPicPr>
        <p:blipFill>
          <a:blip r:embed="rId1"/>
          <a:stretch/>
        </p:blipFill>
        <p:spPr>
          <a:xfrm>
            <a:off x="4495680" y="2216160"/>
            <a:ext cx="419112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Война и дети на ней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о время Великой Отечественной войны , когда родину захватили враги, стали устанавливать свои порядки, диктовать как жить, убивать, грабить, сжигать жилище, угонять в плен на чужбину, все как один встали на защиту своей стра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реди тех, кто защищал Родину, было очень много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Мы хотим напомнить вам их им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ИМЕНА ГЕРОЕВ: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Лёня Гол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Марат Каз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итя Короб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аля Ко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Зина Портно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Толя Шум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Боря Цар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Люся Герасименк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олодя Щербацевич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ася Коробк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Шура Кобе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итя Хоменк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ася Шишков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олодя Дубинин и многие друг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74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рат Каз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Война обрушилась на белорусскую землю. В деревню, гле жил Марат с мамой, Аннной Александровной Казей, ворвались Фашисты. Осенью Марату уже не пришлось идти в школу в пятый класс.Школьное здание фашисты превратили в свою казарму.Враг лютовал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Ушёл к партизанам в Станьковский лес. Он стал разведчиком в штабе партизанской бригады. Проникал во вражеские гарнизоны и доставлял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Командованию ценные сведения. Используя эти данные, партизаны разработали дерзскую операцию и разгромили фашистский гарнизон в городе Дзержинске…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Марат участвовал в боях и неизменно проявлял отвагу, бесстрашие, вместе с опытными подрывниками минировал железную дорогу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Марат погиб в бою. Сражался до последнего патрона, а когда у него осталась одна лишь граната, подпустил врагов поближе и взорвал их… и себя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За мужество и отвагу пионер Марат Казей был удостоен звания Героя Советского союза. В городе Минске поставлен памятник юному герою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52404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Лёня Голиков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Рос в деревне Лукино, на берегу реки Поло, что впадает в легендарное Ильмен-озеро. Когда его родное село захватил враг, мальчик ушёл к партизанам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…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Был в его жизни бой, который Лёня вел один на один с вражеским генералом. Граната, брошенная мальчиком подбила машину. Из неё выбежал гитлеровец с портфелем в руках и, отстреливаясь, бросился бежать. Лёня - за ним. Почти километр преследовал он врага и, наконец, убил ег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В портфеле оказались очень важные документы. Штаб партизан немедленно переправил их в Москву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Немало было ещё боёв в его недолгой жизни! И ни разу не дрогнул юный герой, сражавщ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…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2 апреля 1944 года опубликован приказ Верховного Совета СССР о присвоении пионеру-партизану звания Героя Советского Союз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ахватч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371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В тот далёкий летний день 22 июня 1941 года люди занимались обычными для себя делами. Школьники готовились к выпускному вечеру. Девчонки играли в «дочки-матери», непоседливые мальчишки скакали верхом на деревянных лошадках, представляя себя красноармейцами. И никто не подозревал, что и приятные хлопоты, и задорные игры, и многие жизни перечеркнёт одно страшное слово – война. У целого поколения, рождённого с 1928 – 1945 год, украли детство. « Дети Великой Отечественной войны » - так называют сегодняшних 59 – 76 летних людей. И дело здесь не только в дате рождения. Их воспитала вой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45120" y="1905120"/>
            <a:ext cx="489888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724280" cy="403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72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177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Зина Портнов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Война застала ленинградскую пионерку Зину Портнову в деревне Зуя, куда она приехала на каникулы, - это неподалёку от станции Оболь Витебской области. В Оболи была создана подпольная комсомольско – молодёжная организация « Юные мстители », и Зину избрали членом её комитета. Она участвовала в операциях против врага, в диверсиях, распространяла листовки, по заданию партизанского отряда вела разведывательную де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… </a:t>
            </a: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Стоял декабрь 1943 года. Зина возвращалась с задания. В деревне Мостище её выдал предатель. Фашисты схватили юную партизанку, пытали. Во время одного из допросов, выбрав момент, Зина схватила со стола пистолет и в упор выстрелила в гестаповца. Отважная пионерка была зверски замучена, но до последней минуты оставалась стойкой, мужественной, несгибаемой. И Родина посмертно отметила её подвиг высшим своим званием – званием Героя Советского Союз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7172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Валя Котик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Он родился 11 февраля 1930 года в селе Хмелё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Когда город захватили фашисты, Валя вместе с мамой и братом  Виктором ушёл к партизанам. Пионер, которому только-только исполнилось четырнадцать лет, сражался плечом к плечу со вз\рослыми, освобождая родную землю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На его счету шесть вражеских эшелонов, взорванных на пути к фронту. Валя Котик был награждён орденом отечественной войны 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I </a:t>
            </a: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степени,</a:t>
            </a:r>
            <a:br>
              <a:rPr sz="1400"/>
            </a:b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медалью « Партизану Отечественной Войны » 2 степени. Валя Котик погиб как герой, и Родина посмертно удостоила его звания Героя Советского Союз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77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19T11:35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