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D95-8094-4EF5-B688-4D022AEE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C7A-16E6-4855-A121-6D43A22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B97B5-0209-4076-842B-857933D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EF69-9AAE-4020-861E-7F41841A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4B178-B4CD-4265-B6CB-E9C40BCF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E477B-49D0-4F86-A2BC-3E65E8C4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DAC8B-5F5B-40C5-93F3-39CA50F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31230-3650-46BE-A21E-0F2163D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25B27-785E-4883-AFCD-C6E9717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9847-86A1-4941-A96C-D24CB7E5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78553-1D6D-4A68-8893-744E373C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1DD-B8FF-4920-A1AE-4DF0E3C0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0CE-A0E3-476C-B08C-C0DE06F7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0E8E-635A-406B-98F0-C7AA825E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E4A5-AE9C-4B3B-A896-B7AEB4D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3BC-9E45-4E9A-AB22-F3BD18F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63FC-D403-4AAB-88E7-26C2C56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742-48BC-4320-A1EC-BFCE1AF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8112-E56B-4349-A87D-30D285BF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E404-D19C-44BD-9E11-55EE372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B8C-D394-4D3F-909D-E1D1A73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1246-124C-4E18-89FB-D186864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9C5E-77A4-40EB-9DE7-973A4264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C54-F3F4-4890-B282-1F44109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414-1834-4173-8104-92810ADA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40AC-68DD-4909-90DD-13C764EF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BFAD-6F41-40CB-8523-6869902C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E151-1026-4719-869C-69F0516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6F34-A7CC-42B1-B958-363A40A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A958-903F-497B-A128-D8E3C7A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47F4-72DA-4DCD-9729-B993912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CD5-C1F3-445E-8CC1-B9D77F1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6DC3-64AE-44BA-BE1B-2B28CCA6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4F55-390B-4E67-834F-0CD34F6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DB66-D609-49AE-BB87-E82A7AF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6EEA-B961-4B67-91C5-65CED4D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ACFF-0325-42C1-9D99-50DBD1EB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8E41-3FA7-44C6-8C65-81A75668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3851-549D-4E91-A736-8CBFCE3A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D15D-E951-40BE-A6C7-C258E296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AF2B-9339-474D-A01A-C078419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9336-ADDA-45BB-B8F7-B4E4E5D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825-0821-459E-8AA0-E2200670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DB4D-D16D-4EB0-976E-25FD1AC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358F-E6B0-464C-B759-8B796DF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80CE-F1EA-4042-AD58-8FBD04E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DF91-B900-4CFB-86C0-C323D96F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BAFF-AC47-420C-9E3A-3C32516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389C-C2EC-4EB9-8774-2F0137D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AC31-38B6-4014-936D-AC93587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6CAE-0369-4DFE-A176-A8C1E20C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855E-9976-4467-B71E-644AB3F9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47F1E-6391-4BD3-8F38-804E193B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8B6-75E3-48FD-B834-1FC2A1A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DE87-7C7A-4952-B943-83FFE8E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1731-00C1-4550-92BE-AC5C57F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EC19-391E-4D1F-9907-AF93F25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7774-F9E6-4253-BF0C-154DE2B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C35F-1135-4923-9BDB-861EB5BF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8425-59A9-4FBF-A563-8371394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83EA6-2511-436E-8365-EE32D8A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86A1-AFEE-406C-9574-133DF18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1DBE-3539-4F70-A0C3-281D8F38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DEE7-17E6-41E5-818D-1DABCC90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7D4-D1DA-4503-AAD8-8FF1163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7BBB-5964-4CBE-ADFD-F48131F7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46CE-7ABD-4F72-AE22-3E7752CB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8F0E-D480-4F1C-82DF-2FC5D637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B0A6-6B97-4F5D-8D9D-CBAD3E4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A4B7-96E0-4BF6-AD27-5105B668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B8335-C6AF-440E-9B80-D373DB4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F237-DB6F-4094-9127-7C636A6C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FEA50-EDD3-4A33-AC3E-C4F8095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4C85-FF1D-4C2A-B3AF-E65E96F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8E5F-9C39-4180-9C05-2FA4E71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C1A-A5C4-4EC9-AF32-A64DFF7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725D-AD06-4CD9-BE06-843544D6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6C64-58C5-47BB-B8EA-B3E5050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7612-F68F-4FA8-B76A-B486C167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9802-7E91-422D-9780-D9C1D81B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DA9A-07B8-4A3D-BB5A-5B350D83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85C63-B957-4B6B-9E36-6CE3315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31B2-504C-4F79-A054-FACACFD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C82C-C8A9-4E57-B1E8-CBE922A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193D-BB22-4D6E-B4B4-608F67C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DB03F-DEE8-43CC-AE0D-8A61237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F9E-1797-45CB-91EF-F94068D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A049-5801-4A07-9021-170CD73A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39EA-6FE3-4197-9A26-F5A37D0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311B3-D685-4004-80A0-E8E80C2A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FA3E-081D-4EBA-89C9-1B7489BE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5449-C3EF-44C0-9CC3-FCE744E1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8D15-B725-4C7F-B588-7BD9A07B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DB7B-029F-4FFC-83C6-89C45801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3D85-C35E-45DA-BC0D-4F584F8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4AE86-7D10-46EE-8C75-924D5B6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F866-EE0F-45D7-901E-D4BD1F4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665-3BEC-4D31-9DCA-6BA97A9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15650-3A27-4594-A9A2-C6059D1A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6775-E0B4-44CB-8600-784CB0E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383C-951C-4BAA-B1B2-C44522E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5E32-6C64-45CF-B08B-499F68F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0889-236F-42E0-B9FA-F37E71D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FA43-BE64-491C-B0DE-632D8392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7DB7-6888-41BA-B6D5-8F7004BC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3726-0342-48C4-B53E-4D595BB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64796-C736-4113-84D4-DB600B2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F6AD3-D710-4CC7-856D-6074125E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BAD-CCB8-4AC3-B656-DDC7D4B729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3276-F73A-46EE-89F4-70B79A3F64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753-7E85-4C98-89A4-0948C41CFB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CEAC-AB2A-4F7A-BFD7-96295246AA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2AFC-A1EE-4A54-9AA5-5A1A47F3E2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2B9-BF7B-43DD-85A3-6DE7D3C1B1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BB1-8B1B-4FFF-9B6A-BDA770CB43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482-6581-4672-81F5-DE2AFF83FC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613-3BA4-4045-8AD2-78D6A7A0F2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54520"/>
            <a:ext cx="8712360" cy="1701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Географ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7 клас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Барометр              1. Температу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Осадкомер            2. Скорость вет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Термометр            3. Количество осадков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) Флюгер                  4. Направление вет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) Гигрометр             5. Атмосферное давление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6. Влажность воздух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океан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е высокие горы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ая длинная река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полуостров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высокий водопад на Земл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е глубокое озеро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е солёное море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маленький океан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остров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по площади материк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атфор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има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отер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родная зо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н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рельеф Земли очень разнообразны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атмосферные осадки на Земле распределяются неравномерн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Красное море является самым солёным морем в мир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Землю называют уникальной планет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в разных местах земного шара плотность населения неодинаков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ссоны, бризы, пассаты, цунами, западн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итайцы, японцы, монголы, граниты, туркме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ка, море, залив, пролив, оке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шингтон, Москва, Сидней, Лондон, Париж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вказ, Алтай, Кордильеры, Гималаи, Саха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то короткое, прохладное. В местах, освобождающихся от снега и льда, растут кое-где мхи и лишайн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Рисунок 3" descr="мох.jpg"/>
          <p:cNvPicPr/>
          <p:nvPr/>
        </p:nvPicPr>
        <p:blipFill>
          <a:blip r:embed="rId2"/>
          <a:stretch/>
        </p:blipFill>
        <p:spPr>
          <a:xfrm>
            <a:off x="3635280" y="3284640"/>
            <a:ext cx="2232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Здесь растут колючие кустарники, полынь. Родина кактусов и ага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3" descr="агава.jpg"/>
          <p:cNvPicPr/>
          <p:nvPr/>
        </p:nvPicPr>
        <p:blipFill>
          <a:blip r:embed="rId2"/>
          <a:stretch/>
        </p:blipFill>
        <p:spPr>
          <a:xfrm>
            <a:off x="2759040" y="2776680"/>
            <a:ext cx="31082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 растительности преобладают дуб, бук, липа, оре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Рисунок 3" descr="липа.jpg"/>
          <p:cNvPicPr/>
          <p:nvPr/>
        </p:nvPicPr>
        <p:blipFill>
          <a:blip r:embed="rId2"/>
          <a:stretch/>
        </p:blipFill>
        <p:spPr>
          <a:xfrm>
            <a:off x="3040200" y="2714760"/>
            <a:ext cx="2323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Вечнозелёные леса разнообразны по видовому составу, многоярусны, цветут и плодоносят круглый го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Рисунок 3" descr="влажный лес.jpg"/>
          <p:cNvPicPr/>
          <p:nvPr/>
        </p:nvPicPr>
        <p:blipFill>
          <a:blip r:embed="rId2"/>
          <a:stretch/>
        </p:blipFill>
        <p:spPr>
          <a:xfrm>
            <a:off x="2700360" y="3301920"/>
            <a:ext cx="34560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В этой природной зоне много злаков; почвы чернозёмные, богатые перегноем и очень плодородные. Здесь обитают дрофа, суслики, хомяки, полёв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Рисунок 3" descr="степь в Сар обл.jpg"/>
          <p:cNvPicPr/>
          <p:nvPr/>
        </p:nvPicPr>
        <p:blipFill>
          <a:blip r:embed="rId2"/>
          <a:stretch/>
        </p:blipFill>
        <p:spPr>
          <a:xfrm>
            <a:off x="2627280" y="3716280"/>
            <a:ext cx="48117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8:28:28Z</dcterms:created>
  <dc:creator>Nataly</dc:creator>
  <dc:description/>
  <dc:language>en-US</dc:language>
  <cp:lastModifiedBy>Nataly</cp:lastModifiedBy>
  <dcterms:modified xsi:type="dcterms:W3CDTF">2011-10-21T17:22:04Z</dcterms:modified>
  <cp:revision>16</cp:revision>
  <dc:subject/>
  <dc:title>Главные особенности природы Земли</dc:title>
</cp:coreProperties>
</file>