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45F-40CC-4D1C-8EFA-D1B21316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609-B5CC-4780-AC20-411C2800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79335-9B6F-46A1-B35C-1525E765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63668-0387-41DC-AB9C-AD44D2EB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D9DA4-383A-45A5-98AA-639810A1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DFBD0-D0CC-4309-8B4C-7679B0E7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17BDF-BE20-4450-9313-B7707912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D04AB-F105-4BF7-B267-336D2EF3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FC39D-1B8A-4CBE-B507-3186EE58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0D6B2-EFE6-49FD-ADD8-39E62155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6A9A5-566F-4173-AD10-03ACC721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D15-4663-45A7-B9EB-20C7741C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3F8-DFC0-4E03-B4B3-B82594D3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8E59-C5DD-4AEA-91D3-78A08F58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A388-9F50-41CA-BBA6-4295747A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7FF6-B8C1-4EC3-89D9-5618FCD8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5B95-E16F-499A-88C5-D5018314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C630-0087-4587-8608-C2AD75A9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8BD0-7B6D-4F21-AA7F-BD227D72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5DE6-A776-4546-82E5-13DC6A12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0CD-6136-4E8D-9322-C24FAC32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BDDF-1A26-4D8E-8F60-171F189A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5556-C8E0-4522-8A06-D7E521D1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5A26-8F0A-41ED-9C55-0CFD7AEF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5278-BDD5-42DE-B6A4-5612E662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43D1-736F-4187-9287-954E4656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07E15-30DB-4F91-851D-ED876471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0F768-57F3-4583-A108-E4C75DBD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048F-2FAD-477D-A68D-D6A6C909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4855D-A68A-4FA4-B2C3-6C7C75AA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48D58-F8D2-41A8-8C46-8932CDEC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C6B-1C36-4AB8-A0F3-3641632E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436BC-42B4-4E6B-9398-02F4ACBA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70873-3FEF-4472-8F73-BC1DE400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A6B0-A7A8-45F1-84C2-B6E72E5C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156D-26CF-4FC1-B6C4-4E394F40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09776-755B-4EA2-B770-9B336A59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A3B2-E69A-485C-85DC-73313BF0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25CF8-F399-4FAD-A54F-59DDC0A0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1F3C2-3C2D-43E2-BA89-33B28D6C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7E222-4C7A-4B6D-9FDA-3F433236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40ADD-8BDE-41D0-98FC-BE32B9B3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8DA-C845-4977-B2E9-280164E7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15E34-BDB9-4300-85AB-C33CEBB1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FAF4E-2BB9-4F1E-80EA-B9912F62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FF1F0-EEB6-492B-A749-05E10193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1F607-4413-499B-A5A5-DB377CA3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9C771-8940-4E14-A9F7-065A102E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A0207-845B-42CF-9349-1175726C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415C8-DBAE-415E-8F64-04422597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9AE2D-7589-4778-98FD-47E8DD87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B4609-CFB7-4382-B004-13A315E5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07F46-71C7-4539-95AF-68371257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780-B424-40A5-ABE2-6E9C600F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DE2DD-5AE0-4856-8CD9-2363B1C7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8BBC9-CF11-40A5-A2F9-0548E162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779B9-62E0-4ED1-A85A-A11D789F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49C31-2972-4C81-A769-39AD3E34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912FC-522D-4CA9-9932-225DC554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88223-41EA-4AD8-B9EF-C1979FB7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E1446-79DE-43D5-859D-CDB8CD3D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28ED5-DACB-4AF6-8724-80A2D6D3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922AF-C3E1-43C4-A165-9557B0AA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D0E6A-BCB6-4125-89AC-CE0528F0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3BB-5066-436E-94AC-3E3E99B3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BD379-894E-46A3-93FC-67AD5588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7C184-CE57-4141-BBF5-C4BF315C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F2824-855C-4016-9228-AA22D418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A0475-6BDD-45D2-B8FB-D19523B0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77E55-3E9F-4C3D-8882-EAECEB61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CCCFB-8C43-4353-BFF3-DBB9289E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A851F-0810-46D2-8B3F-967DA8DA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3F98B-B7F2-4B94-A3D1-5C9A12E7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41325-FEF1-4461-89A0-F9CF7FAD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2DC17-808E-4B3E-AE3B-4ECBB9E6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80E-C678-4C27-8C75-B40DEAAA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852A5-C710-44D2-9EF9-C93F03E1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B2B2C-B723-4AE1-A448-E2DE21AC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686EA-B0F0-4D86-9BF8-CF80967F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AAB56-616C-439D-BD0E-EB715F9F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B5B43-FD86-488D-A450-464C89A8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5424D-DBC7-48FF-8960-56B52DE6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8546D-5460-49D6-9FAC-3A6D90F3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37A24-9892-4921-9889-879742F9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E424C-1D89-46F8-8D11-38FB10F3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74350-0000-400F-AA49-12D6F383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3BD-015A-4FB2-9978-65156A26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6BC5B-75D1-4332-BB30-4A88474C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5D466-7E63-437A-82C8-802930BC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1C83A-5027-45F6-A375-F560D354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D1F9E-4B41-4FC9-87E3-6A22660B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F73C1-DEFB-4767-9B40-D01EC311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9A612-AFE9-484B-B1D3-982140F9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AA375-2952-4004-B5A1-601A45E6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D47BA-7124-4A70-A76B-6DFE6111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285F9-2BC2-4E7D-B1F9-7ECB6283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1E3D4-D590-479E-9AB9-47E5CDC0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0EE-94F0-4CE8-9298-748657FE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8A275-2D3B-472B-BD1D-D9197B85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CE105-3DDD-4979-9BAC-5DE8F780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4CFDB-724F-462A-9519-85CED672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33FFE-5DA5-4BCF-8579-760DA9BD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EE421-CC36-49D8-8A62-51367F5E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14FB9-54B0-4D40-A473-0D6C3154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4F7DC-A579-4839-A747-53273C3E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AA9D3-E4B9-48D7-93C5-44D6A08E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7AAD4-6B01-4EC0-A50A-608839FD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0F07E-2A1A-4C53-8EC3-A00D2804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471B-75B1-4C33-883F-B40A7228766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169A-4A0A-4FDE-9EC3-50BABB28AF3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2512-E781-4ACF-ABF1-A5C22C7F5D3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3882-06C6-4D14-AA44-79114B45D52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00B6-B728-43CA-A0F4-2F513B2A66E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93E0-1232-4600-81AB-476BA9CE33A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6E1B-F600-40EF-9AA6-250EE160AB4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0B19-4A28-4AE2-85C7-F4A5962019F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2FCA-F7DE-4E42-8A50-144F53AF0F0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2520" y="4754520"/>
            <a:ext cx="8712360" cy="17017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Географ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7 класс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) Барометр              1. Температура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) Осадкомер            2. Скорость ветра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) Термометр            3. Количество осадков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) Флюгер                  4. Направление ветра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) Гигрометр             5. Атмосферное давление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                      6. Влажность воздух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11638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ый большой океан Земл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ые высокие горы мир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ая длинная река мир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ый большой полуостров мир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ый высокий водопад на Земле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ое глубокое озеро мир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ое солёное море мир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ый маленький океан Земл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ый большой остров Земл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ый большой по площади материк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10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10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1000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1000"/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латформ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лима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зотерм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родная зо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тно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2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20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чему рельеф Земли очень разнообразны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чему атмосферные осадки на Земле распределяются неравномерно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чему Красное море является самым солёным морем в мир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чему Землю называют уникальной плането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чему в разных местах земного шара плотность населения неодинаков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1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1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1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уссоны, бризы, пассаты, цунами, западны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итайцы, японцы, монголы, граниты, туркме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ка, море, залив, пролив, океа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ашингтон, Москва, Сидней, Лондон, Париж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вказ, Алтай, Кордильеры, Гималаи, Сахар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ето короткое, прохладное. В местах, освобождающихся от снега и льда, растут кое-где мхи и лишайни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Рисунок 3" descr="мох.jpg"/>
          <p:cNvPicPr/>
          <p:nvPr/>
        </p:nvPicPr>
        <p:blipFill>
          <a:blip r:embed="rId2"/>
          <a:stretch/>
        </p:blipFill>
        <p:spPr>
          <a:xfrm>
            <a:off x="3635280" y="3284640"/>
            <a:ext cx="22320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Здесь растут колючие кустарники, полынь. Родина кактусов и ага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Рисунок 3" descr="агава.jpg"/>
          <p:cNvPicPr/>
          <p:nvPr/>
        </p:nvPicPr>
        <p:blipFill>
          <a:blip r:embed="rId2"/>
          <a:stretch/>
        </p:blipFill>
        <p:spPr>
          <a:xfrm>
            <a:off x="2759040" y="2776680"/>
            <a:ext cx="31082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В растительности преобладают дуб, бук, липа, оре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Рисунок 3" descr="липа.jpg"/>
          <p:cNvPicPr/>
          <p:nvPr/>
        </p:nvPicPr>
        <p:blipFill>
          <a:blip r:embed="rId2"/>
          <a:stretch/>
        </p:blipFill>
        <p:spPr>
          <a:xfrm>
            <a:off x="3040200" y="2714760"/>
            <a:ext cx="23238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Вечнозелёные леса разнообразны по видовому составу, многоярусны, цветут и плодоносят круглый год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Рисунок 3" descr="влажный лес.jpg"/>
          <p:cNvPicPr/>
          <p:nvPr/>
        </p:nvPicPr>
        <p:blipFill>
          <a:blip r:embed="rId2"/>
          <a:stretch/>
        </p:blipFill>
        <p:spPr>
          <a:xfrm>
            <a:off x="2700360" y="3301920"/>
            <a:ext cx="34560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В этой природной зоне много злаков; почвы чернозёмные, богатые перегноем и очень плодородные. Здесь обитают дрофа, суслики, хомяки, полёв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Рисунок 3" descr="степь в Сар обл.jpg"/>
          <p:cNvPicPr/>
          <p:nvPr/>
        </p:nvPicPr>
        <p:blipFill>
          <a:blip r:embed="rId2"/>
          <a:stretch/>
        </p:blipFill>
        <p:spPr>
          <a:xfrm>
            <a:off x="2627280" y="3716280"/>
            <a:ext cx="48117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08:28:28Z</dcterms:created>
  <dc:creator>Nataly</dc:creator>
  <dc:description/>
  <dc:language>en-US</dc:language>
  <cp:lastModifiedBy>Nataly</cp:lastModifiedBy>
  <dcterms:modified xsi:type="dcterms:W3CDTF">2011-10-21T17:22:04Z</dcterms:modified>
  <cp:revision>16</cp:revision>
  <dc:subject/>
  <dc:title>Главные особенности природы Земли</dc:title>
</cp:coreProperties>
</file>