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E5E-323D-415A-97C0-6E553879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8BF-6E96-4C62-B49A-62F2061B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AF8-0717-40C5-99EA-DF649F58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315-8CB9-4B20-98ED-27316124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A658-6016-43B6-AA5F-C51193C1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3A1-B152-433B-A7DE-23A42A6E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8073-A1F7-4B25-8357-920409AC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C158-9AE4-4C97-BD3E-BBAB1649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9005-F472-43C4-AB0C-6585D296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AC35-04EC-4E6F-814F-6AB346CF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3CAE-DAD4-4C33-B71F-B3A3B2C1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230-FDED-430D-A322-0327ED56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F46E-C146-4C41-95C8-C3C0770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F22D-45FD-4489-8148-D440A422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AB16-C44A-4203-8B38-3B468661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862B-5263-4B65-989A-D7070E6C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572F-5562-45E0-9396-2A9FDF93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2CB-0102-4327-9F5E-2F107025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88A-8075-4682-B9E5-89E7C0EA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F4B-BAD8-4F08-A938-6EB8B913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FB6-C1DA-49E3-8BCF-6A50AB29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C80-D663-4A01-AB6D-E554FFCB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CAC-F7D8-4A88-ABE4-0DF0A81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4CA-5ECA-49AD-9844-07F6DB8E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1BB1-6A59-4FF6-98AD-C04569DC66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00C6-726D-4C16-803C-7A7BC76C91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1285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Тест 24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 чего что сделано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56760" y="23569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Контрольно-измерительные материалы по курсу «Окружающий мир»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к учебнику А.А.Плешакова</a:t>
            </a:r>
            <a:br>
              <a:rPr sz="1000"/>
            </a:br>
            <a:r>
              <a:rPr b="0" lang="ru-RU" sz="1400" spc="-1" strike="noStrike">
                <a:solidFill>
                  <a:srgbClr val="006633"/>
                </a:solidFill>
                <a:latin typeface="Garamond"/>
              </a:rPr>
              <a:t>Созданы по материалам сборника И.Ф.Яценко.,  </a:t>
            </a:r>
            <a:br>
              <a:rPr sz="1400"/>
            </a:br>
            <a:r>
              <a:rPr b="0" lang="ru-RU" sz="1400" spc="-1" strike="noStrike">
                <a:solidFill>
                  <a:srgbClr val="006633"/>
                </a:solidFill>
                <a:latin typeface="Garamond"/>
              </a:rPr>
              <a:t>при помощи конструктора Д. Ива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1643040" y="357192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изображения - 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571680" y="4071960"/>
            <a:ext cx="8572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Серкина В.Л.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-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МОУ «Средняя школа № 6» г. Когалы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"/>
                <a:ea typeface="Arial"/>
              </a:rPr>
              <a:t>Результат тес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http://butterworth-india.com/wp-content/uploads/2010/12/main_big.jpg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Что не делают из дерева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ьют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б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ма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3643200" y="4643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chpz.ru/wp-content/uploads/2012/08/%D0%9C%D0%B5%D1%82%D0%B0%D0%BB%D0%BB%D1%8B.jpg"/>
          <p:cNvPicPr/>
          <p:nvPr/>
        </p:nvPicPr>
        <p:blipFill>
          <a:blip r:embed="rId1"/>
          <a:stretch/>
        </p:blipFill>
        <p:spPr>
          <a:xfrm>
            <a:off x="-630360" y="-285840"/>
            <a:ext cx="10060200" cy="73580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solidFill>
            <a:srgbClr val="d9d9d9">
              <a:alpha val="68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42a"/>
                </a:solidFill>
                <a:latin typeface="Arial"/>
                <a:ea typeface="Arial"/>
              </a:rPr>
              <a:t>Что делают из металла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"/>
          <p:cNvSpPr/>
          <p:nvPr/>
        </p:nvSpPr>
        <p:spPr>
          <a:xfrm>
            <a:off x="5357880" y="44290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втомоб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4"/>
          <p:cNvSpPr/>
          <p:nvPr/>
        </p:nvSpPr>
        <p:spPr>
          <a:xfrm>
            <a:off x="-428760" y="2571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"/>
          <p:cNvSpPr/>
          <p:nvPr/>
        </p:nvSpPr>
        <p:spPr>
          <a:xfrm>
            <a:off x="7143840" y="26431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6"/>
          <p:cNvSpPr/>
          <p:nvPr/>
        </p:nvSpPr>
        <p:spPr>
          <a:xfrm>
            <a:off x="2143080" y="4357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б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www.baulux.ru/_mod_files/ce_images/articles/natur_gl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solidFill>
            <a:srgbClr val="e2caaa">
              <a:alpha val="66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Что делают из глины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214200" y="5429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рп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4"/>
          <p:cNvSpPr/>
          <p:nvPr/>
        </p:nvSpPr>
        <p:spPr>
          <a:xfrm>
            <a:off x="214200" y="37861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ма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6929280" y="1357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д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6"/>
          <p:cNvSpPr/>
          <p:nvPr/>
        </p:nvSpPr>
        <p:spPr>
          <a:xfrm>
            <a:off x="6929280" y="3000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Из чего делают одежду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78588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chpz.ru/wp-content/uploads/2012/08/%D0%9C%D0%B5%D1%82%D0%B0%D0%BB%D0%BB%D1%8B.jpg"/>
          <p:cNvPicPr/>
          <p:nvPr/>
        </p:nvPicPr>
        <p:blipFill>
          <a:blip r:embed="rId1"/>
          <a:stretch/>
        </p:blipFill>
        <p:spPr>
          <a:xfrm>
            <a:off x="5000760" y="1357200"/>
            <a:ext cx="3612960" cy="264348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6"/>
          <p:cNvSpPr/>
          <p:nvPr/>
        </p:nvSpPr>
        <p:spPr>
          <a:xfrm>
            <a:off x="5072040" y="3500280"/>
            <a:ext cx="3500640" cy="4287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http://butterworth-india.com/wp-content/uploads/2010/12/main_big.jpg"/>
          <p:cNvPicPr/>
          <p:nvPr/>
        </p:nvPicPr>
        <p:blipFill>
          <a:blip r:embed="rId2"/>
          <a:stretch/>
        </p:blipFill>
        <p:spPr>
          <a:xfrm>
            <a:off x="5072040" y="4071960"/>
            <a:ext cx="3500640" cy="2563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www.baulux.ru/_mod_files/ce_images/articles/natur_glina.jpg"/>
          <p:cNvPicPr/>
          <p:nvPr/>
        </p:nvPicPr>
        <p:blipFill>
          <a:blip r:embed="rId3"/>
          <a:stretch/>
        </p:blipFill>
        <p:spPr>
          <a:xfrm>
            <a:off x="714240" y="1357200"/>
            <a:ext cx="3500640" cy="262584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4"/>
          <p:cNvSpPr/>
          <p:nvPr/>
        </p:nvSpPr>
        <p:spPr>
          <a:xfrm>
            <a:off x="714240" y="3571920"/>
            <a:ext cx="3500640" cy="4287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5072040" y="6215040"/>
            <a:ext cx="3500640" cy="4287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де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http://copypast.ru/uploads/posts/thumbs/1322809883_00.jpg"/>
          <p:cNvPicPr/>
          <p:nvPr/>
        </p:nvPicPr>
        <p:blipFill>
          <a:blip r:embed="rId4"/>
          <a:stretch/>
        </p:blipFill>
        <p:spPr>
          <a:xfrm>
            <a:off x="714240" y="4071960"/>
            <a:ext cx="3500640" cy="2571840"/>
          </a:xfrm>
          <a:prstGeom prst="rect">
            <a:avLst/>
          </a:prstGeom>
          <a:ln w="0">
            <a:noFill/>
          </a:ln>
        </p:spPr>
      </p:pic>
      <p:sp>
        <p:nvSpPr>
          <p:cNvPr id="128" name="Скругленный прямоугольник 3"/>
          <p:cNvSpPr/>
          <p:nvPr/>
        </p:nvSpPr>
        <p:spPr>
          <a:xfrm>
            <a:off x="714240" y="6143760"/>
            <a:ext cx="3500640" cy="5000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шер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primamedia.ru/files/954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solidFill>
            <a:srgbClr val="f2f2f2">
              <a:alpha val="78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Какая страна считается родиной бумаги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00040" y="1643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3"/>
          <p:cNvSpPr/>
          <p:nvPr/>
        </p:nvSpPr>
        <p:spPr>
          <a:xfrm>
            <a:off x="2428920" y="5429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ревний Ки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4"/>
          <p:cNvSpPr/>
          <p:nvPr/>
        </p:nvSpPr>
        <p:spPr>
          <a:xfrm>
            <a:off x="428760" y="4214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5"/>
          <p:cNvSpPr/>
          <p:nvPr/>
        </p:nvSpPr>
        <p:spPr>
          <a:xfrm>
            <a:off x="6786720" y="5357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ревний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7"/>
          <p:cNvSpPr/>
          <p:nvPr/>
        </p:nvSpPr>
        <p:spPr>
          <a:xfrm>
            <a:off x="4643280" y="4214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Гр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kotomatrisi.ru/uploads/posts/2011-03/1299695223_1136141281_800x600_calendar-computer-fre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Из чего китайцы делали фарфор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631512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35712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белой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285840" y="1071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красной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5"/>
          <p:cNvSpPr/>
          <p:nvPr/>
        </p:nvSpPr>
        <p:spPr>
          <a:xfrm>
            <a:off x="357120" y="5500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35712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зо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3" descr="http://newciv.relarn.ru/work/2-09/bukvi/images/book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solidFill>
            <a:srgbClr val="f3eadd">
              <a:alpha val="6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  <a:ea typeface="Arial"/>
              </a:rPr>
              <a:t>На чём писали в древние времена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solidFill>
            <a:srgbClr val="f3eadd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несколько вариантов правильных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шё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2"/>
          <p:cNvSpPr/>
          <p:nvPr/>
        </p:nvSpPr>
        <p:spPr>
          <a:xfrm>
            <a:off x="378612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бамб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13"/>
          <p:cNvSpPr/>
          <p:nvPr/>
        </p:nvSpPr>
        <p:spPr>
          <a:xfrm>
            <a:off x="6643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г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4"/>
          <p:cNvSpPr/>
          <p:nvPr/>
        </p:nvSpPr>
        <p:spPr>
          <a:xfrm>
            <a:off x="378612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1</cp:lastModifiedBy>
  <dcterms:modified xsi:type="dcterms:W3CDTF">2012-12-25T10:53:09Z</dcterms:modified>
  <cp:revision>717</cp:revision>
  <dc:subject/>
  <dc:title>Слайд 1</dc:title>
</cp:coreProperties>
</file>