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0A1-E685-4950-BEC5-FF2E4FB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9DD-0922-4804-BF13-231CAFE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918-6508-48B7-9BA0-78EF1C34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23D-3AC2-405F-BBAD-9C5938FA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AA3-B902-4CBE-91E6-165E6814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4E3F-394F-41EC-8941-9EE3C86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02C-CE7D-4975-9CE8-52B9F46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0B91-7386-4998-8157-EC27F1C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5D40-FB42-4CF4-820E-4D33032D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8B02-EABE-40DC-9009-2699422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2C9-E6D3-4D75-923B-1A3694F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EE9-2686-4189-B449-3FAD937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CBA-D307-45BE-B1AD-569CDCE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42D-9398-432C-9E10-76BA1C4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809C-A1FF-41CE-BDD3-55B7CC81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A680-893D-4DB8-AA62-01200012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F33-3AB3-4D1E-88AD-5EB75FBD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FC-C6C6-4430-BA05-35DEF30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46A-D035-46E4-BE61-A6B8B6A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B9F-7847-4D79-AFBE-208E42D9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7C3-5918-4625-800A-DC7648DA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431-F08F-4DF0-8385-94A811F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F01-86EF-4954-9C13-CABE51F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590-F7C7-41B8-8116-9A80444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B5A8-1B01-4DD0-9D1B-1DE3233524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1FA7-D9C9-4FD2-A33D-B3D0EE82DC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8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Тест 24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 чего что сделано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6760" y="23569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Контрольно-измерительные материалы по курсу «Окружающий мир»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к учебнику А.А.Плешакова</a:t>
            </a:r>
            <a:br>
              <a:rPr sz="1000"/>
            </a:br>
            <a:r>
              <a:rPr b="0" lang="ru-RU" sz="1400" spc="-1" strike="noStrike">
                <a:solidFill>
                  <a:srgbClr val="006633"/>
                </a:solidFill>
                <a:latin typeface="Garamond"/>
              </a:rPr>
              <a:t>Созданы по материалам сборника И.Ф.Яценко.,  </a:t>
            </a:r>
            <a:br>
              <a:rPr sz="1400"/>
            </a:br>
            <a:r>
              <a:rPr b="0" lang="ru-RU" sz="1400" spc="-1" strike="noStrike">
                <a:solidFill>
                  <a:srgbClr val="006633"/>
                </a:solidFill>
                <a:latin typeface="Garamond"/>
              </a:rPr>
              <a:t>при помощи конструктора Д. Ива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1643040" y="35719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изображения - 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571680" y="4071960"/>
            <a:ext cx="8572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еркина В.Л.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-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ОУ «Средняя школа № 6» г. Когалы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  <a:ea typeface="Arial"/>
              </a:rPr>
              <a:t>Результат те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http://butterworth-india.com/wp-content/uploads/2010/12/main_big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то не делают из дерев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м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3643200" y="4643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chpz.ru/wp-content/uploads/2012/08/%D0%9C%D0%B5%D1%82%D0%B0%D0%BB%D0%BB%D1%8B.jpg"/>
          <p:cNvPicPr/>
          <p:nvPr/>
        </p:nvPicPr>
        <p:blipFill>
          <a:blip r:embed="rId1"/>
          <a:stretch/>
        </p:blipFill>
        <p:spPr>
          <a:xfrm>
            <a:off x="-630360" y="-285840"/>
            <a:ext cx="10060200" cy="7358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solidFill>
            <a:srgbClr val="d9d9d9">
              <a:alpha val="6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42a"/>
                </a:solidFill>
                <a:latin typeface="Arial"/>
                <a:ea typeface="Arial"/>
              </a:rPr>
              <a:t>Что делают из металл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5357880" y="442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втомо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-428760" y="2571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/>
          <p:cNvSpPr/>
          <p:nvPr/>
        </p:nvSpPr>
        <p:spPr>
          <a:xfrm>
            <a:off x="7143840" y="2643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6"/>
          <p:cNvSpPr/>
          <p:nvPr/>
        </p:nvSpPr>
        <p:spPr>
          <a:xfrm>
            <a:off x="214308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baulux.ru/_mod_files/ce_images/articles/natur_gl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solidFill>
            <a:srgbClr val="e2caaa">
              <a:alpha val="66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Что делают из глины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214200" y="5429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рп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214200" y="37861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м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6929280" y="1357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д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6"/>
          <p:cNvSpPr/>
          <p:nvPr/>
        </p:nvSpPr>
        <p:spPr>
          <a:xfrm>
            <a:off x="6929280" y="3000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Из чего делают одежду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7858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chpz.ru/wp-content/uploads/2012/08/%D0%9C%D0%B5%D1%82%D0%B0%D0%BB%D0%BB%D1%8B.jpg"/>
          <p:cNvPicPr/>
          <p:nvPr/>
        </p:nvPicPr>
        <p:blipFill>
          <a:blip r:embed="rId1"/>
          <a:stretch/>
        </p:blipFill>
        <p:spPr>
          <a:xfrm>
            <a:off x="5000760" y="1357200"/>
            <a:ext cx="3612960" cy="264348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6"/>
          <p:cNvSpPr/>
          <p:nvPr/>
        </p:nvSpPr>
        <p:spPr>
          <a:xfrm>
            <a:off x="5072040" y="350028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http://butterworth-india.com/wp-content/uploads/2010/12/main_big.jpg"/>
          <p:cNvPicPr/>
          <p:nvPr/>
        </p:nvPicPr>
        <p:blipFill>
          <a:blip r:embed="rId2"/>
          <a:stretch/>
        </p:blipFill>
        <p:spPr>
          <a:xfrm>
            <a:off x="5072040" y="4071960"/>
            <a:ext cx="3500640" cy="2563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ww.baulux.ru/_mod_files/ce_images/articles/natur_glina.jpg"/>
          <p:cNvPicPr/>
          <p:nvPr/>
        </p:nvPicPr>
        <p:blipFill>
          <a:blip r:embed="rId3"/>
          <a:stretch/>
        </p:blipFill>
        <p:spPr>
          <a:xfrm>
            <a:off x="714240" y="1357200"/>
            <a:ext cx="3500640" cy="262584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4"/>
          <p:cNvSpPr/>
          <p:nvPr/>
        </p:nvSpPr>
        <p:spPr>
          <a:xfrm>
            <a:off x="714240" y="357192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5072040" y="621504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http://copypast.ru/uploads/posts/thumbs/1322809883_00.jpg"/>
          <p:cNvPicPr/>
          <p:nvPr/>
        </p:nvPicPr>
        <p:blipFill>
          <a:blip r:embed="rId4"/>
          <a:stretch/>
        </p:blipFill>
        <p:spPr>
          <a:xfrm>
            <a:off x="714240" y="4071960"/>
            <a:ext cx="350064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3"/>
          <p:cNvSpPr/>
          <p:nvPr/>
        </p:nvSpPr>
        <p:spPr>
          <a:xfrm>
            <a:off x="714240" y="6143760"/>
            <a:ext cx="3500640" cy="5000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шер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primamedia.ru/files/954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Какая страна считается родиной бумаги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0040" y="1643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3"/>
          <p:cNvSpPr/>
          <p:nvPr/>
        </p:nvSpPr>
        <p:spPr>
          <a:xfrm>
            <a:off x="2428920" y="5429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ий Ки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4"/>
          <p:cNvSpPr/>
          <p:nvPr/>
        </p:nvSpPr>
        <p:spPr>
          <a:xfrm>
            <a:off x="428760" y="4214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5"/>
          <p:cNvSpPr/>
          <p:nvPr/>
        </p:nvSpPr>
        <p:spPr>
          <a:xfrm>
            <a:off x="6786720" y="5357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ий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7"/>
          <p:cNvSpPr/>
          <p:nvPr/>
        </p:nvSpPr>
        <p:spPr>
          <a:xfrm>
            <a:off x="4643280" y="4214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kotomatrisi.ru/uploads/posts/2011-03/1299695223_1136141281_800x600_calendar-computer-fre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Из чего китайцы делали фарфор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631512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35712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бел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85840" y="107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красн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357120" y="550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5712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зо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3" descr="http://newciv.relarn.ru/work/2-09/bukvi/images/book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solidFill>
            <a:srgbClr val="f3eadd">
              <a:alpha val="6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На чём писали в древние времен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solidFill>
            <a:srgbClr val="f3eadd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несколько вариантов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шё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378612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бамб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6643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г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4"/>
          <p:cNvSpPr/>
          <p:nvPr/>
        </p:nvSpPr>
        <p:spPr>
          <a:xfrm>
            <a:off x="378612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1</cp:lastModifiedBy>
  <dcterms:modified xsi:type="dcterms:W3CDTF">2012-12-25T10:53:09Z</dcterms:modified>
  <cp:revision>717</cp:revision>
  <dc:subject/>
  <dc:title>Слайд 1</dc:title>
</cp:coreProperties>
</file>