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957-067A-423F-9B5A-1B1E5896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00A-A4EC-4286-B070-72D2AB9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01D-321A-42FF-BD1F-951D301C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567-52A3-40C3-9494-FA5CFE4F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D92-BA9E-40AA-95C3-C27D589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24F-E68F-4A44-9CFB-F6209D55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53A-7C43-42F3-B7A6-297F91F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230-E799-40DA-A460-4A7C282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C4B-5EA7-4B2B-B964-EB6061A4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014-0CA8-4157-B2B6-B4F7276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AAF-F065-4668-BEF6-6DA1943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3D4-2715-49CE-B523-9AA2B1A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2B1-FCD7-4994-946C-3A54C7A52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Из истории костюма русских императри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81644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630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1020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76720" y="5084640"/>
            <a:ext cx="37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Левицкий Дмитрий Портрет Екатерины II 17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157640" y="333360"/>
            <a:ext cx="4567320" cy="604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4076640"/>
            <a:ext cx="32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 Рокотов Фёдор Степанович 1770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Государственный Эрми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55920" y="260280"/>
            <a:ext cx="440244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365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653000" cy="5792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5445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лексей Антропов Портрет Екатерин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581360" cy="582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445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05440" y="333360"/>
            <a:ext cx="4279680" cy="612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7973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ампи, Иоганн-Баптист Старший Портрет Екатерины 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37160" y="333360"/>
            <a:ext cx="4057560" cy="633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93372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ртрет Екатерины II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ампи, Иоганн-Баптист Старший 1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32200" y="189000"/>
            <a:ext cx="475128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661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ортрет Екатерины I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30640" cy="626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458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ладимир Боровиковский Портрет Екатерины I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16572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08600" cy="630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08720" y="7650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Луи Каравакк Портрет императрицы Анны Иоанновны 1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58632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2353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5950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659480" cy="640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177336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уи Каравакк                      Портрет императрицы Елизаветы Петровны 175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78320" cy="612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2720" y="155736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оганн Гроот            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24240" cy="6126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03640" y="148428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ван Вишняков Портрет императрицы Елизаветы Петровны 1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ретьяковская галерея, Москв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42000" cy="597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6000" y="2781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ортрет императрицы Елизаветы Петро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62360" y="260280"/>
            <a:ext cx="5018040" cy="626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2133720"/>
            <a:ext cx="30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лексей Антропов Портрет императрицы Елизаветы Петровны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Государственный Русский музей, Санкт-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178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51640" y="3500280"/>
            <a:ext cx="32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кке, Луи Портрет императрицы Елизаветы Петровны 17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2:02:43Z</dcterms:created>
  <dc:creator>Людмила</dc:creator>
  <dc:description/>
  <dc:language>en-US</dc:language>
  <cp:lastModifiedBy>Людмила</cp:lastModifiedBy>
  <dcterms:modified xsi:type="dcterms:W3CDTF">2010-01-23T18:28:05Z</dcterms:modified>
  <cp:revision>4</cp:revision>
  <dc:subject/>
  <dc:title>Из истории костюма русских императриц </dc:title>
</cp:coreProperties>
</file>