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6A9-E6B1-40AD-B1C5-AF53A6C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9BC-0AC5-4062-8FBB-1552D93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F8C-8377-4923-A84C-0DD4603B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E0D-A08F-4822-9F39-DB68DB59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782-9BB6-4C3E-AF5D-3A59481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E3B-4064-4266-B94E-3826CFE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9D3-E8B7-4628-85A9-EDEB854A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A7A-1B22-4930-894A-338F80E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311-D974-411D-8AFD-000541A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C4B-95F8-4841-86DA-E300092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70D-A027-40C9-A068-EFA851C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E49-1EA0-4646-81CE-C3793FC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A10-1E2E-43A1-9BF2-EA5FD6815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Из истории костюма русских императри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81644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630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1020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76720" y="5084640"/>
            <a:ext cx="37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Левицкий Дмитрий Портрет Екатерины II 17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157640" y="333360"/>
            <a:ext cx="4567320" cy="604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4076640"/>
            <a:ext cx="32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 Рокотов Фёдор Степанович 1770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Государственный Эрми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55920" y="260280"/>
            <a:ext cx="440244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365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653000" cy="5792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5445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лексей Антропов Портрет Екатерин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581360" cy="582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445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05440" y="333360"/>
            <a:ext cx="4279680" cy="612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7973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ампи, Иоганн-Баптист Старший Портрет Екатерины 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37160" y="333360"/>
            <a:ext cx="4057560" cy="633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93372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ртрет Екатерины II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ампи, Иоганн-Баптист Старший 1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32200" y="189000"/>
            <a:ext cx="475128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661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30640" cy="626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458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ладимир Боровиковский Портрет Екатерины 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16572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08600" cy="630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08720" y="7650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Луи Каравакк Портрет императрицы Анны Иоанновны 1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58632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2353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5950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659480" cy="640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177336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уи Каравакк                      Портрет императрицы Елизаветы Петровны 175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78320" cy="612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2720" y="155736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оганн Гроот            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24240" cy="6126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03640" y="148428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ван Вишняков Портрет императрицы Елизаветы Петровны 1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ретьяковская галерея, Москв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42000" cy="597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6000" y="2781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62360" y="260280"/>
            <a:ext cx="5018040" cy="626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2133720"/>
            <a:ext cx="30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лексей Антропов Портрет императрицы Елизаветы Петровны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Государственный Русский музей, Санкт-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178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51640" y="3500280"/>
            <a:ext cx="32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кке, Луи Портрет императрицы Елизаветы Петровны 17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2:02:43Z</dcterms:created>
  <dc:creator>Людмила</dc:creator>
  <dc:description/>
  <dc:language>en-US</dc:language>
  <cp:lastModifiedBy>Людмила</cp:lastModifiedBy>
  <dcterms:modified xsi:type="dcterms:W3CDTF">2010-01-23T18:28:05Z</dcterms:modified>
  <cp:revision>4</cp:revision>
  <dc:subject/>
  <dc:title>Из истории костюма русских императриц </dc:title>
</cp:coreProperties>
</file>