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B7C9-E241-43E0-A589-C18A479006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6BF20-1CF9-4400-A029-614B15BE04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F30A0-8004-474A-8C5C-FE5625680F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6CC024-5092-48DF-BB5A-764952DE1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AF71C-3642-4919-8D2D-2B894CEBAF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B4F43-4045-4F28-8DB2-6F40EDAE87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6A599-3927-44CA-B541-E8B826B9E2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132C5-C075-4DD5-B763-2984957C31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55CB-9B2B-4D76-8063-8A6061F9BC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8F8D6-A20E-4264-8299-B316242508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EAC72-5CEF-4A63-BAA2-3C42B7CD73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AEA9D-4940-4795-9B09-D0D352206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106B6-E245-4494-8941-3547B1880E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0C86C6-5673-47B3-9794-8081D0047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77484-DDBA-41FB-B287-FB0198CD0F1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9E6B0-CE6E-42A8-AB9E-9A1FA083AA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B6E1-2BC1-4EDE-85C5-39A88FEAE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FF9D-1B03-43D4-BC45-5D5419AAB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644D-72B4-4733-BF5A-24BD6301E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A134-84C9-482E-B186-7B088DFE1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EFAB-C1FD-4C5F-A678-F836FC246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3E33-B7CE-4517-A4A8-170BE36026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80B3-9315-46AB-B51B-1CD20C1BA7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F357-1E74-48A3-A0C8-9C1E3E82B7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6F5D-FCF6-4DC1-9F8E-A55B57D4D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96B3-ABC1-4028-9A6A-A46ED3A228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F87E-C0DC-4D5E-B91E-CAC34BA9C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606B-50B4-4665-9402-7CF785629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1D93-02A6-4DC9-95AA-A63B15C326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0BA5-02F4-4004-A266-CDBE89395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28D4-6F28-4191-B47A-3F5CBA82C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25D5-0CA9-43BC-9545-A95BE3781C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CDD1-3D12-415A-B1EE-9FD0930C4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C070-655F-43CA-BA05-2395D2DF2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1019-ABC9-4736-8AF9-F9AB2752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F98A-3659-4BD9-A980-BFCB1BAC7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9997-F749-470D-A974-78AD0EEA9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C418-DA14-48B5-995E-546E6AADB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6635-E1F7-476F-A1C8-8C059EC77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489F-DEA2-4FDC-823A-806CB33B0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1CB2A5-29F5-4937-A48C-B1BDE10BF72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dceff0"/>
              </a:gs>
              <a:gs pos="100000">
                <a:srgbClr val="33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152280" y="1600200"/>
            <a:ext cx="8990280" cy="4722480"/>
            <a:chOff x="152280" y="1600200"/>
            <a:chExt cx="8990280" cy="4722480"/>
          </a:xfrm>
        </p:grpSpPr>
        <p:sp>
          <p:nvSpPr>
            <p:cNvPr id="5" name="AutoShape 6"/>
            <p:cNvSpPr/>
            <p:nvPr/>
          </p:nvSpPr>
          <p:spPr>
            <a:xfrm>
              <a:off x="317520" y="1809720"/>
              <a:ext cx="2643120" cy="431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233280" y="2222640"/>
              <a:ext cx="69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874800" y="2495520"/>
              <a:ext cx="79200" cy="69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2506680" y="2620800"/>
              <a:ext cx="203040" cy="163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517760" y="3476880"/>
              <a:ext cx="328680" cy="185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789200" y="3619800"/>
              <a:ext cx="204840" cy="88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2006640" y="3677040"/>
              <a:ext cx="77760" cy="41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124000" y="3683520"/>
              <a:ext cx="23760" cy="53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1743120" y="1798560"/>
              <a:ext cx="374760" cy="193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909800" y="1706400"/>
              <a:ext cx="303120" cy="133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2336760" y="1863720"/>
              <a:ext cx="484200" cy="41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333520" y="1681200"/>
              <a:ext cx="90720" cy="79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2157480" y="1836720"/>
              <a:ext cx="133200" cy="92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2300400" y="1854360"/>
              <a:ext cx="110880" cy="53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2239920" y="1773360"/>
              <a:ext cx="131760" cy="7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2182680" y="1701720"/>
              <a:ext cx="9072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2421000" y="1709640"/>
              <a:ext cx="236520" cy="169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152280" y="2255760"/>
              <a:ext cx="5076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1731960" y="3394440"/>
              <a:ext cx="3168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1738440" y="3449880"/>
              <a:ext cx="3168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2163600" y="3743640"/>
              <a:ext cx="30240" cy="23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2422440" y="266544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2214720" y="220824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2349360" y="1809720"/>
              <a:ext cx="8280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2481120" y="204948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2514600" y="1600200"/>
              <a:ext cx="1450800" cy="770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959200" y="2009880"/>
              <a:ext cx="82440" cy="52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3549600" y="2157480"/>
              <a:ext cx="268200" cy="11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3760920" y="1793880"/>
              <a:ext cx="8244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4322880" y="1722600"/>
              <a:ext cx="320400" cy="137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4524480" y="1795320"/>
              <a:ext cx="10152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3914640" y="2401920"/>
              <a:ext cx="225720" cy="293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>
              <a:off x="3801960" y="2509920"/>
              <a:ext cx="139680" cy="14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AutoShape 39"/>
            <p:cNvSpPr/>
            <p:nvPr/>
          </p:nvSpPr>
          <p:spPr>
            <a:xfrm>
              <a:off x="7321680" y="5056920"/>
              <a:ext cx="987120" cy="110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AutoShape 40"/>
            <p:cNvSpPr/>
            <p:nvPr/>
          </p:nvSpPr>
          <p:spPr>
            <a:xfrm>
              <a:off x="7629480" y="4475880"/>
              <a:ext cx="663480" cy="466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AutoShape 41"/>
            <p:cNvSpPr/>
            <p:nvPr/>
          </p:nvSpPr>
          <p:spPr>
            <a:xfrm>
              <a:off x="7647120" y="4479120"/>
              <a:ext cx="647640" cy="468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AutoShape 42"/>
            <p:cNvSpPr/>
            <p:nvPr/>
          </p:nvSpPr>
          <p:spPr>
            <a:xfrm>
              <a:off x="8128080" y="6195600"/>
              <a:ext cx="92160" cy="127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AutoShape 43"/>
            <p:cNvSpPr/>
            <p:nvPr/>
          </p:nvSpPr>
          <p:spPr>
            <a:xfrm>
              <a:off x="8410680" y="5995440"/>
              <a:ext cx="34128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AutoShape 44"/>
            <p:cNvSpPr/>
            <p:nvPr/>
          </p:nvSpPr>
          <p:spPr>
            <a:xfrm>
              <a:off x="8766000" y="5884200"/>
              <a:ext cx="216000" cy="203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AutoShape 45"/>
            <p:cNvSpPr/>
            <p:nvPr/>
          </p:nvSpPr>
          <p:spPr>
            <a:xfrm>
              <a:off x="8880480" y="5792400"/>
              <a:ext cx="7632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AutoShape 46"/>
            <p:cNvSpPr/>
            <p:nvPr/>
          </p:nvSpPr>
          <p:spPr>
            <a:xfrm>
              <a:off x="5284800" y="4709160"/>
              <a:ext cx="254160" cy="446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47"/>
            <p:cNvSpPr/>
            <p:nvPr/>
          </p:nvSpPr>
          <p:spPr>
            <a:xfrm>
              <a:off x="6394320" y="4014000"/>
              <a:ext cx="10008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AutoShape 48"/>
            <p:cNvSpPr/>
            <p:nvPr/>
          </p:nvSpPr>
          <p:spPr>
            <a:xfrm>
              <a:off x="7089840" y="4161600"/>
              <a:ext cx="230040" cy="406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49"/>
            <p:cNvSpPr/>
            <p:nvPr/>
          </p:nvSpPr>
          <p:spPr>
            <a:xfrm>
              <a:off x="6892920" y="4034520"/>
              <a:ext cx="146160" cy="30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50"/>
            <p:cNvSpPr/>
            <p:nvPr/>
          </p:nvSpPr>
          <p:spPr>
            <a:xfrm>
              <a:off x="6996240" y="4278960"/>
              <a:ext cx="81000" cy="290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>
              <a:off x="7089840" y="4583880"/>
              <a:ext cx="133200" cy="11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52"/>
            <p:cNvSpPr/>
            <p:nvPr/>
          </p:nvSpPr>
          <p:spPr>
            <a:xfrm>
              <a:off x="7307280" y="4372560"/>
              <a:ext cx="171360" cy="260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53"/>
            <p:cNvSpPr/>
            <p:nvPr/>
          </p:nvSpPr>
          <p:spPr>
            <a:xfrm>
              <a:off x="7248600" y="3440520"/>
              <a:ext cx="44280" cy="156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54"/>
            <p:cNvSpPr/>
            <p:nvPr/>
          </p:nvSpPr>
          <p:spPr>
            <a:xfrm>
              <a:off x="7277040" y="3707280"/>
              <a:ext cx="125640" cy="26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>
              <a:off x="7367760" y="4053600"/>
              <a:ext cx="131760" cy="171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56"/>
            <p:cNvSpPr/>
            <p:nvPr/>
          </p:nvSpPr>
          <p:spPr>
            <a:xfrm>
              <a:off x="7526160" y="4367880"/>
              <a:ext cx="59040" cy="108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57"/>
            <p:cNvSpPr/>
            <p:nvPr/>
          </p:nvSpPr>
          <p:spPr>
            <a:xfrm>
              <a:off x="7493040" y="4550400"/>
              <a:ext cx="34920" cy="33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AutoShape 58"/>
            <p:cNvSpPr/>
            <p:nvPr/>
          </p:nvSpPr>
          <p:spPr>
            <a:xfrm>
              <a:off x="7548480" y="4529880"/>
              <a:ext cx="921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59"/>
            <p:cNvSpPr/>
            <p:nvPr/>
          </p:nvSpPr>
          <p:spPr>
            <a:xfrm>
              <a:off x="7693200" y="4685400"/>
              <a:ext cx="4896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AutoShape 60"/>
            <p:cNvSpPr/>
            <p:nvPr/>
          </p:nvSpPr>
          <p:spPr>
            <a:xfrm>
              <a:off x="8250120" y="4591800"/>
              <a:ext cx="93960" cy="103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AutoShape 61"/>
            <p:cNvSpPr/>
            <p:nvPr/>
          </p:nvSpPr>
          <p:spPr>
            <a:xfrm>
              <a:off x="7421400" y="4722120"/>
              <a:ext cx="93960" cy="109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62"/>
            <p:cNvSpPr/>
            <p:nvPr/>
          </p:nvSpPr>
          <p:spPr>
            <a:xfrm>
              <a:off x="7319880" y="4764960"/>
              <a:ext cx="651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3"/>
            <p:cNvSpPr/>
            <p:nvPr/>
          </p:nvSpPr>
          <p:spPr>
            <a:xfrm>
              <a:off x="7275600" y="4699800"/>
              <a:ext cx="48960" cy="6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64"/>
            <p:cNvSpPr/>
            <p:nvPr/>
          </p:nvSpPr>
          <p:spPr>
            <a:xfrm>
              <a:off x="7346880" y="4725000"/>
              <a:ext cx="6984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65"/>
            <p:cNvSpPr/>
            <p:nvPr/>
          </p:nvSpPr>
          <p:spPr>
            <a:xfrm>
              <a:off x="7243920" y="3985200"/>
              <a:ext cx="53640" cy="120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6"/>
            <p:cNvSpPr/>
            <p:nvPr/>
          </p:nvSpPr>
          <p:spPr>
            <a:xfrm>
              <a:off x="7350120" y="3964680"/>
              <a:ext cx="38160" cy="122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67"/>
            <p:cNvSpPr/>
            <p:nvPr/>
          </p:nvSpPr>
          <p:spPr>
            <a:xfrm>
              <a:off x="7396200" y="3926160"/>
              <a:ext cx="19080" cy="54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68"/>
            <p:cNvSpPr/>
            <p:nvPr/>
          </p:nvSpPr>
          <p:spPr>
            <a:xfrm>
              <a:off x="7416720" y="3953160"/>
              <a:ext cx="42840" cy="104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69"/>
            <p:cNvSpPr/>
            <p:nvPr/>
          </p:nvSpPr>
          <p:spPr>
            <a:xfrm>
              <a:off x="6856560" y="4107600"/>
              <a:ext cx="237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70"/>
            <p:cNvSpPr/>
            <p:nvPr/>
          </p:nvSpPr>
          <p:spPr>
            <a:xfrm>
              <a:off x="6835680" y="405684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utoShape 71"/>
            <p:cNvSpPr/>
            <p:nvPr/>
          </p:nvSpPr>
          <p:spPr>
            <a:xfrm>
              <a:off x="6826320" y="4017240"/>
              <a:ext cx="22320" cy="28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utoShape 72"/>
            <p:cNvSpPr/>
            <p:nvPr/>
          </p:nvSpPr>
          <p:spPr>
            <a:xfrm>
              <a:off x="6802560" y="3926160"/>
              <a:ext cx="21960" cy="41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73"/>
            <p:cNvSpPr/>
            <p:nvPr/>
          </p:nvSpPr>
          <p:spPr>
            <a:xfrm>
              <a:off x="6805440" y="3982320"/>
              <a:ext cx="33480" cy="27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74"/>
            <p:cNvSpPr/>
            <p:nvPr/>
          </p:nvSpPr>
          <p:spPr>
            <a:xfrm>
              <a:off x="8551800" y="5371560"/>
              <a:ext cx="92160" cy="13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75"/>
            <p:cNvSpPr/>
            <p:nvPr/>
          </p:nvSpPr>
          <p:spPr>
            <a:xfrm>
              <a:off x="9032760" y="5262120"/>
              <a:ext cx="109800" cy="100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76"/>
            <p:cNvSpPr/>
            <p:nvPr/>
          </p:nvSpPr>
          <p:spPr>
            <a:xfrm>
              <a:off x="8699400" y="5206320"/>
              <a:ext cx="3348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77"/>
            <p:cNvSpPr/>
            <p:nvPr/>
          </p:nvSpPr>
          <p:spPr>
            <a:xfrm>
              <a:off x="8683560" y="5157360"/>
              <a:ext cx="41400" cy="36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78"/>
            <p:cNvSpPr/>
            <p:nvPr/>
          </p:nvSpPr>
          <p:spPr>
            <a:xfrm>
              <a:off x="8362800" y="4725000"/>
              <a:ext cx="4932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79"/>
            <p:cNvSpPr/>
            <p:nvPr/>
          </p:nvSpPr>
          <p:spPr>
            <a:xfrm>
              <a:off x="8434440" y="4820400"/>
              <a:ext cx="52200" cy="71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>
              <a:off x="8489880" y="4961520"/>
              <a:ext cx="57240" cy="60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81"/>
            <p:cNvSpPr/>
            <p:nvPr/>
          </p:nvSpPr>
          <p:spPr>
            <a:xfrm>
              <a:off x="8561520" y="4939560"/>
              <a:ext cx="5688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82"/>
            <p:cNvSpPr/>
            <p:nvPr/>
          </p:nvSpPr>
          <p:spPr>
            <a:xfrm>
              <a:off x="8540640" y="4858560"/>
              <a:ext cx="52560" cy="42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83"/>
            <p:cNvSpPr/>
            <p:nvPr/>
          </p:nvSpPr>
          <p:spPr>
            <a:xfrm>
              <a:off x="8486640" y="4802760"/>
              <a:ext cx="52560" cy="76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84"/>
            <p:cNvSpPr/>
            <p:nvPr/>
          </p:nvSpPr>
          <p:spPr>
            <a:xfrm>
              <a:off x="8420040" y="4767840"/>
              <a:ext cx="4932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85"/>
            <p:cNvSpPr/>
            <p:nvPr/>
          </p:nvSpPr>
          <p:spPr>
            <a:xfrm>
              <a:off x="8502480" y="4885560"/>
              <a:ext cx="4932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86"/>
            <p:cNvSpPr/>
            <p:nvPr/>
          </p:nvSpPr>
          <p:spPr>
            <a:xfrm>
              <a:off x="5141880" y="1822320"/>
              <a:ext cx="291960" cy="239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87"/>
            <p:cNvSpPr/>
            <p:nvPr/>
          </p:nvSpPr>
          <p:spPr>
            <a:xfrm>
              <a:off x="5318280" y="2054160"/>
              <a:ext cx="8244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88"/>
            <p:cNvSpPr/>
            <p:nvPr/>
          </p:nvSpPr>
          <p:spPr>
            <a:xfrm>
              <a:off x="5745240" y="1706400"/>
              <a:ext cx="85680" cy="60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89"/>
            <p:cNvSpPr/>
            <p:nvPr/>
          </p:nvSpPr>
          <p:spPr>
            <a:xfrm>
              <a:off x="5808600" y="1735200"/>
              <a:ext cx="103320" cy="42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0"/>
            <p:cNvSpPr/>
            <p:nvPr/>
          </p:nvSpPr>
          <p:spPr>
            <a:xfrm>
              <a:off x="5921280" y="1743120"/>
              <a:ext cx="103320" cy="69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91"/>
            <p:cNvSpPr/>
            <p:nvPr/>
          </p:nvSpPr>
          <p:spPr>
            <a:xfrm>
              <a:off x="6649920" y="1803240"/>
              <a:ext cx="182520" cy="66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92"/>
            <p:cNvSpPr/>
            <p:nvPr/>
          </p:nvSpPr>
          <p:spPr>
            <a:xfrm>
              <a:off x="6837480" y="1800360"/>
              <a:ext cx="93600" cy="52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93"/>
            <p:cNvSpPr/>
            <p:nvPr/>
          </p:nvSpPr>
          <p:spPr>
            <a:xfrm>
              <a:off x="6792840" y="1865160"/>
              <a:ext cx="76320" cy="36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94"/>
            <p:cNvSpPr/>
            <p:nvPr/>
          </p:nvSpPr>
          <p:spPr>
            <a:xfrm>
              <a:off x="7319880" y="2363760"/>
              <a:ext cx="157320" cy="254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95"/>
            <p:cNvSpPr/>
            <p:nvPr/>
          </p:nvSpPr>
          <p:spPr>
            <a:xfrm>
              <a:off x="7446960" y="2627280"/>
              <a:ext cx="112680" cy="171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96"/>
            <p:cNvSpPr/>
            <p:nvPr/>
          </p:nvSpPr>
          <p:spPr>
            <a:xfrm>
              <a:off x="7372440" y="2805480"/>
              <a:ext cx="225360" cy="41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7"/>
            <p:cNvSpPr/>
            <p:nvPr/>
          </p:nvSpPr>
          <p:spPr>
            <a:xfrm>
              <a:off x="5157720" y="1682640"/>
              <a:ext cx="106560" cy="65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98"/>
            <p:cNvSpPr/>
            <p:nvPr/>
          </p:nvSpPr>
          <p:spPr>
            <a:xfrm>
              <a:off x="4933800" y="1701720"/>
              <a:ext cx="3816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99"/>
            <p:cNvSpPr/>
            <p:nvPr/>
          </p:nvSpPr>
          <p:spPr>
            <a:xfrm>
              <a:off x="4984920" y="1700280"/>
              <a:ext cx="759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00"/>
            <p:cNvSpPr/>
            <p:nvPr/>
          </p:nvSpPr>
          <p:spPr>
            <a:xfrm>
              <a:off x="5111640" y="1681200"/>
              <a:ext cx="39960" cy="33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1"/>
            <p:cNvSpPr/>
            <p:nvPr/>
          </p:nvSpPr>
          <p:spPr>
            <a:xfrm>
              <a:off x="5073480" y="1720800"/>
              <a:ext cx="30240" cy="27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102"/>
            <p:cNvSpPr/>
            <p:nvPr/>
          </p:nvSpPr>
          <p:spPr>
            <a:xfrm>
              <a:off x="7453440" y="1755720"/>
              <a:ext cx="3636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103"/>
            <p:cNvSpPr/>
            <p:nvPr/>
          </p:nvSpPr>
          <p:spPr>
            <a:xfrm>
              <a:off x="5608800" y="4991760"/>
              <a:ext cx="633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104"/>
            <p:cNvSpPr/>
            <p:nvPr/>
          </p:nvSpPr>
          <p:spPr>
            <a:xfrm>
              <a:off x="5691240" y="4975920"/>
              <a:ext cx="2232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105"/>
            <p:cNvSpPr/>
            <p:nvPr/>
          </p:nvSpPr>
          <p:spPr>
            <a:xfrm>
              <a:off x="5551560" y="4633200"/>
              <a:ext cx="172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106"/>
            <p:cNvSpPr/>
            <p:nvPr/>
          </p:nvSpPr>
          <p:spPr>
            <a:xfrm>
              <a:off x="5676840" y="4471200"/>
              <a:ext cx="20520" cy="41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07"/>
            <p:cNvSpPr/>
            <p:nvPr/>
          </p:nvSpPr>
          <p:spPr>
            <a:xfrm>
              <a:off x="5626080" y="4469400"/>
              <a:ext cx="20520" cy="39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8"/>
            <p:cNvSpPr/>
            <p:nvPr/>
          </p:nvSpPr>
          <p:spPr>
            <a:xfrm>
              <a:off x="5603760" y="451872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09"/>
            <p:cNvSpPr/>
            <p:nvPr/>
          </p:nvSpPr>
          <p:spPr>
            <a:xfrm>
              <a:off x="5551560" y="4593240"/>
              <a:ext cx="17280" cy="3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10"/>
            <p:cNvSpPr/>
            <p:nvPr/>
          </p:nvSpPr>
          <p:spPr>
            <a:xfrm>
              <a:off x="5591160" y="456480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11"/>
            <p:cNvSpPr/>
            <p:nvPr/>
          </p:nvSpPr>
          <p:spPr>
            <a:xfrm>
              <a:off x="4060800" y="236232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12"/>
            <p:cNvSpPr/>
            <p:nvPr/>
          </p:nvSpPr>
          <p:spPr>
            <a:xfrm>
              <a:off x="3933720" y="228600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13"/>
            <p:cNvSpPr/>
            <p:nvPr/>
          </p:nvSpPr>
          <p:spPr>
            <a:xfrm>
              <a:off x="3436920" y="1803240"/>
              <a:ext cx="4297320" cy="36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6"/>
          <p:cNvSpPr/>
          <p:nvPr/>
        </p:nvSpPr>
        <p:spPr>
          <a:xfrm rot="5400000">
            <a:off x="22968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7"/>
          <p:cNvSpPr/>
          <p:nvPr/>
        </p:nvSpPr>
        <p:spPr>
          <a:xfrm rot="5400000">
            <a:off x="5346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8"/>
          <p:cNvSpPr/>
          <p:nvPr/>
        </p:nvSpPr>
        <p:spPr>
          <a:xfrm rot="5400000">
            <a:off x="83916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743040" y="5499000"/>
            <a:ext cx="390600" cy="839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152280" y="1066680"/>
            <a:ext cx="8990280" cy="4722480"/>
            <a:chOff x="152280" y="1066680"/>
            <a:chExt cx="8990280" cy="4722480"/>
          </a:xfrm>
        </p:grpSpPr>
        <p:sp>
          <p:nvSpPr>
            <p:cNvPr id="156" name="AutoShape 3"/>
            <p:cNvSpPr/>
            <p:nvPr/>
          </p:nvSpPr>
          <p:spPr>
            <a:xfrm>
              <a:off x="317520" y="1276200"/>
              <a:ext cx="2643120" cy="431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233280" y="1689120"/>
              <a:ext cx="69840" cy="60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874800" y="1962000"/>
              <a:ext cx="79200" cy="69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2506680" y="2087640"/>
              <a:ext cx="203040" cy="163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1517760" y="2943720"/>
              <a:ext cx="32868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1789200" y="3086640"/>
              <a:ext cx="204840" cy="88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2006640" y="3143520"/>
              <a:ext cx="777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>
              <a:off x="2124000" y="3150000"/>
              <a:ext cx="2376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11"/>
            <p:cNvSpPr/>
            <p:nvPr/>
          </p:nvSpPr>
          <p:spPr>
            <a:xfrm>
              <a:off x="1743120" y="1265400"/>
              <a:ext cx="374760" cy="193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1909800" y="1173240"/>
              <a:ext cx="303120" cy="133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3"/>
            <p:cNvSpPr/>
            <p:nvPr/>
          </p:nvSpPr>
          <p:spPr>
            <a:xfrm>
              <a:off x="2336760" y="1330200"/>
              <a:ext cx="484200" cy="419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4"/>
            <p:cNvSpPr/>
            <p:nvPr/>
          </p:nvSpPr>
          <p:spPr>
            <a:xfrm>
              <a:off x="2333520" y="1146240"/>
              <a:ext cx="90720" cy="79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5"/>
            <p:cNvSpPr/>
            <p:nvPr/>
          </p:nvSpPr>
          <p:spPr>
            <a:xfrm>
              <a:off x="2157480" y="1303200"/>
              <a:ext cx="13320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6"/>
            <p:cNvSpPr/>
            <p:nvPr/>
          </p:nvSpPr>
          <p:spPr>
            <a:xfrm>
              <a:off x="2300400" y="1320840"/>
              <a:ext cx="11088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7"/>
            <p:cNvSpPr/>
            <p:nvPr/>
          </p:nvSpPr>
          <p:spPr>
            <a:xfrm>
              <a:off x="2239920" y="1239840"/>
              <a:ext cx="13176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8"/>
            <p:cNvSpPr/>
            <p:nvPr/>
          </p:nvSpPr>
          <p:spPr>
            <a:xfrm>
              <a:off x="2182680" y="1168560"/>
              <a:ext cx="9072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2421000" y="1176480"/>
              <a:ext cx="236520" cy="16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20"/>
            <p:cNvSpPr/>
            <p:nvPr/>
          </p:nvSpPr>
          <p:spPr>
            <a:xfrm>
              <a:off x="152280" y="1722600"/>
              <a:ext cx="5076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21"/>
            <p:cNvSpPr/>
            <p:nvPr/>
          </p:nvSpPr>
          <p:spPr>
            <a:xfrm>
              <a:off x="1731960" y="28609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22"/>
            <p:cNvSpPr/>
            <p:nvPr/>
          </p:nvSpPr>
          <p:spPr>
            <a:xfrm>
              <a:off x="1738440" y="2916720"/>
              <a:ext cx="31680" cy="25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>
              <a:off x="2163600" y="3211920"/>
              <a:ext cx="302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>
              <a:off x="2422440" y="213192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25"/>
            <p:cNvSpPr/>
            <p:nvPr/>
          </p:nvSpPr>
          <p:spPr>
            <a:xfrm>
              <a:off x="2214720" y="167472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26"/>
            <p:cNvSpPr/>
            <p:nvPr/>
          </p:nvSpPr>
          <p:spPr>
            <a:xfrm>
              <a:off x="2349360" y="1276200"/>
              <a:ext cx="828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27"/>
            <p:cNvSpPr/>
            <p:nvPr/>
          </p:nvSpPr>
          <p:spPr>
            <a:xfrm>
              <a:off x="2481120" y="151596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28"/>
            <p:cNvSpPr/>
            <p:nvPr/>
          </p:nvSpPr>
          <p:spPr>
            <a:xfrm>
              <a:off x="2514600" y="1066680"/>
              <a:ext cx="1450800" cy="770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>
              <a:off x="2959200" y="1476360"/>
              <a:ext cx="824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30"/>
            <p:cNvSpPr/>
            <p:nvPr/>
          </p:nvSpPr>
          <p:spPr>
            <a:xfrm>
              <a:off x="3549600" y="1623960"/>
              <a:ext cx="268200" cy="119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31"/>
            <p:cNvSpPr/>
            <p:nvPr/>
          </p:nvSpPr>
          <p:spPr>
            <a:xfrm>
              <a:off x="3760920" y="1260360"/>
              <a:ext cx="824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32"/>
            <p:cNvSpPr/>
            <p:nvPr/>
          </p:nvSpPr>
          <p:spPr>
            <a:xfrm>
              <a:off x="4322880" y="1189080"/>
              <a:ext cx="320400" cy="138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33"/>
            <p:cNvSpPr/>
            <p:nvPr/>
          </p:nvSpPr>
          <p:spPr>
            <a:xfrm>
              <a:off x="4524480" y="1262160"/>
              <a:ext cx="10152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>
              <a:off x="3914640" y="1868400"/>
              <a:ext cx="225720" cy="29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>
              <a:off x="3801960" y="1976400"/>
              <a:ext cx="139680" cy="149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>
              <a:off x="7321680" y="4523400"/>
              <a:ext cx="987120" cy="110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37"/>
            <p:cNvSpPr/>
            <p:nvPr/>
          </p:nvSpPr>
          <p:spPr>
            <a:xfrm>
              <a:off x="7629480" y="3942360"/>
              <a:ext cx="663480" cy="466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38"/>
            <p:cNvSpPr/>
            <p:nvPr/>
          </p:nvSpPr>
          <p:spPr>
            <a:xfrm>
              <a:off x="7647120" y="3947400"/>
              <a:ext cx="647640" cy="468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9"/>
            <p:cNvSpPr/>
            <p:nvPr/>
          </p:nvSpPr>
          <p:spPr>
            <a:xfrm>
              <a:off x="8128080" y="5662080"/>
              <a:ext cx="92160" cy="127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40"/>
            <p:cNvSpPr/>
            <p:nvPr/>
          </p:nvSpPr>
          <p:spPr>
            <a:xfrm>
              <a:off x="8410680" y="5461920"/>
              <a:ext cx="341280" cy="187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41"/>
            <p:cNvSpPr/>
            <p:nvPr/>
          </p:nvSpPr>
          <p:spPr>
            <a:xfrm>
              <a:off x="8766000" y="5351040"/>
              <a:ext cx="216000" cy="203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42"/>
            <p:cNvSpPr/>
            <p:nvPr/>
          </p:nvSpPr>
          <p:spPr>
            <a:xfrm>
              <a:off x="8880480" y="5258880"/>
              <a:ext cx="7632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43"/>
            <p:cNvSpPr/>
            <p:nvPr/>
          </p:nvSpPr>
          <p:spPr>
            <a:xfrm>
              <a:off x="5284800" y="4176000"/>
              <a:ext cx="254160" cy="446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44"/>
            <p:cNvSpPr/>
            <p:nvPr/>
          </p:nvSpPr>
          <p:spPr>
            <a:xfrm>
              <a:off x="6394320" y="3480480"/>
              <a:ext cx="10008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45"/>
            <p:cNvSpPr/>
            <p:nvPr/>
          </p:nvSpPr>
          <p:spPr>
            <a:xfrm>
              <a:off x="7089840" y="3628080"/>
              <a:ext cx="230040" cy="406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46"/>
            <p:cNvSpPr/>
            <p:nvPr/>
          </p:nvSpPr>
          <p:spPr>
            <a:xfrm>
              <a:off x="6892920" y="3501000"/>
              <a:ext cx="146160" cy="30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47"/>
            <p:cNvSpPr/>
            <p:nvPr/>
          </p:nvSpPr>
          <p:spPr>
            <a:xfrm>
              <a:off x="6996240" y="3745800"/>
              <a:ext cx="8100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7089840" y="4052160"/>
              <a:ext cx="133200" cy="115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49"/>
            <p:cNvSpPr/>
            <p:nvPr/>
          </p:nvSpPr>
          <p:spPr>
            <a:xfrm>
              <a:off x="7307280" y="3839400"/>
              <a:ext cx="171360" cy="260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50"/>
            <p:cNvSpPr/>
            <p:nvPr/>
          </p:nvSpPr>
          <p:spPr>
            <a:xfrm>
              <a:off x="7248600" y="2907000"/>
              <a:ext cx="44280" cy="157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51"/>
            <p:cNvSpPr/>
            <p:nvPr/>
          </p:nvSpPr>
          <p:spPr>
            <a:xfrm>
              <a:off x="7277040" y="3173760"/>
              <a:ext cx="125640" cy="260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52"/>
            <p:cNvSpPr/>
            <p:nvPr/>
          </p:nvSpPr>
          <p:spPr>
            <a:xfrm>
              <a:off x="7367760" y="3520080"/>
              <a:ext cx="1317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53"/>
            <p:cNvSpPr/>
            <p:nvPr/>
          </p:nvSpPr>
          <p:spPr>
            <a:xfrm>
              <a:off x="7526160" y="3834360"/>
              <a:ext cx="59040" cy="108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AutoShape 54"/>
            <p:cNvSpPr/>
            <p:nvPr/>
          </p:nvSpPr>
          <p:spPr>
            <a:xfrm>
              <a:off x="7493040" y="4018680"/>
              <a:ext cx="349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55"/>
            <p:cNvSpPr/>
            <p:nvPr/>
          </p:nvSpPr>
          <p:spPr>
            <a:xfrm>
              <a:off x="7548480" y="3994920"/>
              <a:ext cx="9216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56"/>
            <p:cNvSpPr/>
            <p:nvPr/>
          </p:nvSpPr>
          <p:spPr>
            <a:xfrm>
              <a:off x="7693200" y="4151880"/>
              <a:ext cx="4896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57"/>
            <p:cNvSpPr/>
            <p:nvPr/>
          </p:nvSpPr>
          <p:spPr>
            <a:xfrm>
              <a:off x="8250120" y="4058280"/>
              <a:ext cx="93960" cy="103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58"/>
            <p:cNvSpPr/>
            <p:nvPr/>
          </p:nvSpPr>
          <p:spPr>
            <a:xfrm>
              <a:off x="7421400" y="4188600"/>
              <a:ext cx="93960" cy="109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7319880" y="4231440"/>
              <a:ext cx="651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60"/>
            <p:cNvSpPr/>
            <p:nvPr/>
          </p:nvSpPr>
          <p:spPr>
            <a:xfrm>
              <a:off x="7275600" y="4166280"/>
              <a:ext cx="48960" cy="68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61"/>
            <p:cNvSpPr/>
            <p:nvPr/>
          </p:nvSpPr>
          <p:spPr>
            <a:xfrm>
              <a:off x="7346880" y="4191840"/>
              <a:ext cx="6984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62"/>
            <p:cNvSpPr/>
            <p:nvPr/>
          </p:nvSpPr>
          <p:spPr>
            <a:xfrm>
              <a:off x="7243920" y="3452040"/>
              <a:ext cx="53640" cy="120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63"/>
            <p:cNvSpPr/>
            <p:nvPr/>
          </p:nvSpPr>
          <p:spPr>
            <a:xfrm>
              <a:off x="7350120" y="3431160"/>
              <a:ext cx="3816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64"/>
            <p:cNvSpPr/>
            <p:nvPr/>
          </p:nvSpPr>
          <p:spPr>
            <a:xfrm>
              <a:off x="7396200" y="3393000"/>
              <a:ext cx="1908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65"/>
            <p:cNvSpPr/>
            <p:nvPr/>
          </p:nvSpPr>
          <p:spPr>
            <a:xfrm>
              <a:off x="7416720" y="3420000"/>
              <a:ext cx="42840" cy="104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66"/>
            <p:cNvSpPr/>
            <p:nvPr/>
          </p:nvSpPr>
          <p:spPr>
            <a:xfrm>
              <a:off x="6856560" y="3574080"/>
              <a:ext cx="237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67"/>
            <p:cNvSpPr/>
            <p:nvPr/>
          </p:nvSpPr>
          <p:spPr>
            <a:xfrm>
              <a:off x="6835680" y="352332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68"/>
            <p:cNvSpPr/>
            <p:nvPr/>
          </p:nvSpPr>
          <p:spPr>
            <a:xfrm>
              <a:off x="6826320" y="3483720"/>
              <a:ext cx="22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69"/>
            <p:cNvSpPr/>
            <p:nvPr/>
          </p:nvSpPr>
          <p:spPr>
            <a:xfrm>
              <a:off x="6802560" y="3393000"/>
              <a:ext cx="219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70"/>
            <p:cNvSpPr/>
            <p:nvPr/>
          </p:nvSpPr>
          <p:spPr>
            <a:xfrm>
              <a:off x="6805440" y="3448800"/>
              <a:ext cx="334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71"/>
            <p:cNvSpPr/>
            <p:nvPr/>
          </p:nvSpPr>
          <p:spPr>
            <a:xfrm>
              <a:off x="8551800" y="4838040"/>
              <a:ext cx="92160" cy="131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72"/>
            <p:cNvSpPr/>
            <p:nvPr/>
          </p:nvSpPr>
          <p:spPr>
            <a:xfrm>
              <a:off x="9032760" y="4728600"/>
              <a:ext cx="10980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73"/>
            <p:cNvSpPr/>
            <p:nvPr/>
          </p:nvSpPr>
          <p:spPr>
            <a:xfrm>
              <a:off x="8699400" y="4673160"/>
              <a:ext cx="3348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74"/>
            <p:cNvSpPr/>
            <p:nvPr/>
          </p:nvSpPr>
          <p:spPr>
            <a:xfrm>
              <a:off x="8683560" y="4623840"/>
              <a:ext cx="414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75"/>
            <p:cNvSpPr/>
            <p:nvPr/>
          </p:nvSpPr>
          <p:spPr>
            <a:xfrm>
              <a:off x="8362800" y="4191840"/>
              <a:ext cx="49320" cy="71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76"/>
            <p:cNvSpPr/>
            <p:nvPr/>
          </p:nvSpPr>
          <p:spPr>
            <a:xfrm>
              <a:off x="8434440" y="4286880"/>
              <a:ext cx="5220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77"/>
            <p:cNvSpPr/>
            <p:nvPr/>
          </p:nvSpPr>
          <p:spPr>
            <a:xfrm>
              <a:off x="8489880" y="4428360"/>
              <a:ext cx="5724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78"/>
            <p:cNvSpPr/>
            <p:nvPr/>
          </p:nvSpPr>
          <p:spPr>
            <a:xfrm>
              <a:off x="8561520" y="4406040"/>
              <a:ext cx="5688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AutoShape 79"/>
            <p:cNvSpPr/>
            <p:nvPr/>
          </p:nvSpPr>
          <p:spPr>
            <a:xfrm>
              <a:off x="8540640" y="4325040"/>
              <a:ext cx="525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80"/>
            <p:cNvSpPr/>
            <p:nvPr/>
          </p:nvSpPr>
          <p:spPr>
            <a:xfrm>
              <a:off x="8486640" y="4269600"/>
              <a:ext cx="52560" cy="75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81"/>
            <p:cNvSpPr/>
            <p:nvPr/>
          </p:nvSpPr>
          <p:spPr>
            <a:xfrm>
              <a:off x="8420040" y="4234680"/>
              <a:ext cx="4932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82"/>
            <p:cNvSpPr/>
            <p:nvPr/>
          </p:nvSpPr>
          <p:spPr>
            <a:xfrm>
              <a:off x="8502480" y="4352040"/>
              <a:ext cx="4932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83"/>
            <p:cNvSpPr/>
            <p:nvPr/>
          </p:nvSpPr>
          <p:spPr>
            <a:xfrm>
              <a:off x="5141880" y="1289160"/>
              <a:ext cx="291960" cy="239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84"/>
            <p:cNvSpPr/>
            <p:nvPr/>
          </p:nvSpPr>
          <p:spPr>
            <a:xfrm>
              <a:off x="5318280" y="1521000"/>
              <a:ext cx="82440" cy="25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85"/>
            <p:cNvSpPr/>
            <p:nvPr/>
          </p:nvSpPr>
          <p:spPr>
            <a:xfrm>
              <a:off x="5745240" y="1173240"/>
              <a:ext cx="8568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86"/>
            <p:cNvSpPr/>
            <p:nvPr/>
          </p:nvSpPr>
          <p:spPr>
            <a:xfrm>
              <a:off x="5808600" y="1201680"/>
              <a:ext cx="10332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AutoShape 87"/>
            <p:cNvSpPr/>
            <p:nvPr/>
          </p:nvSpPr>
          <p:spPr>
            <a:xfrm>
              <a:off x="5921280" y="1209600"/>
              <a:ext cx="103320" cy="69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88"/>
            <p:cNvSpPr/>
            <p:nvPr/>
          </p:nvSpPr>
          <p:spPr>
            <a:xfrm>
              <a:off x="6649920" y="1270080"/>
              <a:ext cx="18252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AutoShape 89"/>
            <p:cNvSpPr/>
            <p:nvPr/>
          </p:nvSpPr>
          <p:spPr>
            <a:xfrm>
              <a:off x="6837480" y="1266840"/>
              <a:ext cx="9360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90"/>
            <p:cNvSpPr/>
            <p:nvPr/>
          </p:nvSpPr>
          <p:spPr>
            <a:xfrm>
              <a:off x="6792840" y="1332000"/>
              <a:ext cx="76320" cy="36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91"/>
            <p:cNvSpPr/>
            <p:nvPr/>
          </p:nvSpPr>
          <p:spPr>
            <a:xfrm>
              <a:off x="7319880" y="1830240"/>
              <a:ext cx="157320" cy="254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92"/>
            <p:cNvSpPr/>
            <p:nvPr/>
          </p:nvSpPr>
          <p:spPr>
            <a:xfrm>
              <a:off x="7446960" y="2093760"/>
              <a:ext cx="11268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93"/>
            <p:cNvSpPr/>
            <p:nvPr/>
          </p:nvSpPr>
          <p:spPr>
            <a:xfrm>
              <a:off x="7372440" y="2271960"/>
              <a:ext cx="225360" cy="419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94"/>
            <p:cNvSpPr/>
            <p:nvPr/>
          </p:nvSpPr>
          <p:spPr>
            <a:xfrm>
              <a:off x="5157720" y="1149480"/>
              <a:ext cx="10656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95"/>
            <p:cNvSpPr/>
            <p:nvPr/>
          </p:nvSpPr>
          <p:spPr>
            <a:xfrm>
              <a:off x="4933800" y="1168560"/>
              <a:ext cx="3816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96"/>
            <p:cNvSpPr/>
            <p:nvPr/>
          </p:nvSpPr>
          <p:spPr>
            <a:xfrm>
              <a:off x="4984920" y="1166760"/>
              <a:ext cx="759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97"/>
            <p:cNvSpPr/>
            <p:nvPr/>
          </p:nvSpPr>
          <p:spPr>
            <a:xfrm>
              <a:off x="5111640" y="1146240"/>
              <a:ext cx="3996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98"/>
            <p:cNvSpPr/>
            <p:nvPr/>
          </p:nvSpPr>
          <p:spPr>
            <a:xfrm>
              <a:off x="5073480" y="1187280"/>
              <a:ext cx="302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99"/>
            <p:cNvSpPr/>
            <p:nvPr/>
          </p:nvSpPr>
          <p:spPr>
            <a:xfrm>
              <a:off x="7453440" y="1222200"/>
              <a:ext cx="3636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00"/>
            <p:cNvSpPr/>
            <p:nvPr/>
          </p:nvSpPr>
          <p:spPr>
            <a:xfrm>
              <a:off x="5608800" y="4458600"/>
              <a:ext cx="63360" cy="37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01"/>
            <p:cNvSpPr/>
            <p:nvPr/>
          </p:nvSpPr>
          <p:spPr>
            <a:xfrm>
              <a:off x="5691240" y="4444200"/>
              <a:ext cx="2232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02"/>
            <p:cNvSpPr/>
            <p:nvPr/>
          </p:nvSpPr>
          <p:spPr>
            <a:xfrm>
              <a:off x="5551560" y="4099680"/>
              <a:ext cx="172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03"/>
            <p:cNvSpPr/>
            <p:nvPr/>
          </p:nvSpPr>
          <p:spPr>
            <a:xfrm>
              <a:off x="5676840" y="3937680"/>
              <a:ext cx="2052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04"/>
            <p:cNvSpPr/>
            <p:nvPr/>
          </p:nvSpPr>
          <p:spPr>
            <a:xfrm>
              <a:off x="5626080" y="3936240"/>
              <a:ext cx="2052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05"/>
            <p:cNvSpPr/>
            <p:nvPr/>
          </p:nvSpPr>
          <p:spPr>
            <a:xfrm>
              <a:off x="5603760" y="398376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06"/>
            <p:cNvSpPr/>
            <p:nvPr/>
          </p:nvSpPr>
          <p:spPr>
            <a:xfrm>
              <a:off x="5551560" y="4060080"/>
              <a:ext cx="172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07"/>
            <p:cNvSpPr/>
            <p:nvPr/>
          </p:nvSpPr>
          <p:spPr>
            <a:xfrm>
              <a:off x="5591160" y="403128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08"/>
            <p:cNvSpPr/>
            <p:nvPr/>
          </p:nvSpPr>
          <p:spPr>
            <a:xfrm>
              <a:off x="4060800" y="182880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9"/>
            <p:cNvSpPr/>
            <p:nvPr/>
          </p:nvSpPr>
          <p:spPr>
            <a:xfrm>
              <a:off x="3933720" y="1752480"/>
              <a:ext cx="1908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10"/>
            <p:cNvSpPr/>
            <p:nvPr/>
          </p:nvSpPr>
          <p:spPr>
            <a:xfrm>
              <a:off x="3436920" y="1270080"/>
              <a:ext cx="4297320" cy="3661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Picture 111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090440" cy="1092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2"/>
          <p:cNvSpPr/>
          <p:nvPr/>
        </p:nvSpPr>
        <p:spPr>
          <a:xfrm rot="5400000">
            <a:off x="53460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13"/>
          <p:cNvSpPr/>
          <p:nvPr/>
        </p:nvSpPr>
        <p:spPr>
          <a:xfrm rot="5400000">
            <a:off x="83916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14"/>
          <p:cNvSpPr/>
          <p:nvPr/>
        </p:nvSpPr>
        <p:spPr>
          <a:xfrm rot="5400000">
            <a:off x="114408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15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390600" cy="106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6" descr=""/>
          <p:cNvPicPr/>
          <p:nvPr/>
        </p:nvPicPr>
        <p:blipFill>
          <a:blip r:embed="rId5"/>
          <a:stretch/>
        </p:blipFill>
        <p:spPr>
          <a:xfrm>
            <a:off x="6858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9"/>
          <p:cNvSpPr/>
          <p:nvPr/>
        </p:nvSpPr>
        <p:spPr>
          <a:xfrm>
            <a:off x="152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1D3100-461F-4534-B8A1-DA09C6E6801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357120" y="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Times New Roman"/>
                <a:ea typeface="Calibri"/>
              </a:rPr>
              <a:t>Путешествие тучки по Европ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285920" y="2143080"/>
            <a:ext cx="64008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: окружающий мир 2 класс, автор Вахрушев А.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: Школа 2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я создана учителем начальных классов МБО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№15 п. Березай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идовой М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85840" y="285840"/>
          <a:ext cx="8574120" cy="6243480"/>
        </p:xfrm>
        <a:graphic>
          <a:graphicData uri="http://schemas.openxmlformats.org/drawingml/2006/table">
            <a:tbl>
              <a:tblPr/>
              <a:tblGrid>
                <a:gridCol w="2023920"/>
                <a:gridCol w="2103480"/>
                <a:gridCol w="2097000"/>
                <a:gridCol w="2349720"/>
              </a:tblGrid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7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2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1676520" cy="9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658880" cy="90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4" descr=""/>
          <p:cNvPicPr/>
          <p:nvPr/>
        </p:nvPicPr>
        <p:blipFill>
          <a:blip r:embed="rId4"/>
          <a:stretch/>
        </p:blipFill>
        <p:spPr>
          <a:xfrm>
            <a:off x="393840" y="4191120"/>
            <a:ext cx="1739880" cy="1166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5" descr=""/>
          <p:cNvPicPr/>
          <p:nvPr/>
        </p:nvPicPr>
        <p:blipFill>
          <a:blip r:embed="rId5"/>
          <a:stretch/>
        </p:blipFill>
        <p:spPr>
          <a:xfrm>
            <a:off x="457200" y="5659560"/>
            <a:ext cx="1720800" cy="841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6"/>
          <p:cNvSpPr/>
          <p:nvPr/>
        </p:nvSpPr>
        <p:spPr>
          <a:xfrm>
            <a:off x="2286000" y="838080"/>
            <a:ext cx="2133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>
            <a:off x="4648320" y="762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6940800" y="8380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г-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79"/>
          <p:cNvSpPr/>
          <p:nvPr/>
        </p:nvSpPr>
        <p:spPr>
          <a:xfrm>
            <a:off x="2584440" y="19810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4724280" y="2057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1"/>
          <p:cNvSpPr/>
          <p:nvPr/>
        </p:nvSpPr>
        <p:spPr>
          <a:xfrm>
            <a:off x="6629400" y="1676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ёльнский со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2"/>
          <p:cNvSpPr/>
          <p:nvPr/>
        </p:nvSpPr>
        <p:spPr>
          <a:xfrm>
            <a:off x="2514600" y="2971800"/>
            <a:ext cx="190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4343400" y="3048120"/>
            <a:ext cx="205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4"/>
          <p:cNvSpPr/>
          <p:nvPr/>
        </p:nvSpPr>
        <p:spPr>
          <a:xfrm>
            <a:off x="6705720" y="28195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фелева баш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2679840" y="449568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959360" y="4343400"/>
            <a:ext cx="79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6930720" y="4419720"/>
            <a:ext cx="1450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2660760" y="5715000"/>
            <a:ext cx="147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883040" y="5638680"/>
            <a:ext cx="93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0"/>
          <p:cNvSpPr/>
          <p:nvPr/>
        </p:nvSpPr>
        <p:spPr>
          <a:xfrm>
            <a:off x="6781680" y="556272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3363840" y="609480"/>
            <a:ext cx="536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ё понял, могу расска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819520" y="28195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многое понял, но есть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514600" y="52578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онял тему, мне нужна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2057400" cy="1833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39076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0" y="45720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1523880" y="175248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ополнительный материал о наиболее понравившейся стране  в энциклопедиях или интернет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 № 7, 8 в рабочей тетради на стр. 60, 6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2655000" y="357120"/>
            <a:ext cx="44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500120" y="1214280"/>
            <a:ext cx="4572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ультемидийна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циклопедия Кирилла и Мефод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okrmir.ru/teacher.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new-anoli.ru/post163962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travel-profi.ru/fla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christofor.ru/franc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edwardo.info/flag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force-online.ru/circuit/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oasis-rostov.ru/node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тур.рф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ountri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new-anoli.ru/post163962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тур.рф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ountri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523880" y="2438280"/>
          <a:ext cx="6383520" cy="806400"/>
        </p:xfrm>
        <a:graphic>
          <a:graphicData uri="http://schemas.openxmlformats.org/drawingml/2006/table">
            <a:tbl>
              <a:tblPr/>
              <a:tblGrid>
                <a:gridCol w="911520"/>
                <a:gridCol w="912600"/>
                <a:gridCol w="911160"/>
                <a:gridCol w="912960"/>
                <a:gridCol w="911160"/>
                <a:gridCol w="912960"/>
                <a:gridCol w="91116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438280" y="1371600"/>
          <a:ext cx="930240" cy="5159520"/>
        </p:xfrm>
        <a:graphic>
          <a:graphicData uri="http://schemas.openxmlformats.org/drawingml/2006/table">
            <a:tbl>
              <a:tblPr/>
              <a:tblGrid>
                <a:gridCol w="93024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352680" y="533520"/>
          <a:ext cx="930240" cy="5132160"/>
        </p:xfrm>
        <a:graphic>
          <a:graphicData uri="http://schemas.openxmlformats.org/drawingml/2006/table">
            <a:tbl>
              <a:tblPr/>
              <a:tblGrid>
                <a:gridCol w="93024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83" descr=""/>
          <p:cNvPicPr/>
          <p:nvPr/>
        </p:nvPicPr>
        <p:blipFill>
          <a:blip r:embed="rId1"/>
          <a:stretch/>
        </p:blipFill>
        <p:spPr>
          <a:xfrm>
            <a:off x="1444680" y="2432160"/>
            <a:ext cx="6261120" cy="671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4"/>
          <p:cNvSpPr/>
          <p:nvPr/>
        </p:nvSpPr>
        <p:spPr>
          <a:xfrm>
            <a:off x="2428920" y="1714680"/>
            <a:ext cx="785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85"/>
          <p:cNvSpPr/>
          <p:nvPr/>
        </p:nvSpPr>
        <p:spPr>
          <a:xfrm>
            <a:off x="3429000" y="609480"/>
            <a:ext cx="91764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57200" y="53352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 ПУТЕШЕСТВИЕ ПО СТРАНАМ ЕВРОП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крупными европейскими странами, их достопримечательност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82880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0" t="0" r="0" b="99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3144E-006 L -3.33333E-006 -0.19833 C -3.33333E-006 -0.28733 0.11927 -0.39667 0.2165 -0.39667 L 0.43316 -0.39667 E">
                                      <p:cBhvr>
                                        <p:cTn id="3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400800" cy="5410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икобр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343400" y="4497480"/>
            <a:ext cx="1676520" cy="58140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нд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4724280" y="51055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115920" y="743040"/>
            <a:ext cx="2365200" cy="15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376720" cy="5748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4"/>
          <a:stretch/>
        </p:blipFill>
        <p:spPr>
          <a:xfrm>
            <a:off x="0" y="4937040"/>
            <a:ext cx="184140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85840" y="285840"/>
          <a:ext cx="8574120" cy="6243480"/>
        </p:xfrm>
        <a:graphic>
          <a:graphicData uri="http://schemas.openxmlformats.org/drawingml/2006/table">
            <a:tbl>
              <a:tblPr/>
              <a:tblGrid>
                <a:gridCol w="2023920"/>
                <a:gridCol w="2103480"/>
                <a:gridCol w="2097000"/>
                <a:gridCol w="2349720"/>
              </a:tblGrid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76"/>
          <p:cNvSpPr/>
          <p:nvPr/>
        </p:nvSpPr>
        <p:spPr>
          <a:xfrm>
            <a:off x="2286000" y="838080"/>
            <a:ext cx="2133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77"/>
          <p:cNvSpPr/>
          <p:nvPr/>
        </p:nvSpPr>
        <p:spPr>
          <a:xfrm>
            <a:off x="4648320" y="762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78"/>
          <p:cNvSpPr/>
          <p:nvPr/>
        </p:nvSpPr>
        <p:spPr>
          <a:xfrm>
            <a:off x="6940800" y="8380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г-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7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2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1676520" cy="94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658880" cy="906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4" descr=""/>
          <p:cNvPicPr/>
          <p:nvPr/>
        </p:nvPicPr>
        <p:blipFill>
          <a:blip r:embed="rId4"/>
          <a:stretch/>
        </p:blipFill>
        <p:spPr>
          <a:xfrm>
            <a:off x="393840" y="4191120"/>
            <a:ext cx="1739880" cy="1166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5" descr=""/>
          <p:cNvPicPr/>
          <p:nvPr/>
        </p:nvPicPr>
        <p:blipFill>
          <a:blip r:embed="rId5"/>
          <a:stretch/>
        </p:blipFill>
        <p:spPr>
          <a:xfrm>
            <a:off x="457200" y="5659560"/>
            <a:ext cx="1720800" cy="8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533520" y="533520"/>
            <a:ext cx="8610480" cy="70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путешественн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, в которой мы побыва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азвание) 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-----------------------------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( покажи всем изображ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примечательности ( памятники, здания) -----------------------------------------------------------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е герои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работы в групп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нимательно прочитать задание и                подумать о решении самостоятель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пределить обязанности в группе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ти общее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брать выступающ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3-01-16T18:13:30Z</dcterms:modified>
  <cp:revision>85</cp:revision>
  <dc:subject>география</dc:subject>
  <dc:title>PowerPoint Presentation</dc:title>
</cp:coreProperties>
</file>