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241-275A-437C-BF4F-D8E14E32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33F-A5CC-493A-92B1-68014056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FA91-D044-48BA-864E-D1B206D4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642-58E7-4A56-B4AD-1AD40859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CD5-7DCE-42C8-9348-866E1DFC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1D1B-85E6-46A5-8F63-B82BB5E7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9FCA-434A-46DF-973E-7A19A1BA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002-A643-48A8-AFFE-1652854D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6368-4B42-4D2F-B311-AEE8A602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19BC-1710-4273-87FF-07200F6B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DDC-7050-4E43-9449-B3B1091D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6C4-4958-4A25-9590-9F467F7A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DBA6-C464-4666-A649-A1EBAC25F4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очка № 4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760" y="1714680"/>
            <a:ext cx="85010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1.Какой из предметов обихода наиболее важен в условиях автономного существова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А)     Отверт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Б)      Нож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)     Пи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Г)     Плоскогуб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.Как соленая или горько – соленая вода может помочь уменьшить расход влаги организмо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71320" y="2500200"/>
            <a:ext cx="81435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  Такой водой можно намочить одежд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затем надеть её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 Такой водой можно умыться и смочить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ло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 Такую воду можно пить предварительно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фильтровав ее через фильт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 Такая вода нам не чем не помож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Какое из растений наиболее всего подходит для изготовления ниток и верево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714400" y="2500200"/>
            <a:ext cx="597204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  Камыш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 Подорожни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 Борщеви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  Крапи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Потребность человека в воде  в районах с умеренным климатом составляет в сут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2786040"/>
            <a:ext cx="66150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 Не менее 1,5 лит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Не менее 2-х литр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Не менее 2,5 литр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 Не менее 3-х лит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Человек может погибнуть если его организм обезвожен н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29040" y="2356920"/>
            <a:ext cx="61149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 10 %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20 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65 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70 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. Пить воду без предварительной очистки можно из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71760" y="2214360"/>
            <a:ext cx="711504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Озера или ре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Родника или ключ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Лужи или канав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Собранную при выпадении дожд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.Самый надежный способ обеззараживания воды в полевых условиях это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56800" y="2714760"/>
            <a:ext cx="794412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Очистка через фильтр из материа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а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Очистка через фильтр «Аквафор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Кипячение воды в течении 10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Очистка через фильтр из песка и в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. Обеззаразить стакан воды можно при помощ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28480" y="2857320"/>
            <a:ext cx="72579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3-4 капель нашатырного спир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2-3 капель й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2-3 капель уксус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2-3 капель борной кисло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. Верно ли утверждение, что снег очень хорошо утоляет жажд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28800" y="2500200"/>
            <a:ext cx="792936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Да вер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Нет не вер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Утоляет жажду только у тренированных       люд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Хорошо утоляет жажду только в   условиях автономного существ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. Для сохранения запасов воды можно положить в не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120" y="1999800"/>
            <a:ext cx="83296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Серебренную монету или цепоч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Несколько ягод клюквы или брус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Немного поваренной соли или лимонной кисло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  Немного сахарного песка или любого сироп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Назовите неправильный вариант от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6:55:09Z</dcterms:created>
  <dc:creator>Admin</dc:creator>
  <dc:description/>
  <dc:language>en-US</dc:language>
  <cp:lastModifiedBy>Admin</cp:lastModifiedBy>
  <dcterms:modified xsi:type="dcterms:W3CDTF">2001-12-31T21:37:44Z</dcterms:modified>
  <cp:revision>13</cp:revision>
  <dc:subject/>
  <dc:title>Карточка № 4.</dc:title>
</cp:coreProperties>
</file>