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919-AAE8-4A99-9C16-07F1823A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FE8-C6AF-4D91-A0CB-01E9A51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3B1-45B7-4B61-A5C9-DB764F3D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752-F398-492A-9832-11F49D50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215-B524-4132-AED0-229AD4F0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CF8-DD4E-4654-BFE4-42D8C784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050-E3C4-4538-9614-8E0705F6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2DE-8337-4DCB-BFBE-BFA2E7AE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EA1-4FC9-4E0F-B21A-C305396F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2BC-1FEF-479D-8F67-2112DE77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A68-5A4E-489C-A3EE-FFB26F7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B2E-5AC4-463B-B877-33C1D45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29E0-6F4F-42C2-925E-A35E4D554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очка № 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1714680"/>
            <a:ext cx="8501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.Какой из предметов обихода наиболее важен в условиях автономного существов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)     Отверт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Б)      Нож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)     П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)     Плоскогуб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Как соленая или горько – соленая вода может помочь уменьшить расход влаги организм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320" y="2500200"/>
            <a:ext cx="81435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 Такой водой можно намочить одежд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тем надеть её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 Такой водой можно умыться и смочить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 Такую воду можно пить предварительно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ьтровав ее через филь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Такая вода нам не чем не по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Какое из растений наиболее всего подходит для изготовления ниток и верев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14400" y="2500200"/>
            <a:ext cx="59720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 Камыш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 Подорож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 Борщеви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 Крап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Потребность человека в воде  в районах с умеренным климатом составляет в сут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2786040"/>
            <a:ext cx="66150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Не менее 1,5 лит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Не менее 2-х литр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Не менее 2,5 литр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Не менее 3-х ли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Человек может погибнуть если его организм обезвожен 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29040" y="2356920"/>
            <a:ext cx="6114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10 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20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65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70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Пить воду без предварительной очистки можно и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71760" y="2214360"/>
            <a:ext cx="71150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Озера или ре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Родника или ключ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Лужи или канав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Собранную при выпадении дожд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Самый надежный способ обеззараживания воды в полевых условиях эт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56800" y="2714760"/>
            <a:ext cx="79441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Очистка через фильтр из материа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а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Очистка через фильтр «Аквафор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Кипячение воды в течении 10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Очистка через фильтр из песка и в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Обеззаразить стакан воды можно при помощ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8480" y="2857320"/>
            <a:ext cx="725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3-4 капель нашатырного спи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2-3 капель й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2-3 капель уксу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2-3 капель борной кисл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Верно ли утверждение, что снег очень хорошо утоляет жажд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28800" y="2500200"/>
            <a:ext cx="79293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Да ве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Нет не вер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Утоляет жажду только у тренированных       лю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Хорошо утоляет жажду только в   условиях автономного суще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Для сохранения запасов воды можно положить в не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1999800"/>
            <a:ext cx="83296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Серебренную монету или цепоч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Несколько ягод клюквы или брус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Немного поваренной соли или лимонной кисл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Немного сахарного песка или любого сироп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азовите неправильны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6:55:09Z</dcterms:created>
  <dc:creator>Admin</dc:creator>
  <dc:description/>
  <dc:language>en-US</dc:language>
  <cp:lastModifiedBy>Admin</cp:lastModifiedBy>
  <dcterms:modified xsi:type="dcterms:W3CDTF">2001-12-31T21:37:44Z</dcterms:modified>
  <cp:revision>13</cp:revision>
  <dc:subject/>
  <dc:title>Карточка № 4.</dc:title>
</cp:coreProperties>
</file>