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7B2-F765-46F8-9F72-F21DC60E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6FD-6006-4A02-9C36-670468D0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DA8-C90B-4A83-8CBD-46C0F7E7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F6C-B9DD-410F-A5FD-9EE13439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6BE-7A69-45FC-B75B-B2FC22FF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8E5-BEC6-4EE3-9DF0-103BDCA3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AE80-6C01-4DD3-B054-2DCD12BC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391-FC81-4862-99D5-14246493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551-0519-4525-B6C9-C89679CB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7C1-68C2-4E25-B3A6-8D1AEE32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DAB5-C67D-4F15-960C-55425FFC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86C-8AEE-475B-B784-A878D22B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C0A3-1857-4ABA-AE01-59A716262A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85480"/>
            <a:ext cx="71010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очка № 5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9720" y="1714680"/>
            <a:ext cx="72867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колько суток в среднем человек может голодать без ущерба для здоровь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)  Не более 5- 7 суто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Б)       14- 16 суто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)       17- 20 суто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)       30-40 сут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. Какие растения нельзя использовать чтобы заварить ча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14320" y="2214360"/>
            <a:ext cx="69721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Листья березы и ос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Чернику и брусни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Малину и смороди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Иван – ча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Каких насекомых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пресмыкающихся нельзя употреблять в пищ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71400" y="2428560"/>
            <a:ext cx="8186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Саранчу и кузнеч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Ящериц и зм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Лягушек и ракуш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Гусениц и жа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В каком виде можно принима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в пищу водоросл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14720" y="2285640"/>
            <a:ext cx="6472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Только в сыр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Только в сушё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 Только в варе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)    В любом ви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Какое время считается лучшим для рыбал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14720" y="2286000"/>
            <a:ext cx="837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Полден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 Полно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 Утро или веч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 Время не имеет зна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Где лучше всего ловить рыбу острог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99760" y="2285640"/>
            <a:ext cx="71866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В глубоких омутах и ям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На мелковод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В тенистых глубоких местах п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тками кус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 На середине ре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Можно ли мясо рыбы есть сыр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28880" y="1999800"/>
            <a:ext cx="6757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Нельз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Мож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Только при сильном гол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Только в зимне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Можно ли есть рыбу без чешуи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с провалившимися глазами, без боковых плавник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2960" y="2356920"/>
            <a:ext cx="80438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Можно, после тщательной кулинарной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бо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Можно, предварительно хорошо её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оли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Можно, прокоптив её на кост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 Нельз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 Где лучше всего стави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овушки и петл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85520" y="2642760"/>
            <a:ext cx="790092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В густых кустах, где их не ви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На открытых полянах и опушках ле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На звериных троп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Под самыми высокими деревь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 Каким способом легче всего поймать мелких грызун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28480" y="2642760"/>
            <a:ext cx="725796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При помощи копь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При помощи каменного топ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При помощи ловуш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При помощи са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8:14:29Z</dcterms:created>
  <dc:creator>Admin</dc:creator>
  <dc:description/>
  <dc:language>en-US</dc:language>
  <cp:lastModifiedBy>Admin</cp:lastModifiedBy>
  <dcterms:modified xsi:type="dcterms:W3CDTF">2001-12-31T22:57:08Z</dcterms:modified>
  <cp:revision>8</cp:revision>
  <dc:subject/>
  <dc:title>Карточка № 5.</dc:title>
</cp:coreProperties>
</file>