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31E-C780-4E08-9B04-4796D78B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721-34B6-4AFA-9890-C55F9856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AF5-340A-4BB5-A5B2-543B2C4B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155-C8FE-4E6B-BB96-F7D06EE4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075-F7A2-4C1A-B407-E6217C2D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165-7B2F-49FB-9609-E8974F9E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BFF-60DF-41CB-8BBA-F40417C9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14F-A50A-4AC7-BC38-96DCFFBD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7CA-B7C8-4F14-8308-740A0643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243-140D-4C52-BD8B-B16B6B4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E83-8E61-4389-A12E-D973C68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143-145A-48A5-B049-61C3B37F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9E29-6C15-47CD-A1A2-77E281CE2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85480"/>
            <a:ext cx="7101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очка № 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9720" y="1714680"/>
            <a:ext cx="7286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колько суток в среднем человек может голодать без ущерба для здоровь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)  Не более 5- 7 су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Б)       14- 16 су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)       17- 20 су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)       30-40 су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 Какие растения нельзя использовать чтобы заварить ча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14320" y="2214360"/>
            <a:ext cx="6972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Листья березы и ос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Чернику и брусн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Малину и смород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Иван – ча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Каких насекомых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пресмыкающихся нельзя употреблять в пищ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71400" y="2428560"/>
            <a:ext cx="8186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Саранчу и кузнеч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Ящериц и з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Лягушек и раку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Гусениц и жа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В каком виде можно принима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 пищу водорос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14720" y="2285640"/>
            <a:ext cx="6472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Только в сыр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Только в сушё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Только в варе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   В люб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Какое время считается лучшим для рыбал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14720" y="2286000"/>
            <a:ext cx="837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Полд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 Полно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 Утро или веч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Время не имеет 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Где лучше всего ловить рыбу острог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99760" y="2285640"/>
            <a:ext cx="71866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В глубоких омутах и ям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На мелковод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В тенистых глубоких местах п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ками кус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На середине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Можно ли мясо рыбы есть сыр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28880" y="1999800"/>
            <a:ext cx="6757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Мож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Только при сильном гол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Только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Можно ли есть рыбу без чешуи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 провалившимися глазами, без боковых плавник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2960" y="2356920"/>
            <a:ext cx="80438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Можно, после тщательной кулинарной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о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Можно, предварительно хорошо е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ол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Можно, прокоптив её на кост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Где лучше всего стави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овушки и пет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5520" y="2642760"/>
            <a:ext cx="790092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В густых кустах, где их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На открытых полянах и опушках л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На звериных тро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Под самыми высокими дерев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Каким способом легче всего поймать мелких грызун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8480" y="2642760"/>
            <a:ext cx="725796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При помощи копь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При помощи каменного топ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При помощи лов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При помощи са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14:29Z</dcterms:created>
  <dc:creator>Admin</dc:creator>
  <dc:description/>
  <dc:language>en-US</dc:language>
  <cp:lastModifiedBy>Admin</cp:lastModifiedBy>
  <dcterms:modified xsi:type="dcterms:W3CDTF">2001-12-31T22:57:08Z</dcterms:modified>
  <cp:revision>8</cp:revision>
  <dc:subject/>
  <dc:title>Карточка № 5.</dc:title>
</cp:coreProperties>
</file>