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EB1-8FAE-488E-A4F2-A063A339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2A5-7225-4327-83B7-C2ECDA56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321-17E7-40D0-A179-5D06B901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D4A-CB3E-4071-AD91-31C36F4B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2A84-5487-469F-BC8A-DB2F42F6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D9AC-87DB-40D5-A1FC-DFD6FA2B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1F02-E3A0-4347-AB08-D29BC0FA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7098-82FB-428A-9E06-F4974C70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2368-DCF5-4D08-8B7C-6A25B968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1E6B-9923-4923-B150-D8E23F0E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459D-F56C-4200-98E5-247C1B4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52D-0E39-4351-B3E2-7783BB93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3950-667C-4669-8AD3-E14044CB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3B16-DC7C-4032-A244-F691E21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FAE2-6978-4C0F-9F6C-7AC787F5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9C43-A144-4E68-97F8-EF88C443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936C-9797-412D-AAE4-C59727A6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64D-75BD-4EAA-A747-617E49A5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3AA-B0BF-4C24-9934-35FF0183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7F6-F609-4D35-B277-EBD2A263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637-C5D0-4983-8987-3B7D60C1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EFE-BA50-489E-9F71-51C7E7DA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A0B-D9E9-4617-BF46-1D257C34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321-0829-4865-9FB3-2ECB5EA4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06D3-6F4B-413B-8E3D-1D206F5C36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2E06-4828-4211-8DED-D3E2FA73E82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1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003399"/>
                </a:solidFill>
                <a:latin typeface="Comic Sans MS"/>
              </a:rPr>
              <a:t>Агния Львовна Барт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Агния Барто"/>
          <p:cNvPicPr/>
          <p:nvPr/>
        </p:nvPicPr>
        <p:blipFill>
          <a:blip r:embed="rId1"/>
          <a:stretch/>
        </p:blipFill>
        <p:spPr>
          <a:xfrm>
            <a:off x="2771640" y="1413000"/>
            <a:ext cx="3916440" cy="4897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Биография А. Л. Барт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Агния Львовна родилась в Москве в 1906году в семье врача-ветеринара. Именно отец привил дочери любовь к литературе. В детстве она мечтала стать балериной и училась в балетном училище. Но увлеклась поэзией и решила сменить професси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Когда Агния Барто впервые принесла в издательство свои стихи, ей было всего 19 лет. Это было в 1925 г. Стихи получили самую высокую оценку редактора и их выпустили отдельной книжко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Цикл стихотворений «Игрушки» появились в 1936 году. В годы Великой Отечественной войны Агния Барто ездила на фронт - выступала перед бойцами, писала для газет. Конец войны связан горем в семье Агнии Барто – в мае 1945 года погиб ее сы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Но Агния Барто не перестала писать стихи для детей и о детях. Она очень много сделала для чужих детей, стала вести на радио передачу «Найти человека», где потерянные во время войны дети рассказывали о себе, о том, что они помнят. За 9 лет эта программа соединила 927 сем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0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       </a:t>
            </a: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Барто верила в «человечность» детей, в их доброту,                                               душевную чуткость. Книжка «Вовка - добрая душа» как раз о           таких дет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3024000" cy="2854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394920" y="249192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Есть книжки, которые любят все ребята. Среди этих книжек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—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стихи Агнии Барто. Спросите у любого пятилетнего человека, ещё и книг-то в руках не умеющего держать: «Почитать тебе Барто?»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—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и он кивает головой. Барто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—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для него значит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—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нятные, весёлые и интересные стихи. Это значит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—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он услышит о таких же ребятах, как он сам, или постарше. И услышит чистую правду, потому что поэтесса отлично знает все детские проказы, маленькие хитрости и умеет весело обо всём рассказать и необидно пошутить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ергей МИХАЛК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608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Лошадку, гриву, </a:t>
            </a:r>
            <a:br>
              <a:rPr sz="5100"/>
            </a:b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в гости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29958" t="55979" r="37999" b="22291"/>
          <a:stretch/>
        </p:blipFill>
        <p:spPr>
          <a:xfrm>
            <a:off x="5003640" y="1125360"/>
            <a:ext cx="3453120" cy="38563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468360" y="3213000"/>
            <a:ext cx="4537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Я люблю свою лошад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Причешу ей шёрстку гла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Гребешком приглажу хво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И верхом поеду в г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4537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Бросила, </a:t>
            </a:r>
            <a:br>
              <a:rPr sz="5100"/>
            </a:b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под дождем, промок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6042" t="58110" r="72949" b="22255"/>
          <a:stretch/>
        </p:blipFill>
        <p:spPr>
          <a:xfrm>
            <a:off x="5146560" y="1268280"/>
            <a:ext cx="3387960" cy="45342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539640" y="3284640"/>
            <a:ext cx="5329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Зайку бросила хозяй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Под дождем остался за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Со скамейки слезть не см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Весь до ниточки промо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8608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Уронили , оторвали, </a:t>
            </a:r>
            <a:br>
              <a:rPr sz="5100"/>
            </a:b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не брошу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614760" cy="41004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611280" y="3357720"/>
            <a:ext cx="432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Уронили мишку на п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Оторвали мишке ла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Все равно его не брош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Потому что он хорош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24000" y="151920"/>
            <a:ext cx="543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Скороговор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99800" y="1909440"/>
            <a:ext cx="700236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Шесть мышат в шалаше шуршат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7543" t="0" r="6961" b="0"/>
          <a:stretch/>
        </p:blipFill>
        <p:spPr>
          <a:xfrm>
            <a:off x="4427640" y="342900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5512" t="0" r="11811" b="0"/>
          <a:stretch/>
        </p:blipFill>
        <p:spPr>
          <a:xfrm>
            <a:off x="1187280" y="3429000"/>
            <a:ext cx="324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355840" cy="1762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348000" y="260280"/>
            <a:ext cx="2232000" cy="1800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1944720" cy="1997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203640" y="4581360"/>
            <a:ext cx="2598840" cy="195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6300720" y="3429000"/>
            <a:ext cx="2049480" cy="2133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311560" y="2374560"/>
            <a:ext cx="578952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Весна , весна на улиц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Весенние деньки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Книги А. Л. Барт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 rot="20641800">
            <a:off x="684000" y="1341000"/>
            <a:ext cx="1672920" cy="2189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145584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673360" y="3645000"/>
            <a:ext cx="1724040" cy="205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 rot="958200">
            <a:off x="6948000" y="4005000"/>
            <a:ext cx="1676520" cy="21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987640" y="1268280"/>
            <a:ext cx="160992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 rot="702000">
            <a:off x="6587640" y="1341000"/>
            <a:ext cx="165420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 rot="20878200">
            <a:off x="468360" y="4005360"/>
            <a:ext cx="172728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4595760" y="3645000"/>
            <a:ext cx="183528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7:21:50Z</dcterms:created>
  <dc:creator>USER</dc:creator>
  <dc:description/>
  <dc:language>en-US</dc:language>
  <cp:lastModifiedBy> Радик</cp:lastModifiedBy>
  <dcterms:modified xsi:type="dcterms:W3CDTF">2013-01-17T05:29:16Z</dcterms:modified>
  <cp:revision>12</cp:revision>
  <dc:subject/>
  <dc:title>Слайд 1</dc:title>
</cp:coreProperties>
</file>