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E60-08A1-4DA9-A366-1BB58845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FAB-6E21-4FE9-A362-D2DE99A4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377-0F51-4DA5-B4AA-E1B28A8C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A64-36AE-4323-A5C2-DF1054D0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A8D8-8999-4F30-8DE9-3BA8DA99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12C8-DAF2-4A3B-A61C-7E43018D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C2E5-4021-4B9C-82BA-A0F9CC8C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9192-04AB-4DFD-A4FF-824C81C6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276A-4460-49A3-9327-96C06321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F702-9334-444F-A462-60C463E7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7E17-CA44-4334-B7C7-07A27722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105-F019-4A76-8470-7B28AA67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2427-645D-4375-A83B-ACDC7CAB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C4F9-C00C-48DF-A3DE-D75BFE7B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13BB-ECB3-4FDD-A7AB-8DF1C568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32FA-2811-4125-94C5-212465E2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4439-F887-48FA-A742-BADC678D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BFD-0437-404A-B59A-FC745EB3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F01-CDAE-4D7B-B14A-2C40C861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C11-F193-4953-96DB-AF8738BA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1EB-0375-419A-B057-102A9580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E84-519F-44F0-8629-E54AFECE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AC1-F5DB-4F47-B579-C7717EBF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F9F-750A-4F99-9D25-8049216C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8991-290C-4146-8EEA-333FDF350FE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866C-1EDD-46AD-A5BF-1FB4477C2B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41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003399"/>
                </a:solidFill>
                <a:latin typeface="Comic Sans MS"/>
              </a:rPr>
              <a:t>Агния Львовна Барт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Агния Барто"/>
          <p:cNvPicPr/>
          <p:nvPr/>
        </p:nvPicPr>
        <p:blipFill>
          <a:blip r:embed="rId1"/>
          <a:stretch/>
        </p:blipFill>
        <p:spPr>
          <a:xfrm>
            <a:off x="2771640" y="1413000"/>
            <a:ext cx="3916440" cy="48974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Биография А. Л. Барто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Агния Львовна родилась в Москве в 1906году в семье врача-ветеринара. Именно отец привил дочери любовь к литературе. В детстве она мечтала стать балериной и училась в балетном училище. Но увлеклась поэзией и решила сменить профессию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Когда Агния Барто впервые принесла в издательство свои стихи, ей было всего 19 лет. Это было в 1925 г. Стихи получили самую высокую оценку редактора и их выпустили отдельной книжко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Цикл стихотворений «Игрушки» появились в 1936 году. В годы Великой Отечественной войны Агния Барто ездила на фронт - выступала перед бойцами, писала для газет. Конец войны связан горем в семье Агнии Барто – в мае 1945 года погиб ее сы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Но Агния Барто не перестала писать стихи для детей и о детях. Она очень много сделала для чужих детей, стала вести на радио передачу «Найти человека», где потерянные во время войны дети рассказывали о себе, о том, что они помнят. За 9 лет эта программа соединила 927 сем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0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mic Sans MS"/>
              </a:rPr>
              <a:t>       </a:t>
            </a: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Барто верила в «человечность» детей, в их доброту,                                               душевную чуткость. Книжка «Вовка - добрая душа» как раз о           таких дет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16360" y="260280"/>
            <a:ext cx="3024000" cy="28544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55" name=""/>
          <p:cNvSpPr txBox="1"/>
          <p:nvPr/>
        </p:nvSpPr>
        <p:spPr>
          <a:xfrm>
            <a:off x="394920" y="2491920"/>
            <a:ext cx="8218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Есть книжки, которые любят все ребята. Среди этих книжек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—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стихи Агнии Барто. Спросите у любого пятилетнего человека, ещё и книг-то в руках не умеющего держать: «Почитать тебе Барто?»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—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и он кивает головой. Барто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—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для него значит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—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онятные, весёлые и интересные стихи. Это значит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—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он услышит о таких же ребятах, как он сам, или постарше. И услышит чистую правду, потому что поэтесса отлично знает все детские проказы, маленькие хитрости и умеет весело обо всём рассказать и необидно пошутить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Сергей МИХАЛК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4608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ff"/>
                </a:solidFill>
                <a:latin typeface="Comic Sans MS"/>
              </a:rPr>
              <a:t>Лошадку, гриву, </a:t>
            </a:r>
            <a:br>
              <a:rPr sz="5100"/>
            </a:br>
            <a:r>
              <a:rPr b="0" lang="en-US" sz="5100" spc="-1" strike="noStrike">
                <a:solidFill>
                  <a:srgbClr val="0066ff"/>
                </a:solidFill>
                <a:latin typeface="Comic Sans MS"/>
              </a:rPr>
              <a:t>в гости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29958" t="55979" r="37999" b="22291"/>
          <a:stretch/>
        </p:blipFill>
        <p:spPr>
          <a:xfrm>
            <a:off x="5003640" y="1125360"/>
            <a:ext cx="3453120" cy="38563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468360" y="3213000"/>
            <a:ext cx="4537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Я люблю свою лошад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Причешу ей шёрстку гла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Гребешком приглажу хво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И верхом поеду в г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4537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ff"/>
                </a:solidFill>
                <a:latin typeface="Comic Sans MS"/>
              </a:rPr>
              <a:t>Бросила, </a:t>
            </a:r>
            <a:br>
              <a:rPr sz="5100"/>
            </a:br>
            <a:r>
              <a:rPr b="0" lang="en-US" sz="5100" spc="-1" strike="noStrike">
                <a:solidFill>
                  <a:srgbClr val="0066ff"/>
                </a:solidFill>
                <a:latin typeface="Comic Sans MS"/>
              </a:rPr>
              <a:t>под дождем, промок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6042" t="58110" r="72949" b="22255"/>
          <a:stretch/>
        </p:blipFill>
        <p:spPr>
          <a:xfrm>
            <a:off x="5146560" y="1268280"/>
            <a:ext cx="3387960" cy="45342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539640" y="3284640"/>
            <a:ext cx="5329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Зайку бросила хозяй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Под дождем остался зай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Со скамейки слезть не см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Весь до ниточки промо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18608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ff"/>
                </a:solidFill>
                <a:latin typeface="Comic Sans MS"/>
              </a:rPr>
              <a:t>Уронили , оторвали, </a:t>
            </a:r>
            <a:br>
              <a:rPr sz="5100"/>
            </a:br>
            <a:r>
              <a:rPr b="0" lang="en-US" sz="5100" spc="-1" strike="noStrike">
                <a:solidFill>
                  <a:srgbClr val="0066ff"/>
                </a:solidFill>
                <a:latin typeface="Comic Sans MS"/>
              </a:rPr>
              <a:t>не брошу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614760" cy="41004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611280" y="3357720"/>
            <a:ext cx="432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Уронили мишку на по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Оторвали мишке ла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Все равно его не брош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Потому что он хорош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24000" y="151920"/>
            <a:ext cx="543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Скороговор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99800" y="1909440"/>
            <a:ext cx="700236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Шесть мышат в шалаше шуршат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17543" t="0" r="6961" b="0"/>
          <a:stretch/>
        </p:blipFill>
        <p:spPr>
          <a:xfrm>
            <a:off x="4427640" y="342900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5512" t="0" r="11811" b="0"/>
          <a:stretch/>
        </p:blipFill>
        <p:spPr>
          <a:xfrm>
            <a:off x="1187280" y="3429000"/>
            <a:ext cx="324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355840" cy="1762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348000" y="260280"/>
            <a:ext cx="2232000" cy="1800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1944720" cy="1997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203640" y="4581360"/>
            <a:ext cx="2598840" cy="1954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6300720" y="3429000"/>
            <a:ext cx="2049480" cy="2133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311560" y="2374560"/>
            <a:ext cx="578952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Весна , весна на улиц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Весенние деньки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593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Книги А. Л. Барт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 rot="20641800">
            <a:off x="684000" y="1341000"/>
            <a:ext cx="1672920" cy="2189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1455840" cy="218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673360" y="3645000"/>
            <a:ext cx="1724040" cy="205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 rot="958200">
            <a:off x="6948000" y="4005000"/>
            <a:ext cx="1676520" cy="21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987640" y="1268280"/>
            <a:ext cx="1609920" cy="218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 rot="702000">
            <a:off x="6587640" y="1341000"/>
            <a:ext cx="1654200" cy="218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 rot="20878200">
            <a:off x="468360" y="4005360"/>
            <a:ext cx="1727280" cy="218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4595760" y="3645000"/>
            <a:ext cx="183528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07:21:50Z</dcterms:created>
  <dc:creator>USER</dc:creator>
  <dc:description/>
  <dc:language>en-US</dc:language>
  <cp:lastModifiedBy> Радик</cp:lastModifiedBy>
  <dcterms:modified xsi:type="dcterms:W3CDTF">2013-01-17T05:29:16Z</dcterms:modified>
  <cp:revision>12</cp:revision>
  <dc:subject/>
  <dc:title>Слайд 1</dc:title>
</cp:coreProperties>
</file>