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FF0-7B05-4116-87E7-66C1D6F7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DFA-6BC5-4B75-B0BF-41D8D557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5F1E0-BE3A-4C26-A1E1-91602FA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48390-6CFC-40C1-89FB-72ED3FE9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E5269-554C-4271-AAD3-7C3F3F56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2BD2D-CE19-4844-BDAA-A264CAC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4D827-3802-4C5B-88D7-B89FF1AB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E5C60-A4E4-4348-823E-FB04E88F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D1AA3-D890-43D4-833E-025F5440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5003C-B91F-4CF6-93D4-42C8356E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1FCAE-C27E-40A5-8622-98F7CA48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AB7E4-10BB-4E1E-A503-3EFBE896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749-B56D-4897-9C3B-CE5C41D5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9FF64-C447-4065-BA00-DBAF8EF1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45BE1-EC70-4381-87BA-F2FCCE4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914DB-95FC-40C5-88F8-B7B3A4A8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DAD64-AA92-42CF-BA67-51F200A4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0F77C-8737-4926-B575-1E249982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538B2-71A8-444D-9E53-5746D1DE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01472-DA00-4DF0-9868-EE2EC6C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1BE9F-A43A-4F32-B8E1-B301B4C5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231E8-0011-4379-A688-EE94B76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20982-BE14-484C-8CE7-A2ECA4CB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280-79C7-4598-84E5-9FEE19DE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6FDB3-E7C0-4352-9790-C125F441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C15A5-B1C2-4DD1-ACF8-2A9B1786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042F-7820-4B74-9F18-360287C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F7336-A37F-48F6-9E7E-B67C9A9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6732-E170-482C-B7FC-AD9F9FF0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7D79-31B8-428C-8A7E-0F39F81D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A07C2-B4DE-41FA-9F73-985E17E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BC2F9-BAB9-49C1-99B0-04AA6B08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3FE2B-DE7C-43C5-ADC2-217BBF0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E205A-4FF8-4EBF-9615-DD4635B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366E-E9E8-42F1-98E1-7C77E9A2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0CE3A-1280-408D-AF5B-26882F03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E85D2-CAC1-49C7-966C-489F55FD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88212-E241-4F13-8E7E-205C6930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E6D14-CC09-4346-BDCB-85D5B966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3EDED-5411-4B5A-8EA9-810AAB0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17364-E38E-4E47-BBF0-FA6C35E5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7001D-07DD-48C3-96B9-FB718639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2BA3B-81AD-4D46-A9B3-87D26770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47C11-1B7E-436A-8703-081F36B8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8E26D-E600-4A69-9AFF-64CB2CF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61CB-DBAE-41EA-81AB-BEC1829E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DB7C6-AFBB-4262-BD23-28CE500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74AB0-CDCB-42DB-A5EE-85F978A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4E437-FAA7-47B2-B022-457F3B8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04965-DFE7-42FB-A880-6B9D624A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6582A-7B45-4DFB-9B7A-A59EB6FA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99A-D718-4D3D-9E52-7D14E8BC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BE4-BA73-4C19-9000-290AB7B9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E7AC-5D72-4B33-B91C-49E3DCC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2C85-FCFA-47F6-A06B-4E88A9B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595F-0183-48BF-850F-D8D53CF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25C-5861-443E-A5C5-16CA97D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DDA4-67CF-4CD0-AF8A-B1F96B3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9ADE-75A7-4AA1-B038-2587E25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1CF-511A-478F-A865-7A8574E3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4848-E600-4A87-BE4A-5B4DA15E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AF58-5EBC-4E49-B5E6-A9223CE5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F244-9324-495E-BEBC-73FCD2A3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830B-AF94-4505-AD70-618603D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8C70-4586-412C-AF6C-8ECE16BE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E4E6-71FF-4692-BDAF-95C7E9ED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E775-FB61-40BD-98DC-8BC53F2C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8BD-C142-467A-8C23-171C073E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4604-76FD-44FF-A63F-F51301D2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0205-0957-4663-AC9E-888E11E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7669-6EF4-49BF-B02D-C8435A4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13CD-179C-42FB-8E25-A4A54B6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8C08-928B-4EDC-B805-C6A3EB23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5B3A-9BC9-45DF-80D8-FF84BADC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3C71-33EA-441F-9A1E-5C5258D2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215F-94D4-4205-8A65-3D5FA389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6E976-1470-4574-B1EB-D751B46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BA16-50AB-4EFE-8150-A92C05D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3AF-D7C4-475E-8F04-64233FE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8EEF-3550-4E0B-8759-ECEFB8F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0D64-503B-41E5-9505-5BDC8AF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A85D-A9B3-4E25-A322-55F632CC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C0D3-D639-4E92-AF1C-1BD13D2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12A6-5274-49EE-9620-18A00AC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B021-0166-4073-8908-1DCD782E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A9E4-AC30-4115-A0D7-CD219BD9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759A-C346-4335-B134-BC49A55F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F2E5-48A2-475D-9BD2-8A7C7656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0D7C-E45F-4D89-882F-8E44508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EC3-3D06-47AF-9B8D-D2FDB50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4715-84A2-46C8-B601-C8728E70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8D0A-F68D-436F-BD22-988C67DC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50F8-10F7-49D7-983F-9154A1F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BD89-DDE6-495C-9FEB-4469B054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AF99-207C-4BA1-BB33-B18484A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34F10-795B-4FBB-B642-D8816FD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3784-0A09-4FE6-A71A-557A3408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01B4-4F87-46E5-B71D-AE4BAF6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CB1B3-E6FA-4C01-A023-48EFF88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0FA9-B0C5-46D3-A4C0-51D73556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98E-3EB0-414E-8C1F-DF1CBA3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FE5B-FE24-432E-97ED-EC857775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60CE-A904-4949-B30B-F188CB48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4867A-4480-46E7-9E39-5105EB2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0407-D947-42F1-B0CC-6B667EC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2B1B-8A70-455B-A796-96EFF32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42AD-48C5-4BFB-B0B0-F3FADA2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13CA-1E53-4C72-B8B6-1EE5DB5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E07F-46E2-4947-98F3-803A617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5FF2-328A-4EE4-A85C-D89ECEA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7742E-90FB-4854-ADFE-F1215E9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551-264D-4385-B036-2CE5D72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B5840-75D5-4A42-857C-9BBC8FFE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B61A8-5EA0-4CFC-A31B-A22956BE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8E92-5BC5-491B-9B9B-1457DE2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B298-CDAA-4335-8312-B9798AF1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3545D-1781-484D-901D-2DF4DBD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800A-A854-4AAA-8103-122A33C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D69D-1B0C-41FA-860E-1C40B590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1009-BC9B-4574-A0A3-2F76D03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7347-75A8-46D8-A52F-21DC7EB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EE39C-2102-48EC-8348-E5FAF84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1CB-E94F-4380-A817-032F1F62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FFDA5-BFC0-4093-B4FB-EA9C8DA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3809-C7EF-41D4-8F5B-410B6FE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663F-3941-4D0E-88CF-9E9CA2E3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7A77-6CFF-41DE-8590-1982DB4B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FCA58-42EA-41CF-8B19-CB250073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FF1C-121B-40B8-9409-672765E9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2973E-A5CE-4D89-B3C7-BD9AF15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E5F4-A8ED-4062-BCBE-3AA48AD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BEB19-5DE1-4593-B02E-BA7BBA6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597FD-B7FF-441D-B3AF-C543EDDF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D98-5205-488B-B632-97FE2F6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0CCA-A7A1-40F9-83D1-0C3D2910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CC34-7CC4-46EE-B66D-1A94A1B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C18D5-1CC7-4759-A46F-875B1680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9B29-F21A-4D51-8CE6-20F3FB8F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9C0E4-B897-4F19-BC4C-260A23A5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1ED7-D493-427A-93F1-7BE562FE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4190-13FE-4A88-92CF-60AEFB60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66FAD-DD91-410B-9B44-D7B714AE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23EF1-E1A7-48A6-B139-177E761F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71D3D-CA97-4A8F-8477-42766E4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FEB-3E1A-4CA7-8F67-E3C70F937C15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74F-287F-4F15-86ED-376F8A977AA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00A-A60C-48E4-99E7-83E7358117C9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E17-84A0-4241-8606-DA9DA79194BA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60EE-515E-4E99-BACF-2213C47F3866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D709-F611-4B59-9C2F-E7696781CF0A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48A-B61D-47A6-A438-A3306B09ACBF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373-0D71-404F-BA2A-72CF07BE8357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8623-C0C3-4D22-8024-566F8F7C638E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355-A0C4-4FEA-A283-FB993D5E8D5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905-D7AB-4606-88B3-4A5755B25B2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C7C-C459-4AE6-8A18-148CDBA8EB0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Georgia"/>
              </a:rPr>
              <a:t>27.10.2009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Georgia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Georgia"/>
              </a:rPr>
              <a:t>ИСТОРИЯ ДРЕВНЕГО МИР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891a7"/>
                </a:solidFill>
                <a:latin typeface="Georgia"/>
              </a:rPr>
              <a:t>Культура Древнего Египта</a:t>
            </a:r>
            <a:endParaRPr b="0" lang="en-US" sz="4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2627"/>
                </a:solidFill>
                <a:latin typeface="Georgia"/>
              </a:rPr>
              <a:t>8. Кого, по представлениям древних египтян, Осирис пропускал в «царство мертвых»?</a:t>
            </a:r>
            <a:endParaRPr b="0" lang="en-US" sz="28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только фараон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только жрец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всех, кто при жизни творил добр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9. Перечислите известных вам богов Древнего Египта (не менее трех)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Вспоминаем домашнее задание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главным богом у египтян был бог Солнца Р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у египтян все боги изображены с головами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бозначал ритуал захоронения вместе с хозяином различных вещей, скульптуро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связь существовала между государственной властью и религией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Культура Древнего Египт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786200" y="1526760"/>
            <a:ext cx="40197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Georgia"/>
              </a:rPr>
              <a:t>План урок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ервое из чудес свет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рамы – жилище богов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Гробница фараона Тутанхамон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собенности древнеегипетской скульптуры и живопис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Georgia"/>
              </a:rPr>
              <a:t>Домашнее задание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§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11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Рисунок 3" descr="Музыканты из сцены пира.bmp"/>
          <p:cNvPicPr/>
          <p:nvPr/>
        </p:nvPicPr>
        <p:blipFill>
          <a:blip r:embed="rId1"/>
          <a:stretch/>
        </p:blipFill>
        <p:spPr>
          <a:xfrm>
            <a:off x="214200" y="1428840"/>
            <a:ext cx="4492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Рисунок 9" descr="Пирамиды в Гизе.bmp"/>
          <p:cNvPicPr/>
          <p:nvPr/>
        </p:nvPicPr>
        <p:blipFill>
          <a:blip r:embed="rId1"/>
          <a:stretch/>
        </p:blipFill>
        <p:spPr>
          <a:xfrm>
            <a:off x="357120" y="2000160"/>
            <a:ext cx="5214960" cy="38926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ервое из чудес свет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5" name="Содержимое 7" descr="Большой Сфинкс, пирамида Хефрена.bmp"/>
          <p:cNvPicPr/>
          <p:nvPr/>
        </p:nvPicPr>
        <p:blipFill>
          <a:blip r:embed="rId2"/>
          <a:stretch/>
        </p:blipFill>
        <p:spPr>
          <a:xfrm>
            <a:off x="357120" y="1928880"/>
            <a:ext cx="5167440" cy="3857400"/>
          </a:xfrm>
          <a:prstGeom prst="rect">
            <a:avLst/>
          </a:prstGeom>
          <a:ln w="0">
            <a:noFill/>
          </a:ln>
        </p:spPr>
      </p:pic>
      <p:sp>
        <p:nvSpPr>
          <p:cNvPr id="636" name="TextBox 8"/>
          <p:cNvSpPr/>
          <p:nvPr/>
        </p:nvSpPr>
        <p:spPr>
          <a:xfrm>
            <a:off x="5643720" y="1928880"/>
            <a:ext cx="328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ирами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ольшой сфинк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удеса св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10" descr="18.jpg"/>
          <p:cNvPicPr/>
          <p:nvPr/>
        </p:nvPicPr>
        <p:blipFill>
          <a:blip r:embed="rId3"/>
          <a:stretch/>
        </p:blipFill>
        <p:spPr>
          <a:xfrm>
            <a:off x="357120" y="1967040"/>
            <a:ext cx="5214960" cy="39114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2" descr="Сфинкс.bmp"/>
          <p:cNvPicPr/>
          <p:nvPr/>
        </p:nvPicPr>
        <p:blipFill>
          <a:blip r:embed="rId4"/>
          <a:stretch/>
        </p:blipFill>
        <p:spPr>
          <a:xfrm>
            <a:off x="357120" y="1149480"/>
            <a:ext cx="512928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ирамида Хеопс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0 метров высот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600 год до н.э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Как давно была построена пирамида Хеопса </a:t>
            </a:r>
            <a:r>
              <a:rPr b="0" lang="ru-RU" sz="2700" spc="-1" strike="noStrike">
                <a:solidFill>
                  <a:srgbClr val="c00000"/>
                </a:solidFill>
                <a:latin typeface="Georgia"/>
              </a:rPr>
              <a:t>(используй ленту времени)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1" name="Рисунок 3" descr="Пирамида Хеопса.bmp"/>
          <p:cNvPicPr/>
          <p:nvPr/>
        </p:nvPicPr>
        <p:blipFill>
          <a:blip r:embed="rId1"/>
          <a:stretch/>
        </p:blipFill>
        <p:spPr>
          <a:xfrm>
            <a:off x="4084560" y="1428840"/>
            <a:ext cx="4880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Прочитайте самостоятельно стр. 54-55 «Храмы – жилища богов»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928880"/>
            <a:ext cx="85042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ишите египетский х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проходили праздники в честь бого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Гробница фараона Тутанхамон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5" name="Содержимое 3" descr="Золтая маска Тутанхамона.bmp"/>
          <p:cNvPicPr/>
          <p:nvPr/>
        </p:nvPicPr>
        <p:blipFill>
          <a:blip r:embed="rId1"/>
          <a:stretch/>
        </p:blipFill>
        <p:spPr>
          <a:xfrm>
            <a:off x="4214880" y="1357200"/>
            <a:ext cx="4714920" cy="5246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4" descr="17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1357200"/>
            <a:ext cx="4523040" cy="521496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5" descr="Тутанхамон.jpg"/>
          <p:cNvPicPr/>
          <p:nvPr/>
        </p:nvPicPr>
        <p:blipFill>
          <a:blip r:embed="rId3"/>
          <a:stretch/>
        </p:blipFill>
        <p:spPr>
          <a:xfrm>
            <a:off x="214200" y="1428840"/>
            <a:ext cx="4500720" cy="334008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6" descr="Тутанхамон_2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357880" y="1692360"/>
            <a:ext cx="3565440" cy="490680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7" descr="Золотая маска Тутанхамона.jpg"/>
          <p:cNvPicPr/>
          <p:nvPr/>
        </p:nvPicPr>
        <p:blipFill>
          <a:blip r:embed="rId5"/>
          <a:stretch/>
        </p:blipFill>
        <p:spPr>
          <a:xfrm>
            <a:off x="3071880" y="2286000"/>
            <a:ext cx="28764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Фараон Эхнатон и царица Нефертити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.55 - докумен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Рисунок 3" descr="Нефертити_5.jpg"/>
          <p:cNvPicPr/>
          <p:nvPr/>
        </p:nvPicPr>
        <p:blipFill>
          <a:blip r:embed="rId1"/>
          <a:stretch/>
        </p:blipFill>
        <p:spPr>
          <a:xfrm>
            <a:off x="5357880" y="1371600"/>
            <a:ext cx="3560760" cy="529920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 4" descr="Нефертити_4.jpg"/>
          <p:cNvPicPr/>
          <p:nvPr/>
        </p:nvPicPr>
        <p:blipFill>
          <a:blip r:embed="rId2"/>
          <a:stretch/>
        </p:blipFill>
        <p:spPr>
          <a:xfrm>
            <a:off x="214200" y="1438200"/>
            <a:ext cx="4143600" cy="519912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5" descr="Нефертити.jpg"/>
          <p:cNvPicPr/>
          <p:nvPr/>
        </p:nvPicPr>
        <p:blipFill>
          <a:blip r:embed="rId3"/>
          <a:stretch/>
        </p:blipFill>
        <p:spPr>
          <a:xfrm>
            <a:off x="4929120" y="1285920"/>
            <a:ext cx="3992760" cy="5322960"/>
          </a:xfrm>
          <a:prstGeom prst="rect">
            <a:avLst/>
          </a:prstGeom>
          <a:ln w="0">
            <a:noFill/>
          </a:ln>
        </p:spPr>
      </p:pic>
      <p:pic>
        <p:nvPicPr>
          <p:cNvPr id="655" name="Рисунок 6" descr="Нефертити_3.jpg"/>
          <p:cNvPicPr/>
          <p:nvPr/>
        </p:nvPicPr>
        <p:blipFill>
          <a:blip r:embed="rId4"/>
          <a:stretch/>
        </p:blipFill>
        <p:spPr>
          <a:xfrm>
            <a:off x="357120" y="1357200"/>
            <a:ext cx="3714840" cy="5168880"/>
          </a:xfrm>
          <a:prstGeom prst="rect">
            <a:avLst/>
          </a:prstGeom>
          <a:ln w="0">
            <a:noFill/>
          </a:ln>
        </p:spPr>
      </p:pic>
      <p:pic>
        <p:nvPicPr>
          <p:cNvPr id="656" name="Рисунок 7" descr="Нефертити_2.jpg"/>
          <p:cNvPicPr/>
          <p:nvPr/>
        </p:nvPicPr>
        <p:blipFill>
          <a:blip r:embed="rId5"/>
          <a:stretch/>
        </p:blipFill>
        <p:spPr>
          <a:xfrm>
            <a:off x="2262240" y="1441440"/>
            <a:ext cx="37386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Самостоятельное чтение стр. 56-57 «Пойдемте в музей!»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правила должны были соблюдать египетские мастера, изображавшие богов, фараонов, вельмож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Решаем тесты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60" name="Содержимое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Прямоугольник 4" descr=""/>
          <p:cNvPicPr/>
          <p:nvPr/>
        </p:nvPicPr>
        <p:blipFill>
          <a:blip r:embed="rId2"/>
          <a:stretch/>
        </p:blipFill>
        <p:spPr>
          <a:xfrm>
            <a:off x="566640" y="682560"/>
            <a:ext cx="82962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1. Что называется религией?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вера в сверхъестественные существа, духов, бог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сила, с помощью которой одни эксплуатировали других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вера в силы прир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2. Бог солнца, самый могущественный из богов Древнего Египта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Осирис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Амон-Р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С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428760"/>
            <a:ext cx="8534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2627"/>
                </a:solidFill>
                <a:latin typeface="Georgia"/>
              </a:rPr>
              <a:t>3. Мифический царь Египта, научивший египтян выращивать зерно и виноград, печь хлеб?</a:t>
            </a:r>
            <a:endParaRPr b="0" lang="en-US" sz="28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Осирис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Амон-Р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Тутанхам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4. С каким явлением природы древние египтяне сравнивали смерть Осириса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с засухо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с разливом Нил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с землетрясение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5. «Жилище богов» в Древнем Египте: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саркофаг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пирамид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х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6. Самый главный, могущественный бог Древнего Египта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бог Земл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бог «царства мертвых»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бог солнц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b2627"/>
                </a:solidFill>
                <a:latin typeface="Georgia"/>
              </a:rPr>
              <a:t>7. Служители богов в Древнем Египте: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фараон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жрец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) вельмож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22:19Z</dcterms:created>
  <dc:creator>Татьяна</dc:creator>
  <dc:description/>
  <dc:language>en-US</dc:language>
  <cp:lastModifiedBy>Татьяна</cp:lastModifiedBy>
  <dcterms:modified xsi:type="dcterms:W3CDTF">2009-10-26T18:29:28Z</dcterms:modified>
  <cp:revision>7</cp:revision>
  <dc:subject/>
  <dc:title>Культура Древнего Египта</dc:title>
</cp:coreProperties>
</file>