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347-B965-44E8-ACD8-4086BEEA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467-544B-4996-A2F3-BE0813CF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159B3-A5A8-421F-B147-49844D92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7423D-6BBE-41BB-A15C-BD0555F4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04171-2037-4832-B1F2-441ED887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79E8C-0B88-47A2-8ADB-C4872F01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1AC15B-BCCD-4CD4-9301-67B78131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34016-0962-4A33-A60D-C5388BD5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70B887-5B0B-408E-ACC5-FEF5A2E6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0B427-FD8B-44AE-B7FC-4C41035F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14FF9-5212-489F-A8F2-65BCF26E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92482-DE05-4F80-9252-901806D6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E25-D214-4F96-B2C7-3B2E8B60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9268A-F734-4C56-8A74-BF8B10A6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554DF-60B3-40A8-AFEA-1BB9DAE4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E21C6-9E91-4E64-A0D1-1AA694CA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417CA5-63D7-4422-A032-4E431FA5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538EA-092A-4C91-B903-1262C734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F281D0-C7B8-4FAE-B84B-340AA174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D26E6-689C-4BDD-BD5C-09A3CBDC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FB22C-CA41-4C12-8C61-406B0548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93B045-5F6C-4A0C-99DC-818F8C90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D284C-9B3F-4762-8832-84D31743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7EC-0CCF-4261-BBD2-CA834524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F2715-6EC9-432D-B357-2975A28E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D5B1C-AFF8-4216-82BE-4FD0D34C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AAF09-21E7-4BB4-B2BB-DB357500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C856A-FCCC-4F02-996A-57DFBD71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E5BC9-55B4-42EE-8962-C0C1333A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A5F18-5014-4670-A002-5CC879E7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BF33A-AA93-40C9-AA67-49AF0BAA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E5ABD-B466-41E1-8E47-D97908BF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32D31-44D6-4764-870D-308B1DB8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47115-F0C9-4052-86FB-CF72A024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E1A7-49A8-4EE8-BCBE-90C3F896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B4FF1-79D6-4690-A3E0-0180E754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1A346-00AE-4813-9C99-49AEFFDA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E00F6-FB9E-469D-A103-D12AF6F2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BB548-B53A-4B0E-B7BD-BC28156F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D194AB-029E-4A54-A132-BB31EFA9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63EDB-B67A-4FEC-94E3-60CAF706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55D1A-DAA2-4316-A3BF-5F264736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E49514-339A-4DB3-AE31-BAA39290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75AAB-1613-4D94-8CA8-7D0300AB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4041D-DD42-40C7-9235-6B44C3D8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17BC-C076-435C-A5A9-3687D1B0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F8BE9-9D9C-432D-AADB-B6D6B8BC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D579E-8E7C-4A45-B624-36DB0C11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E26D2-87A8-4B7C-8E93-32CF0E73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9A683-154A-4E4C-B290-69D1F6F6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86398-FC10-444A-AC88-CC329C59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EE33-980B-44B2-A00B-0CC51680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B577-FCDA-48E0-BFBA-427ADE92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5607-BD9F-45BB-94BC-1E6D3909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B031-759E-4792-8FA5-CAA2A727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B1BD-0153-4E04-AB6D-921DD4B5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DC9-973B-49EF-ACD3-B8C85FB7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E70B-BB10-467E-9209-BC71343E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F768-55A0-4332-A075-A94B752F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1B7C-2EEE-40EF-B314-7E2FAEB7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1B2F-138C-4398-9FAB-953F9662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C75E-2ACD-487A-89B0-C3884D18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F5213-2690-4963-86BC-DEB04215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6E1BD-23CD-4957-AC31-C896F88F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3FBBD-9F1E-4696-9D23-2C4D07F0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D4D8F-E40E-43F3-803F-822570AA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90B2E-2D93-47B6-B209-6F0A06CE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AA2-F6D6-4E72-BA18-35CC4456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275D2-ECFB-42E7-9B01-86981098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32864-5F2F-477C-B74C-47FF0395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A115B-C2FB-4209-8D26-142BF1A5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9288B-09F6-444C-A6B0-DB59F62B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72C61-A0C5-460E-B697-E94210F3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1C1D8-1BDC-404D-840F-70595DC3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26C6F-6E3A-4973-B7C3-CC91C6D7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B414A-F022-4C8C-8CDD-BC7B004B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970D3-895B-4254-A9C6-266B438C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67403-DAB2-4B0A-8674-5BFA3A1C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41C-CA50-4859-A88B-2B603B7E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78B87-69C7-40FC-937F-0BAC374F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84345-27DB-450F-A26F-CB5B1FD9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F90C2-EAB2-4B1D-805A-67E71093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7E4BD-6169-4FF4-BC6D-D6885B49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66ED8-71D7-4A71-94A6-A04CDC22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A3872-8338-46FD-8C9F-FE89E470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84AFD-55BE-4555-884C-3E6D9649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9361D-311D-47A6-BBB6-51182D26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4FD87-DCF7-4A7C-A20A-B61831F0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11275-B983-4EAF-8EA8-BE8D5075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D79-265B-4369-863E-4C326301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FC917-014C-4C09-B32B-34D5C959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D6822-8C2C-42FD-8985-A7259558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1C2EE-C865-45BD-80DE-45C99E9C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02DFB-976C-4643-8D08-3E17083E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C3434-9250-4734-99B9-577C9637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07CBA-A6A5-4967-B890-7CF76079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5CDC1-9574-45A8-BD7F-2A2B5B3E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6AA5A-F48F-42A6-8C24-A5BB2984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F6E1C-7B45-4A44-B019-F5C1664B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D0B9C-CD5B-4864-AAB7-F961FAF1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31E4-68CA-47CF-A6AA-8F3B1ACB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710D8-381F-471F-A422-F4E6E7D5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82101-30A8-457B-B9A8-8DA130E4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26F02-2EDC-4EF8-B5E3-31A1B933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CFEF7-D2FF-44F2-BB58-19C6D690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4912F-57B8-4E13-AFA7-C8FACAE9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27B04-97F4-4F92-8A61-26D990A6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3179B-190A-4487-88FE-358D42D8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2F5D0-1D96-4177-9283-065FF828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DC421-BF3F-424A-AEC1-F2DBC5B0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17959-81A4-42D5-91E1-6A04DDBC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120-2CE0-416D-AB94-FC5E2A63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000F2-5237-4074-BCFE-4AE358CD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46094-E155-48FF-B698-3253F490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C19B0-3CE0-4041-9A2F-A21C1FBF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59179-8AC6-4991-8E73-27154662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77062-7CDD-406C-B58A-80FE56AD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4764D-6F36-4CBD-AB05-E886C4DC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DC723-7965-40E4-A841-60A103BF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A7436-C1EC-4931-A9B3-FE13ECB2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4A424-F237-4EC8-BDB6-82BF0003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7766D-D6D3-4A85-AE77-42EA6C2E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DF8-7FAF-4B40-8077-1E3A1A72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EBF04-890A-4F76-9C46-2D68555A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8F5B6-61FE-4A1D-BE9F-EC6E7BE1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EF2E6-2890-42F1-B27A-03739A17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CAE2C-7A11-4E59-8749-4DB33DA4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6486D-4AC4-4F87-81E4-089A9DFE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842C3-575A-442E-82C4-3172899A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D5649-7AD8-49A1-98A4-B2542B70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9DEDD-E173-4D9C-8300-0848B86B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DC2A3-F1F2-4D67-BE47-7CD66BD1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3EED9-116B-4BC3-BAF9-5E4EDA26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859-BF5B-43AB-BAF4-E4DDABBD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AB467-AD5C-4D4D-8BEE-1625466A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B33B7-3729-4BA5-8120-995E02F4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645F1-A6E6-4490-86C1-9DA61E2C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C6110-DC82-4DEE-8041-45CEF19B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04407-8AA8-4C0C-8653-214B46B7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7F107-2D43-4347-B95E-81A90557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F27DF-1E90-4EF4-8A48-CBFC8F3C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57344-DE00-4FC8-B45A-7C79104A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01111-AB45-4EC0-8EA8-A36D3694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39FF6-A818-4751-A134-9709EBAE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F780-A396-4996-A8B5-20014799EF1A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4CFB-168D-4158-B97E-8C15B0132746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80FC-296D-4EA4-9D54-957E258E6EDC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FC48-FCFF-4282-994A-0A915B8D3EDD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42AF-EF06-4CEA-B451-6C73636866EE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01C8-E077-4C69-A4AB-153CD5C10790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259F-7F25-47BA-9990-91203752B8B8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FD4A-31CD-45AB-8DB1-8576636A71A5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9625-C905-4EB3-A706-9C9E1B7CD113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9317-F68C-461B-A9F9-D7E146E606BF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3DC0-9A25-43DA-8564-BCC219E2D3E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3B51-7383-41B7-92B1-48B2AD95A380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f271c"/>
                </a:solidFill>
                <a:latin typeface="Georgia"/>
              </a:rPr>
              <a:t>27.10.2009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f271c"/>
                </a:solidFill>
                <a:latin typeface="Georgia"/>
              </a:rPr>
              <a:t>5 КЛАСС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f271c"/>
                </a:solidFill>
                <a:latin typeface="Georgia"/>
              </a:rPr>
              <a:t>ИСТОРИЯ ДРЕВНЕГО МИР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891a7"/>
                </a:solidFill>
                <a:latin typeface="Georgia"/>
              </a:rPr>
              <a:t>Культура Древнего Египта</a:t>
            </a:r>
            <a:endParaRPr b="0" lang="en-US" sz="42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b2627"/>
                </a:solidFill>
                <a:latin typeface="Georgia"/>
              </a:rPr>
              <a:t>8. Кого, по представлениям древних египтян, Осирис пропускал в «царство мертвых»?</a:t>
            </a:r>
            <a:endParaRPr b="0" lang="en-US" sz="28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) только фараонов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) только жрецов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) всех, кто при жизни творил добр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b2627"/>
                </a:solidFill>
                <a:latin typeface="Georgia"/>
              </a:rPr>
              <a:t>9. Перечислите известных вам богов Древнего Египта (не менее трех)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Вспоминаем домашнее задание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чему главным богом у египтян был бог Солнца Р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чему у египтян все боги изображены с головами животных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обозначал ритуал захоронения вместе с хозяином различных вещей, скульптурок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ая связь существовала между государственной властью и религией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Культура Древнего Египта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786200" y="1526760"/>
            <a:ext cx="40197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Georgia"/>
              </a:rPr>
              <a:t>План урока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Первое из чудес света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рамы – жилище богов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Гробница фараона Тутанхамона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Особенности древнеегипетской скульптуры и живописи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Georgia"/>
              </a:rPr>
              <a:t>Домашнее задание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§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11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Рисунок 3" descr="Музыканты из сцены пира.bmp"/>
          <p:cNvPicPr/>
          <p:nvPr/>
        </p:nvPicPr>
        <p:blipFill>
          <a:blip r:embed="rId1"/>
          <a:stretch/>
        </p:blipFill>
        <p:spPr>
          <a:xfrm>
            <a:off x="214200" y="1428840"/>
            <a:ext cx="44928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800" fill="hold"/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800" fill="hold"/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Рисунок 9" descr="Пирамиды в Гизе.bmp"/>
          <p:cNvPicPr/>
          <p:nvPr/>
        </p:nvPicPr>
        <p:blipFill>
          <a:blip r:embed="rId1"/>
          <a:stretch/>
        </p:blipFill>
        <p:spPr>
          <a:xfrm>
            <a:off x="357120" y="2000160"/>
            <a:ext cx="5214960" cy="389268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Первое из чудес света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35" name="Содержимое 7" descr="Большой Сфинкс, пирамида Хефрена.bmp"/>
          <p:cNvPicPr/>
          <p:nvPr/>
        </p:nvPicPr>
        <p:blipFill>
          <a:blip r:embed="rId2"/>
          <a:stretch/>
        </p:blipFill>
        <p:spPr>
          <a:xfrm>
            <a:off x="357120" y="1928880"/>
            <a:ext cx="5167440" cy="3857400"/>
          </a:xfrm>
          <a:prstGeom prst="rect">
            <a:avLst/>
          </a:prstGeom>
          <a:ln w="0">
            <a:noFill/>
          </a:ln>
        </p:spPr>
      </p:pic>
      <p:sp>
        <p:nvSpPr>
          <p:cNvPr id="636" name="TextBox 8"/>
          <p:cNvSpPr/>
          <p:nvPr/>
        </p:nvSpPr>
        <p:spPr>
          <a:xfrm>
            <a:off x="5643720" y="1928880"/>
            <a:ext cx="328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ирамид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ольшой сфинк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удеса свет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Рисунок 10" descr="18.jpg"/>
          <p:cNvPicPr/>
          <p:nvPr/>
        </p:nvPicPr>
        <p:blipFill>
          <a:blip r:embed="rId3"/>
          <a:stretch/>
        </p:blipFill>
        <p:spPr>
          <a:xfrm>
            <a:off x="357120" y="1967040"/>
            <a:ext cx="5214960" cy="391140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 12" descr="Сфинкс.bmp"/>
          <p:cNvPicPr/>
          <p:nvPr/>
        </p:nvPicPr>
        <p:blipFill>
          <a:blip r:embed="rId4"/>
          <a:stretch/>
        </p:blipFill>
        <p:spPr>
          <a:xfrm>
            <a:off x="357120" y="1149480"/>
            <a:ext cx="512928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Пирамида Хеопса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628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50 метров высот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600 год до н.э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Georgia"/>
              </a:rPr>
              <a:t>Как давно была построена пирамида Хеопса </a:t>
            </a:r>
            <a:r>
              <a:rPr b="0" lang="ru-RU" sz="2700" spc="-1" strike="noStrike">
                <a:solidFill>
                  <a:srgbClr val="c00000"/>
                </a:solidFill>
                <a:latin typeface="Georgia"/>
              </a:rPr>
              <a:t>(используй ленту времени)</a:t>
            </a:r>
            <a:r>
              <a:rPr b="1" lang="ru-RU" sz="2700" spc="-1" strike="noStrike">
                <a:solidFill>
                  <a:srgbClr val="c00000"/>
                </a:solidFill>
                <a:latin typeface="Georgia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1" name="Рисунок 3" descr="Пирамида Хеопса.bmp"/>
          <p:cNvPicPr/>
          <p:nvPr/>
        </p:nvPicPr>
        <p:blipFill>
          <a:blip r:embed="rId1"/>
          <a:stretch/>
        </p:blipFill>
        <p:spPr>
          <a:xfrm>
            <a:off x="4084560" y="1428840"/>
            <a:ext cx="48801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b2627"/>
                </a:solidFill>
                <a:latin typeface="Georgia"/>
              </a:rPr>
              <a:t>Прочитайте самостоятельно стр. 54-55 «Храмы – жилища богов»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928880"/>
            <a:ext cx="850428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пишите египетский хра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 проходили праздники в честь богов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Гробница фараона Тутанхамона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45" name="Содержимое 3" descr="Золтая маска Тутанхамона.bmp"/>
          <p:cNvPicPr/>
          <p:nvPr/>
        </p:nvPicPr>
        <p:blipFill>
          <a:blip r:embed="rId1"/>
          <a:stretch/>
        </p:blipFill>
        <p:spPr>
          <a:xfrm>
            <a:off x="4214880" y="1357200"/>
            <a:ext cx="4714920" cy="5246640"/>
          </a:xfrm>
          <a:prstGeom prst="rect">
            <a:avLst/>
          </a:prstGeom>
          <a:ln w="0">
            <a:noFill/>
          </a:ln>
        </p:spPr>
      </p:pic>
      <p:pic>
        <p:nvPicPr>
          <p:cNvPr id="646" name="Рисунок 4" descr="17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14200" y="1357200"/>
            <a:ext cx="4523040" cy="5214960"/>
          </a:xfrm>
          <a:prstGeom prst="rect">
            <a:avLst/>
          </a:prstGeom>
          <a:ln w="0">
            <a:noFill/>
          </a:ln>
        </p:spPr>
      </p:pic>
      <p:pic>
        <p:nvPicPr>
          <p:cNvPr id="647" name="Рисунок 5" descr="Тутанхамон.jpg"/>
          <p:cNvPicPr/>
          <p:nvPr/>
        </p:nvPicPr>
        <p:blipFill>
          <a:blip r:embed="rId3"/>
          <a:stretch/>
        </p:blipFill>
        <p:spPr>
          <a:xfrm>
            <a:off x="214200" y="1428840"/>
            <a:ext cx="4500720" cy="3340080"/>
          </a:xfrm>
          <a:prstGeom prst="rect">
            <a:avLst/>
          </a:prstGeom>
          <a:ln w="0">
            <a:noFill/>
          </a:ln>
        </p:spPr>
      </p:pic>
      <p:pic>
        <p:nvPicPr>
          <p:cNvPr id="648" name="Рисунок 6" descr="Тутанхамон_2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357880" y="1692360"/>
            <a:ext cx="3565440" cy="4906800"/>
          </a:xfrm>
          <a:prstGeom prst="rect">
            <a:avLst/>
          </a:prstGeom>
          <a:ln w="0">
            <a:noFill/>
          </a:ln>
        </p:spPr>
      </p:pic>
      <p:pic>
        <p:nvPicPr>
          <p:cNvPr id="649" name="Рисунок 7" descr="Золотая маска Тутанхамона.jpg"/>
          <p:cNvPicPr/>
          <p:nvPr/>
        </p:nvPicPr>
        <p:blipFill>
          <a:blip r:embed="rId5"/>
          <a:stretch/>
        </p:blipFill>
        <p:spPr>
          <a:xfrm>
            <a:off x="3071880" y="2286000"/>
            <a:ext cx="28764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b2627"/>
                </a:solidFill>
                <a:latin typeface="Georgia"/>
              </a:rPr>
              <a:t>Фараон Эхнатон и царица Нефертити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р.55 - докумен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2" name="Рисунок 3" descr="Нефертити_5.jpg"/>
          <p:cNvPicPr/>
          <p:nvPr/>
        </p:nvPicPr>
        <p:blipFill>
          <a:blip r:embed="rId1"/>
          <a:stretch/>
        </p:blipFill>
        <p:spPr>
          <a:xfrm>
            <a:off x="5357880" y="1371600"/>
            <a:ext cx="3560760" cy="5299200"/>
          </a:xfrm>
          <a:prstGeom prst="rect">
            <a:avLst/>
          </a:prstGeom>
          <a:ln w="0">
            <a:noFill/>
          </a:ln>
        </p:spPr>
      </p:pic>
      <p:pic>
        <p:nvPicPr>
          <p:cNvPr id="653" name="Рисунок 4" descr="Нефертити_4.jpg"/>
          <p:cNvPicPr/>
          <p:nvPr/>
        </p:nvPicPr>
        <p:blipFill>
          <a:blip r:embed="rId2"/>
          <a:stretch/>
        </p:blipFill>
        <p:spPr>
          <a:xfrm>
            <a:off x="214200" y="1438200"/>
            <a:ext cx="4143600" cy="5199120"/>
          </a:xfrm>
          <a:prstGeom prst="rect">
            <a:avLst/>
          </a:prstGeom>
          <a:ln w="0">
            <a:noFill/>
          </a:ln>
        </p:spPr>
      </p:pic>
      <p:pic>
        <p:nvPicPr>
          <p:cNvPr id="654" name="Рисунок 5" descr="Нефертити.jpg"/>
          <p:cNvPicPr/>
          <p:nvPr/>
        </p:nvPicPr>
        <p:blipFill>
          <a:blip r:embed="rId3"/>
          <a:stretch/>
        </p:blipFill>
        <p:spPr>
          <a:xfrm>
            <a:off x="4929120" y="1285920"/>
            <a:ext cx="3992760" cy="5322960"/>
          </a:xfrm>
          <a:prstGeom prst="rect">
            <a:avLst/>
          </a:prstGeom>
          <a:ln w="0">
            <a:noFill/>
          </a:ln>
        </p:spPr>
      </p:pic>
      <p:pic>
        <p:nvPicPr>
          <p:cNvPr id="655" name="Рисунок 6" descr="Нефертити_3.jpg"/>
          <p:cNvPicPr/>
          <p:nvPr/>
        </p:nvPicPr>
        <p:blipFill>
          <a:blip r:embed="rId4"/>
          <a:stretch/>
        </p:blipFill>
        <p:spPr>
          <a:xfrm>
            <a:off x="357120" y="1357200"/>
            <a:ext cx="3714840" cy="5168880"/>
          </a:xfrm>
          <a:prstGeom prst="rect">
            <a:avLst/>
          </a:prstGeom>
          <a:ln w="0">
            <a:noFill/>
          </a:ln>
        </p:spPr>
      </p:pic>
      <p:pic>
        <p:nvPicPr>
          <p:cNvPr id="656" name="Рисунок 7" descr="Нефертити_2.jpg"/>
          <p:cNvPicPr/>
          <p:nvPr/>
        </p:nvPicPr>
        <p:blipFill>
          <a:blip r:embed="rId5"/>
          <a:stretch/>
        </p:blipFill>
        <p:spPr>
          <a:xfrm>
            <a:off x="2262240" y="1441440"/>
            <a:ext cx="37386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b2627"/>
                </a:solidFill>
                <a:latin typeface="Georgia"/>
              </a:rPr>
              <a:t>Самостоятельное чтение стр. 56-57 «Пойдемте в музей!»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ие правила должны были соблюдать египетские мастера, изображавшие богов, фараонов, вельмож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Решаем тесты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60" name="Содержимое 3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1" name="Прямоугольник 4" descr=""/>
          <p:cNvPicPr/>
          <p:nvPr/>
        </p:nvPicPr>
        <p:blipFill>
          <a:blip r:embed="rId2"/>
          <a:stretch/>
        </p:blipFill>
        <p:spPr>
          <a:xfrm>
            <a:off x="566640" y="682560"/>
            <a:ext cx="829620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1. Что называется религией?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) вера в сверхъестественные существа, духов, богов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) сила, с помощью которой одни эксплуатировали других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) вера в силы природ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b2627"/>
                </a:solidFill>
                <a:latin typeface="Georgia"/>
              </a:rPr>
              <a:t>2. Бог солнца, самый могущественный из богов Древнего Египта?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) Осирис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) Амон-Р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) Се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428760"/>
            <a:ext cx="8534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b2627"/>
                </a:solidFill>
                <a:latin typeface="Georgia"/>
              </a:rPr>
              <a:t>3. Мифический царь Египта, научивший египтян выращивать зерно и виноград, печь хлеб?</a:t>
            </a:r>
            <a:endParaRPr b="0" lang="en-US" sz="28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) Осирис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) Амон-Р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) Тутанхамо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b2627"/>
                </a:solidFill>
                <a:latin typeface="Georgia"/>
              </a:rPr>
              <a:t>4. С каким явлением природы древние египтяне сравнивали смерть Осириса?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) с засухой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) с разливом Нил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) с землетрясение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b2627"/>
                </a:solidFill>
                <a:latin typeface="Georgia"/>
              </a:rPr>
              <a:t>5. «Жилище богов» в Древнем Египте: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) саркофаг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) пирамид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) хра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b2627"/>
                </a:solidFill>
                <a:latin typeface="Georgia"/>
              </a:rPr>
              <a:t>6. Самый главный, могущественный бог Древнего Египта?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) бог Земли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) бог «царства мертвых»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) бог солнц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b2627"/>
                </a:solidFill>
                <a:latin typeface="Georgia"/>
              </a:rPr>
              <a:t>7. Служители богов в Древнем Египте: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) фараоны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) жрецы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) вельмож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7:22:19Z</dcterms:created>
  <dc:creator>Татьяна</dc:creator>
  <dc:description/>
  <dc:language>en-US</dc:language>
  <cp:lastModifiedBy>Татьяна</cp:lastModifiedBy>
  <dcterms:modified xsi:type="dcterms:W3CDTF">2009-10-26T18:29:28Z</dcterms:modified>
  <cp:revision>7</cp:revision>
  <dc:subject/>
  <dc:title>Культура Древнего Египта</dc:title>
</cp:coreProperties>
</file>