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852-9A8A-43C6-B688-5EA561BD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1D4-D5BE-4766-ADC3-AC1D67D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6FA-8DDC-42E2-AD55-AEA9AC70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327-0822-41A4-88E4-FF9045F3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4CFA-E467-49B2-9C36-E9CCFB54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DD5-F8FD-4963-81ED-5B592E2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F8E9-1357-4968-BD4A-2FED28F8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C86B-4132-45E5-A439-E1D6DD0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77CA-29A3-4924-BF6D-85585668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73BD-74D4-4BED-92F0-FA03912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9351-A17D-4AC5-9198-22EF5236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E5A-891A-4BD7-B752-020F620A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84C4-83B5-4094-8FE7-B29A468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60B-AEA0-4B66-B2CF-2A15C14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0E55-5815-410E-B3E8-06BAE78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0C8C-E429-403C-87F9-4BCB2CFD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50F-921E-4C9E-9582-511A6477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DA8-A264-4353-AC1D-D8F018C5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549-F5CE-4D7A-82BA-4547E0E9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AE9-9D86-494D-9512-99974E9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D84-B8BA-4577-9504-C35B66B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31A-EFD9-43F9-B7AA-24487CD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601-45B5-4C8D-8CA1-E7C50F1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EE9-C10E-44D6-B697-29D3BB2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CF3-4FB0-4B38-A733-08F0AEC4565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70E7-13A0-455E-88E5-0058E2E272C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476280"/>
            <a:ext cx="493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London </a:t>
            </a: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Lif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8840" cy="1478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4322880" cy="575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084720" y="4292640"/>
            <a:ext cx="18320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British breakfa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In London Life today, we sit down to a traditional British breakfast in a smart London restaurant and a ‘greasy-spoon café’! A ‘greasy-spoon café’, or ‘caff’, is the opposite of a smart restaurant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‘greasy-spoon café’? ________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 The usual British breakfast is “____, _____ and chip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The key ingredients of a great breakfast in a downmarket London café are: the ________, they won’t hurry you out, the ______, the sounds, for example, the badly-tuned radio, the unusual or‘eccentric’ art on the wall, the ______, for example, tomato ______, and the fact that you can listen to other people’s __________!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4724280"/>
            <a:ext cx="490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56167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Afternoon tea at the Rit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051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It opened in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1906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200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180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“stewed tea” 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 cold te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sweet te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very hot (boiled) and strong t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“ritzy” it is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. disgusting and awfu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expensive and fashionab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very old and unusu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5543640" cy="2519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axi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ll in the gap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The black taxi also known as a black ______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.The word 'cab' is a shortened form of the French word Cab_____t. Originally they were horse-drawn vehicles and the 'driver' was known as a 'cabbie'. This term is still used today for a taxi driver, a cabbi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Cabbies and their cabs have a licence. The driver in London has a very difficult _____ called 'The Knowledge'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 Drivers have to memorise routes and places around the city. This is an area which has about _______ streets!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. It usually takes nearly ______years for drivers to learn the streets and pass the tes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he Tu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8284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642920" y="1197000"/>
            <a:ext cx="403884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le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London is served b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Tube lines and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st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ut ___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mill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tube journeys are made on the tube every da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5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b.1.5    c. 2.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shortest escalator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on the tube system, with onl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steps, is at Chancery Lan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1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. 50  c. 1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Harry Potter and the Philosopher’s Stone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the Headmaster at Hogwarts has a scar shaped just lik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___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on his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kne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2320" indent="-29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2480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Harr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413000"/>
            <a:ext cx="8147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It is one of the most famous and biggest ___________in London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 shop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. cinem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.hot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3357720"/>
            <a:ext cx="6842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What is it famous fo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The owner of Harrods, Mohamed Al Fayed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s it the ____ of s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ine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circ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theat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35:34Z</dcterms:created>
  <dc:creator>елена</dc:creator>
  <dc:description/>
  <dc:language>en-US</dc:language>
  <cp:lastModifiedBy>елена</cp:lastModifiedBy>
  <dcterms:modified xsi:type="dcterms:W3CDTF">2012-11-18T19:41:26Z</dcterms:modified>
  <cp:revision>8</cp:revision>
  <dc:subject/>
  <dc:title>Слайд 1</dc:title>
</cp:coreProperties>
</file>