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0166-9633-4DC1-9148-358F9FB9F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8194-27BC-4B49-97B8-A7183570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DFAF-CB50-43D3-B94D-D49FC700C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6482-5AD9-479E-B11C-124B21E48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1D06-56D9-4E11-9528-412D098CB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9370-CA2F-4683-8B89-901EA89A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3F0D-6ABE-4D1D-AE79-102FE37F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E0CC-B42E-406A-A70B-7C6BE41C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B4E6-766A-4E2B-8466-A41E2FA8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DA97-81B9-4BB7-B463-4555E86E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08D9-D5E4-4909-A41A-F41A67BA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74EF-0DD1-4554-BDBF-D36B4140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6382-878B-4721-81FF-31D409B5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CC28-0A1F-4757-9C64-BFDC401B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2C45-39C4-4145-979B-94EE3342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A0A2-4115-4E9D-B55C-CCE52A67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491B-A7A5-43B6-AD3D-4357D1077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AD76-8D2A-4A7E-B1C9-52633B39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840A-0F67-4AEB-8605-D9CC5959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C978-0E71-441D-93F7-DD5A588F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AAAA-CCC1-4F27-B590-2E6FEF9E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A9AA-C20A-44C2-BC9B-FF61C5E8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43E4-48B7-4C06-9A88-257BB600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53F6-8F7A-490B-9C3F-9F3204D0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3B44-D488-4159-8F7E-38718A181FE6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7F5E-EB48-4B68-913F-55C48FD6404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11280" y="476280"/>
            <a:ext cx="4932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London </a:t>
            </a:r>
            <a:br>
              <a:rPr sz="6000"/>
            </a:b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Life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716360" y="2349360"/>
            <a:ext cx="4038840" cy="1478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395280" y="549360"/>
            <a:ext cx="4322880" cy="5759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6084720" y="4292640"/>
            <a:ext cx="183204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British breakfas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7040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) In London Life today, we sit down to a traditional British breakfast in a smart London restaurant and a ‘greasy-spoon café’! A ‘greasy-spoon café’, or ‘caff’, is the opposite of a smart restaurant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is ‘greasy-spoon café’? ___________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) The usual British breakfast is “____, _____ and chip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3) The key ingredients of a great breakfast in a downmarket London café are: the ________, they won’t hurry you out, the ______, the sounds, for example, the badly-tuned radio, the unusual or‘eccentric’ art on the wall, the ______, for example, tomato ______, and the fact that you can listen to other people’s __________!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411280" y="4724280"/>
            <a:ext cx="49039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348000" y="1268280"/>
            <a:ext cx="5616720" cy="244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ecff"/>
                </a:solidFill>
                <a:latin typeface="Arial"/>
              </a:rPr>
              <a:t>Afternoon tea at the Ritz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0515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) It opened in 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.1906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. 2006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.1806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) “stewed tea” i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. cold tea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. sweet tea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. very hot (boiled) and strong te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3) “ritzy” it is 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. disgusting and awful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. expensive and fashionabl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. very old and unusu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348000" y="1484280"/>
            <a:ext cx="5543640" cy="25192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ecff"/>
                </a:solidFill>
                <a:latin typeface="Arial"/>
              </a:rPr>
              <a:t>Taxi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ll in the gaps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. The black taxi also known as a black ______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2.The word 'cab' is a shortened form of the French word Cab_____t. Originally they were horse-drawn vehicles and the 'driver' was known as a 'cabbie'. This term is still used today for a taxi driver, a cabbie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3. Cabbies and their cabs have a licence. The driver in London has a very difficult _____ called 'The Knowledge'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4. Drivers have to memorise routes and places around the city. This is an area which has about _______ streets!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5. It usually takes nearly ______years for drivers to learn the streets and pass the test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ecff"/>
                </a:solidFill>
                <a:latin typeface="Arial"/>
              </a:rPr>
              <a:t>The Tub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4182840" cy="1655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4642920" y="1197000"/>
            <a:ext cx="403884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92320" indent="-292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plet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2320" indent="-292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.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London is served by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___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Tube lines and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___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stations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2320" indent="-292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out ___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million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tube journeys are made on the tube every day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2320" indent="-292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. 5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b.1.5    c. 2.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2320" indent="-292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.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shortest escalator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on the tube system, with only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____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steps, is at Chancery Lane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2320" indent="-292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.10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b. 50  c. 10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2320" indent="-292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4.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In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Harry Potter and the Philosopher’s Stone,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the Headmaster at Hogwarts has a scar shaped just like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_______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on his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kne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2320" indent="-292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2320" indent="-292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95280" y="4437000"/>
            <a:ext cx="424800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Harro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1413000"/>
            <a:ext cx="81471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. It is one of the most famous and biggest ___________in London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. shop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. cinema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.hote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258920" y="3357720"/>
            <a:ext cx="68421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What is it famous for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 The owner of Harrods, Mohamed Al Fayed,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lls it the ____ of sal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. cinem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. circu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. theat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18:35:34Z</dcterms:created>
  <dc:creator>елена</dc:creator>
  <dc:description/>
  <dc:language>en-US</dc:language>
  <cp:lastModifiedBy>елена</cp:lastModifiedBy>
  <dcterms:modified xsi:type="dcterms:W3CDTF">2012-11-18T19:41:26Z</dcterms:modified>
  <cp:revision>8</cp:revision>
  <dc:subject/>
  <dc:title>Слайд 1</dc:title>
</cp:coreProperties>
</file>