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C24-5573-4283-9DF4-C53FC8B0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8E1-A16B-42B4-82CC-6638E30C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203-6DAD-43E2-BED6-3A90AF39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FBE-65A7-4120-B685-40F75A4B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F1D8-9743-443D-8B2F-2FF72679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C0A2-E403-4565-9CCE-1367E654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B9F4-22D0-4851-8C46-0C1B98D3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529A-A039-48C8-B307-CBFBC43C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AF04-2690-4FAE-BF64-23E4B756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767-E65F-440E-AADA-B4E4C745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BE77-2B2E-42EB-BA49-B3ED0377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DD1-C869-42FA-BB64-7CF6AD71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DADD-5644-40A7-B0D2-30EC411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9415-6971-406A-9699-075ACF62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9232-510E-4F85-9D19-651098A7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3163-487C-40EA-94F9-46204EA9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1055-7173-41F3-B857-533009B9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546-C374-4AEA-947E-A6DD93A1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C67-BF3C-498E-9380-74C5B0CA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125-863C-4174-932A-9930512C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FA2-2A0D-4BD9-943F-1A5DE253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55F-DF46-461F-AFB5-43721417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43C-19A5-4488-88A0-9C35AD2A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98C-CDFF-4254-AA5C-C6F65D8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898C-2B26-4CDE-BB57-2EAC7C90A3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2983-DE3E-4EFC-8786-33F400A527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5B56-EA02-431D-8BC3-AEF8CE874B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ЛУДОМАНИЯ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cccc"/>
                </a:solidFill>
                <a:latin typeface="Verdana"/>
              </a:rPr>
              <a:t>или зависимость от азартных иг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514600" cy="21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1FC3-8D52-46CE-9067-CAB2A5DF85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татистика 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99776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талия – 23% населения регулярно тратят деньги на денежные игр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ермания - 0,12% населения страдают тягой к азартным игра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ния – 30% страдают «лудоманией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ША – самая играющая страна мира. Около 20 млн американцев постоянно играют в азартные игр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оссия – 60-70% уличные автоматы. Но сейчас все чаще используются игровые автоматы для казин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772400" y="525780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7848720" y="1600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8BB2-E738-4542-9EE8-877407BD0C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01320"/>
            <a:ext cx="754056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Лудомани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это расстройство, заключающееся в частых повторных эпизодах участия в азартных играх, доминирующих в жизни субъекта и оказывающих разрушающее воздействие на все сферы жизни и личности человека, его физическое, психическое, эмоциональное и социальное здоровье, ведущих к снижению социальных, профессиональных, материальных и семейных цен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18FE-8546-4781-8588-7F9FDE70AD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457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Лудом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грессирует, если не приостановить болезнь в развитии, то симптоматика с течением времени усугубляе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42670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, болеющий лудоманией, имеет тенденцию к срывам (возвратам), и в это время зависимость проявляется в острой фор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online-gambling-14"/>
          <p:cNvPicPr/>
          <p:nvPr/>
        </p:nvPicPr>
        <p:blipFill>
          <a:blip r:embed="rId1"/>
          <a:stretch/>
        </p:blipFill>
        <p:spPr>
          <a:xfrm>
            <a:off x="3276720" y="2133720"/>
            <a:ext cx="300816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2509-A02B-4E13-BCF1-5FA7E7C636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01320"/>
            <a:ext cx="8150040" cy="16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офессор Иллинойского университета Генри Лесьер опрашивал членов общества анонимных игроков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з них были разведены…………26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теряли/бросили работу……..34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уплаты долгов воровали на работе………………………………………44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явили о банкротстве…………..21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двергали аресту………………….1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умали о самоубийстве………….66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ытались покончить с собой…16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04E9-770A-435A-96BA-B430AEE693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66"/>
                </a:solidFill>
                <a:latin typeface="Arial"/>
              </a:rPr>
              <a:t>Как и любая другая болезнь, лудомания имеет свои симптомы: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теря контроля и неспособность прогнозировать последствия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cc"/>
                </a:solidFill>
                <a:latin typeface="Verdana"/>
              </a:rPr>
              <a:t>Нарушение внимания, сна, координации движения, провалы в памя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изические страд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cc"/>
                </a:solidFill>
                <a:latin typeface="Verdana"/>
              </a:rPr>
              <a:t>Сосредоточенность мыслей и поступков вокруг иг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гра как средство для улучшения состоя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cc"/>
                </a:solidFill>
                <a:latin typeface="Verdana"/>
              </a:rPr>
              <a:t>Проблемы в окружении (семье, работе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Чувство вины, угрызения совес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cc"/>
                </a:solidFill>
                <a:latin typeface="Verdana"/>
              </a:rPr>
              <a:t>Жалость к себе, «эмоциональные качели» - депрессии, резко сменяющиеся эйфори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85EB-961B-4443-8CD5-736AF5D691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657240" y="533160"/>
            <a:ext cx="5025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ожество положительных эмоций, к которым мы привычны, берут свое начало из специального вещества, вырабатываемого человеческим организмом, - гормона удовольствия эндорфина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ко у определенного % людей уровень содержания эндорфина в организме значительно меньше нормы. Именно нехватка эндорфина часто становится причиной одиночества и хронической тос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poker"/>
          <p:cNvPicPr/>
          <p:nvPr/>
        </p:nvPicPr>
        <p:blipFill>
          <a:blip r:embed="rId1"/>
          <a:stretch/>
        </p:blipFill>
        <p:spPr>
          <a:xfrm>
            <a:off x="228600" y="1600200"/>
            <a:ext cx="44956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2464-68DB-4DF2-AFEC-39EA25D26C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1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еные провели интересный эксперимент. К центру удовольствия головного мозга обычной мышки подключили с помощью проводов маленькую педаль. Нажимая на нее лапкой, грызун испытывал прилив радости. В результате мышь умерла от голода, поскольку не могла оторваться от педал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4876920"/>
            <a:ext cx="196848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7772400" y="4495680"/>
            <a:ext cx="10476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1216-C489-43DF-B33A-1C76A3A21A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609480"/>
            <a:ext cx="7313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мерно то же происходит  с высокоорганизованными существами – с людьми. Организм человека, получая эндорфины извне, начинает «лениться» и практически перестает самостоятельно вырабатывать «гормон радости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7DA2-3937-48FE-BA42-8D80551D04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гры, в которые играют люд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7845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рточные игры, шулерство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Лохотрон, игра в наперстк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пподром, ставки на результат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улетка и другие азартные игры в казино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гра на аппаратах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гра на различных тотализаторах, букмекерство, игра на бирже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пьютерные, электронные, видеоигр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висимость от электронных игрушек и устройств – тамагоч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905440" y="609480"/>
            <a:ext cx="3238560" cy="2233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7772400" y="4419720"/>
            <a:ext cx="1371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DF42-CB25-4FBB-8FCA-FC63A57483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сихиатры отмечают 3 основные стадии развития игровой аддиктивност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3024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1ая – стадия выигрыша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Это вовлечение в процесс азартных игр, когда посещение залов игровых автоматов приобретает более или менее регулярный характер. Лудоман вполне способен контролировать себя, может прекратит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грать усилием вол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28600" y="4324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39F2-2C9B-4A86-B01A-03255049D0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44792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Более двух тысяч лет назад, древнегреческий философ Демокрит говорил –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"Тот, кто никак не может противостоять соблазнам денег, никогда не будет </a:t>
            </a: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счастлив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".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FE53-0979-4C8E-9443-0A2D280E9B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69800" y="457200"/>
            <a:ext cx="7313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2ая стадия – стадия проигрыш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арактерна замета мотивации – для игрока сам процесс игры становится важнее результатов. Прекратить сеанс игры становится уже проблематичным – процесс игры способны остановить либо форс-мажорные обстоятельства извне, либо полное отсутствие денег и возможности их немедленно доста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5093-FF59-463B-98D2-831A3819DE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69800" y="304560"/>
            <a:ext cx="731340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3ая стадия – отчаяни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игрока уже полностью сформирован букет социальных и психических отклонений. У лудомана уже практически потеряна способность к нормальной социализации: семья находится на грани развала, а сам игрок-сотрудник – на грани увольнения с работы или отчисления из вуза. Желание взять реванш в игре становится единственной целью в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C306-9FB9-44FF-B960-57EF18EE7A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2820960" cy="10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Тест № 1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пускаете ли вы работу/учебу, чтобы поиграть в азартные игры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носили ли азартные игры вам когда-нибудь несчасть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зартная игра когда-либо вредила вашей репутаци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 когда-либо чувствовали раскаяние после игры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грали ли вы для того, чтобы расплатиться с долгам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167600" y="0"/>
            <a:ext cx="1976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11D0-5EF7-43C2-A899-0A4E396C01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380520"/>
            <a:ext cx="7921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6. Азартная игра уменьшала ваши амбиции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7. Чувствовали ли вы после проигрыша, что надо возвратиться как можно быстрее и отыграться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8. После выигрыша имели ли вы твердое убеждение, что надо возвратиться и выиграть больше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9. Часто ли вы играете, пока не проиграете все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0. Вы когда-либо брали в долг, что бы играть в азартные игры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1. Приходилось ли вам продавать что-либо, чтобы играть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2.Существует ли для вас понятие «деньги для игры», которые вы используете только для азартных игр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3. Азартная игра причинила ощутимый финансовый вред вам или вашему семейству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607B-400F-47CC-8F83-1C434F6CE5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074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4. Играли ли вы когда-нибудь дольше, чем планировал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5. Играли ли вы когда-либо, чтобы забыть о неприятностях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6. Вы когда-нибудь нарушали закон, чтобы иметь деньги на игру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7. Мучались ли вы бессонницей из-за мыслей об азартных играх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8. Проблемы, разочарования или расстройства создают у вас желание уйти от всего этого играть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9. Имеете ли вы привычку праздновать ваши победы в азартных играх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0. Думали ли вы когда-нибудь о самоубийстве после проигрыша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8288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B044-E4F6-4282-8C79-DDFACD69F9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31376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Verdana"/>
              </a:rPr>
              <a:t>Положительный ответ, хотя бы на семь вопросов из двадцати – явный признак наличия заболевания лудоманией и говорит о необходимости обратиться к специалисту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3AAB-7736-42FC-A058-2A37B65D47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ять условных категорий лудоманов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  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* Люди подверженные многочисленным пристрастиям: параллельно с лудоманией эти люди страдают от каких-либо пристрастий (алкоголизм, наркомания и т. д.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* Люди, лечившиеся от психических расстройств: все они проходили психиатрическое лечение в клинических или амбулаторных условиях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* Люди, которые играют, чтобы притупить чувство одиночества или неудовлетворённости: для таких игроков, азартные игры служили отдушиной и суррогатом отсутствующей компании или интересного дела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35E7-4DDA-4A47-AE99-9E8852353B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фессиональные игроки: люди из этой группы играли профессионально, но время от времени игра приобретала форму пристраст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ругие: во всех других отношениях они отличались от всех выше описанных групп своей предысторией и мотивацией к игр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перечень характеристик игрока, который может быть отнесен к категории "проблемных". К таким характеристикам относятся :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желание и неспособность принять реаль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ра в то, что игрок придумал уникальный метод игры, которая позволит сорвать куш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ого времени уделяется мечтаниям о том, как будет израсходован скорый крупный выигрыш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щущение эмоциональной незащищенности в перерывах между игра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антильность и желание избегать ответствен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лание казаться значительной величиной в глазах других люд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E8BF-5D55-4B4D-AC21-2A94AC5BAB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870C-EF31-4CB0-AA3D-DFB145A254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сновные этапы лечения лудоман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921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cc"/>
                </a:solidFill>
                <a:latin typeface="Verdana"/>
              </a:rPr>
              <a:t>Физиологическое лече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мимо психологической зависимости, лудомания вызывает и зависимость физиологическую. Во время игры «гормон радости» эндорфин в больших количествах поступает в организм и приносит непомерное удовольствие. Человек чувствует себя комфортно, и со временем уже не может обойтись без этого наркотика. Поэтому врачи рекомендуют в трудных случаях прибегать к медикаментозному и психоневрологическому лечению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5467-B3B7-4A0E-86CD-7AF36E1183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389720" cy="541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 России медицинское изучение игромании началось совсем недавно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 1996 году в Санкт-Петербургский научно-исследовательский психоневрологический институт им. В.М. Бехтерева обратился мужчина с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жалобами на неспособность контролировать свое увлечение азартными играми.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С тех пор масштабы проблемы, по словам специалистов, значительно увеличились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7019-A063-4297-B9F8-7D0765A766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371600" y="533160"/>
            <a:ext cx="731376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Психологическое лечени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то бы чувствовать себя счастливым, бывшему игроку непременно нужно переключиться на что-либо другое. Комфортно чувствовать себя в жизни ему поможет новое увлечение – спорт, танцы, учеба, интересная работа. Зачастую лучшим психологическим лекарством является одиночная, семейная или групповая терапия в сообществе типа «Анонимных алкоголиков»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6605-E976-4049-9227-DC3E9D3C4C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313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Духовная терап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висимость меняет систему ценностей человека, провоцируя его на поиски морального, духовного удовлетворения в игре, а не в конструктивных вещах. Поэтому очень важно не упускать этот аспект в комплексном лечении зависим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A42D-6B96-4422-BE77-3099BCDC9E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47560" y="914400"/>
            <a:ext cx="7313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Социальные мер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Бывшего игрока необходимо адаптировать для жизни в обществе, вернуть его в ту «точку», с которой он ушел от реальности, помочь ему найти себя. Часто неоценимую поддержку больные получают в группах взаимопомощи, где можно почерпнуть для себя многое из чужого опята и самому рассказать о наболевш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3430-4531-423B-AF3A-B6FA02FE52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09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Законодательные 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иценз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озрастные огранич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кламные огранич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логовые отчис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 в тоже время гарантируют безусловное соблюдение гражданских прав и свобод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01D6-033C-4128-96DB-8D9E0FFFDB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граничения игорного завед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827360"/>
            <a:ext cx="815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ограничения по допуску ("фэйсконтроль") - на возраст, психическое состояние, адекватнос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а состоятельности и кредитной истории клиент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"Черные списки" шулеров, "проблемных" игрок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новки в иг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граничения по суммам и времени иг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лечение на другие объект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09C2-6FF2-4D66-BD33-7233479171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985680"/>
            <a:ext cx="723924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римеры из жизн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льга, кассир зала игровых автоматов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Люди приходят разные: и рабочие, и бизнесмены, и бабушки. На моей памяти один человек проиграл сто тысяч. Иногда я спрашиваю у приходящих сюда людей, почему они приходят снова и снова. Они отвечают: чтобы вернуть проигранное, отыграться. В итоге они проигрывали еще бо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C800-8E3F-4D32-8EA0-3D46F3A989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691400" cy="204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Елена, посетитель зала игровых автоматов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 мой знакомый говорил, что даже музыка игровых автоматов притягивает его. Наверное, жертвы азарта так сильно втягиваются в игру, что перестают отдавать себе отчет в происходящем, ничего не соображают, подобно одурманенным наркотиками. Окружающий мир таким людям неинтересен, главное для них — это игра. В азарте человек забывает обо всем. Ни в одном из игровых залов вы не увидите часов. Шторы, как правило, наглухо закрыты. Клиент не должен замечать, как бежит время.</a:t>
            </a:r>
            <a:br>
              <a:rPr sz="2400"/>
            </a:br>
            <a:br>
              <a:rPr sz="21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AC79-45B5-44BE-90AB-DCA52DAB67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тобы увлечение не переросло в манию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313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 Решите заранее, сколько времени и денег вы выделяете на азартную игр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Играйте, осознавая, что вы, скорее проиграете, чем выиграете, поэтому играйте на такую сумму, которую вы можете себе позволит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Принимайте обдуманное решение по поводу вашей игры – учитывайте случай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Расценивайте азартную игру как развлечение, а не как источник доход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. Если хороший выигрыш – радуйтесь! Но напомните себе, что, вероятно, это больше никогда не повторитьс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C295-266A-4333-BBA9-FCEB4032F0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369800" y="380880"/>
            <a:ext cx="731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 Регулярно записывайте, сколько времени и денег вы потратили на азартную игр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8. Серьезно воспринимайте вашу семью и друзей. Если они обеспокоены вашей игрой, они, возможно, видят что-то, чего вы не замечае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9. Играйте только на собственные деньги. Не одалживае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0. Осознавайте, что в большинстве видов азартных игр вы не имеете влияние на ход игры, - результат случаен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6F4C-916C-4697-8502-C3BAC2B37F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616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1. Во время игры прерывайтесь: пройдитесь, поешьте, выйдите на улицу, чтобы голова прояснилас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2. Сохраняйте ясность мышления во время игры – ограничивайте потребление алкогол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3. Балансируйте азартную игру другими видами отдых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4. Идите играть вместе с тем, у кого нет проблем с азартными играм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5. Не усугубляйте –не пытайтесь отыграть проигрыш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00A1-CF7A-4F2D-8B65-AF10D425653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1680"/>
            <a:ext cx="792144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Arial"/>
              </a:rPr>
              <a:t>Казалось бы, что плохого в игре?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игре нет ничего предосудительного, пока вы играете ради удовольствия и общения, а не ради заманчивой перспективы легких денег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гда азарт превращается в манию, а «улыбка фортуны» становится пределом мечтаний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гда игра переста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ть просто игр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52280" y="4062240"/>
            <a:ext cx="38862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A9A5-57BA-4837-9D49-2B7945B092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43000" y="685440"/>
            <a:ext cx="7616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6. Установите себе лимит времени, как долго вы будете игра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7. Принимайте собственные решения по поводу азартных игр – не играйте из-за того, что другие так хотя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8. Не используйте азартную игру как способ избежать негативных чувств или ситуа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9. Поговорите с тем, кому доверяете, если вы озабочены своим пристрастием к азартной иг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8C2B-8C19-4451-B471-47A6DA5447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9621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 данным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ционального научного центра наркологии Минздрава России: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Лудомания лечится труднее, чем алкоголизм и наркомания, а ее социальные последствия могут быть не менее губительными»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6C59-8426-4262-B9B2-58AED35DFC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Arial"/>
              </a:rPr>
              <a:t>Оглянитесь по сторонам.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3024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статочно выйти на улицу, как всюду замерцают огни, засияют краски рекламных щитов и табличек игорных заведений: казино, игровые автоматы, лотере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2105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7970-714C-406D-A2C3-4ECDC14FB7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990720" y="304920"/>
            <a:ext cx="77724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3689-713A-40F1-92D9-5921034128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1680"/>
            <a:ext cx="853416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ткуда появилось слово «зависимый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074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древней Греции жил человек и звали его Зависимус. Он начал играть и увлекся. Проиграл все свои деньги и влез в долги. Поначалу отдавал, но в конце концов стал занимать так много и часто, то вскоре его ждала долговая яма. Жизнь больше не принадлежала ему, из человека он превратился в вещь, лишенную воли – его могли передавать из рук в руки, обменивать на мешок зерн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к родилось слово «зависимость», означающее потерю собственного «я»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6BD6-9702-49D3-87A8-1162402961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123720"/>
            <a:ext cx="731376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Более близкий нам по времени и по менталитету царь Пётр I карты не любил, но относился к ним спокойно и даже разрешил карточные игры на деньги с проигрышем не более 1 рубля медью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BE4B-1BAD-4BF5-8E1E-0DE0221DB8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3352320"/>
            <a:ext cx="731376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 статистике, самыми неудержимыми игроками в мире являются народы Юго-Восточной Аз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России игральные карты появились в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V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век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25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Игры упоминались в народных сказаниях различных культур всего мира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27T10:13:5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