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1EFE-FED5-4999-AC69-F1FEE0BA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EDF2-4272-47F1-AE36-D3A7B5B4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BA7A-1A92-495C-A597-5D196622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FA7B-B36A-463D-A0A9-FBC1DBDD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AA0F-594E-4CF8-8D12-6090267A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69F5-C3EB-4103-975A-04BB0E75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884B-F254-4561-BC57-8929C267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4674-211D-47D3-A4E2-DD3280BA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3186-BE89-42FC-AF46-F8E9603C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CBDB-0EEE-4485-9411-97A65647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B9E0-2265-4141-86EA-84130D26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9FEA-ED25-4BEF-972C-179F1928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3615-3237-4137-92D3-D8D87B79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D430-B5E2-4A4B-9499-820B2FC0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2104-41B0-4065-AA9E-2BA8E267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DB47-131C-48E3-B643-413958A2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B9A0-D181-41DB-8335-8A719FFD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8BEF-CF1E-41C6-AC3B-9019CECA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219F-69CD-4D47-8FDF-90723A8A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0DA2-ECA9-4C3D-812D-350F0979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4BC3-D98D-47C1-A541-29559173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D43C-CAE7-442B-8E6C-F7163306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6DE9-BFEA-4A45-BB48-514F17B2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22D7-1292-4BCD-8EC5-8419F2E4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77CB-909A-4DA4-AE75-54ACCCF8A4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154A-23F5-45AF-B583-DA3B1E1E80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43D0-66FB-42E2-B889-1CB7D0CD29D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Arial"/>
              </a:rPr>
              <a:t>ЛУДОМАНИЯ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cccc"/>
                </a:solidFill>
                <a:latin typeface="Verdana"/>
              </a:rPr>
              <a:t>или зависимость от азартных игр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6400800" y="4419720"/>
            <a:ext cx="2514600" cy="217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30D2-D1E0-41CF-9C11-0F19D7DADA4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Статистика 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997760" cy="48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талия – 23% населения регулярно тратят деньги на денежные игры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ермания - 0,12% населения страдают тягой к азартным игра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ания – 30% страдают «лудоманией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ША – самая играющая страна мира. Около 20 млн американцев постоянно играют в азартные игры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оссия – 60-70% уличные автоматы. Но сейчас все чаще используются игровые автоматы для казин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7772400" y="5257800"/>
            <a:ext cx="1219320" cy="1371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7848720" y="16002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2A7C-94D3-4FDA-B138-C5BAD287445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301320"/>
            <a:ext cx="7540560" cy="91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Лудомания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 это расстройство, заключающееся в частых повторных эпизодах участия в азартных играх, доминирующих в жизни субъекта и оказывающих разрушающее воздействие на все сферы жизни и личности человека, его физическое, психическое, эмоциональное и социальное здоровье, ведущих к снижению социальных, профессиональных, материальных и семейных ценност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2166-4C67-425E-A034-C10C2844B8A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1760" y="45720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Лудома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огрессирует, если не приостановить болезнь в развитии, то симптоматика с течением времени усугубляет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426708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ловек, болеющий лудоманией, имеет тенденцию к срывам (возвратам), и в это время зависимость проявляется в острой форм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6" descr="online-gambling-14"/>
          <p:cNvPicPr/>
          <p:nvPr/>
        </p:nvPicPr>
        <p:blipFill>
          <a:blip r:embed="rId1"/>
          <a:stretch/>
        </p:blipFill>
        <p:spPr>
          <a:xfrm>
            <a:off x="3276720" y="2133720"/>
            <a:ext cx="300816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B9F6-F854-4C64-B548-9BFBA2E52B4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301320"/>
            <a:ext cx="8150040" cy="16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рофессор Иллинойского университета Генри Лесьер опрашивал членов общества анонимных игроков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з них были разведены…………26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теряли/бросили работу……..34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ля уплаты долгов воровали на работе………………………………………44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аявили о банкротстве…………..21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двергали аресту………………….18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умали о самоубийстве………….66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ытались покончить с собой…16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9E57-708B-4F48-8257-BFC529E7421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3013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66"/>
                </a:solidFill>
                <a:latin typeface="Arial"/>
              </a:rPr>
              <a:t>Как и любая другая болезнь, лудомания имеет свои симптомы:</a:t>
            </a:r>
            <a:endParaRPr b="0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1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теря контроля и неспособность прогнозировать последствия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cc"/>
                </a:solidFill>
                <a:latin typeface="Verdana"/>
              </a:rPr>
              <a:t>Нарушение внимания, сна, координации движения, провалы в памят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Физические страда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cc"/>
                </a:solidFill>
                <a:latin typeface="Verdana"/>
              </a:rPr>
              <a:t>Сосредоточенность мыслей и поступков вокруг игр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гра как средство для улучшения состоя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cc"/>
                </a:solidFill>
                <a:latin typeface="Verdana"/>
              </a:rPr>
              <a:t>Проблемы в окружении (семье, работе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Чувство вины, угрызения совест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cc"/>
                </a:solidFill>
                <a:latin typeface="Verdana"/>
              </a:rPr>
              <a:t>Жалость к себе, «эмоциональные качели» - депрессии, резко сменяющиеся эйфорие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7315200" y="54864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065E-CB63-4B47-8771-EB4EA842A35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657240" y="533160"/>
            <a:ext cx="50259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ножество положительных эмоций, к которым мы привычны, берут свое начало из специального вещества, вырабатываемого человеческим организмом, - гормона удовольствия эндорфина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нако у определенного % людей уровень содержания эндорфина в организме значительно меньше нормы. Именно нехватка эндорфина часто становится причиной одиночества и хронической тос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poker"/>
          <p:cNvPicPr/>
          <p:nvPr/>
        </p:nvPicPr>
        <p:blipFill>
          <a:blip r:embed="rId1"/>
          <a:stretch/>
        </p:blipFill>
        <p:spPr>
          <a:xfrm>
            <a:off x="228600" y="1600200"/>
            <a:ext cx="449568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505C-6945-48F1-B18C-5858A6CF85F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151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ченые провели интересный эксперимент. К центру удовольствия головного мозга обычной мышки подключили с помощью проводов маленькую педаль. Нажимая на нее лапкой, грызун испытывал прилив радости. В результате мышь умерла от голода, поскольку не могла оторваться от педали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0" y="4876920"/>
            <a:ext cx="1968480" cy="1981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7772400" y="4495680"/>
            <a:ext cx="10476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4DBC-16D3-4521-92C3-076968ABCE4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371600" y="609480"/>
            <a:ext cx="73137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имерно то же происходит  с высокоорганизованными существами – с людьми. Организм человека, получая эндорфины извне, начинает «лениться» и практически перестает самостоятельно вырабатывать «гормон радости»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152280" y="41148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8812-9A07-4DA0-8D5A-80653B349EC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313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гры, в которые играют люди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78454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арточные игры, шулерство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Лохотрон, игра в наперстки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пподром, ставки на результаты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улетка и другие азартные игры в казино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гра на аппаратах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гра на различных тотализаторах, букмекерство, игра на бирже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омпьютерные, электронные, видеоигры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Зависимость от электронных игрушек и устройств – тамагоч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5905440" y="609480"/>
            <a:ext cx="3238560" cy="2233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7772400" y="4419720"/>
            <a:ext cx="1371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8CEA-437C-48A0-8296-AC916E18894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301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сихиатры отмечают 3 основные стадии развития игровой аддиктивности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30240" y="16002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33cc"/>
                </a:solidFill>
                <a:latin typeface="Verdana"/>
              </a:rPr>
              <a:t>1ая – стадия выигрыша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Это вовлечение в процесс азартных игр, когда посещение залов игровых автоматов приобретает более или менее регулярный характер. Лудоман вполне способен контролировать себя, может прекратить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грать усилием вол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228600" y="4324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E6AF-2393-49EE-A335-B9906D309C5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447920"/>
            <a:ext cx="7313760" cy="45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Более двух тысяч лет назад, древнегреческий философ Демокрит говорил –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"Тот, кто никак не может противостоять соблазнам денег, никогда не будет </a:t>
            </a:r>
            <a:r>
              <a:rPr b="0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счастлив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".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C8A3-CD28-405D-B2C1-379C5956B1A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369800" y="457200"/>
            <a:ext cx="73134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33cc"/>
                </a:solidFill>
                <a:latin typeface="Verdana"/>
              </a:rPr>
              <a:t>2ая стадия – стадия проигрыш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Характерна замета мотивации – для игрока сам процесс игры становится важнее результатов. Прекратить сеанс игры становится уже проблематичным – процесс игры способны остановить либо форс-мажорные обстоятельства извне, либо полное отсутствие денег и возможности их немедленно достать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04F7-7454-4999-9320-5D660226540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369800" y="304560"/>
            <a:ext cx="7313400" cy="56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33cc"/>
                </a:solidFill>
                <a:latin typeface="Verdana"/>
              </a:rPr>
              <a:t>3ая стадия – отчаяни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 игрока уже полностью сформирован букет социальных и психических отклонений. У лудомана уже практически потеряна способность к нормальной социализации: семья находится на грани развала, а сам игрок-сотрудник – на грани увольнения с работы или отчисления из вуза. Желание взять реванш в игре становится единственной целью в жизн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52280" y="44956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FE9A-D7A8-41A8-A771-75FF45387BA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76720" y="228240"/>
            <a:ext cx="2820960" cy="106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Тест № 1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опускаете ли вы работу/учебу, чтобы поиграть в азартные игры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иносили ли азартные игры вам когда-нибудь несчастье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зартная игра когда-либо вредила вашей репутации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 когда-либо чувствовали раскаяние после игры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грали ли вы для того, чтобы расплатиться с долгами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7167600" y="0"/>
            <a:ext cx="19764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45BF-C16F-4A58-8CB5-5F49D96E515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62120" y="380520"/>
            <a:ext cx="7921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6. Азартная игра уменьшала ваши амбиции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7. Чувствовали ли вы после проигрыша, что надо возвратиться как можно быстрее и отыграться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8. После выигрыша имели ли вы твердое убеждение, что надо возвратиться и выиграть больше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9. Часто ли вы играете, пока не проиграете все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10. Вы когда-либо брали в долг, что бы играть в азартные игры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11. Приходилось ли вам продавать что-либо, чтобы играть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12.Существует ли для вас понятие «деньги для игры», которые вы используете только для азартных игр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13. Азартная игра причинила ощутимый финансовый вред вам или вашему семейству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6C72-B6E2-42BC-A06D-16C83174D51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8074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4. Играли ли вы когда-нибудь дольше, чем планировали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5. Играли ли вы когда-либо, чтобы забыть о неприятностях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6. Вы когда-нибудь нарушали закон, чтобы иметь деньги на игру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7. Мучались ли вы бессонницей из-за мыслей об азартных играх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8. Проблемы, разочарования или расстройства создают у вас желание уйти от всего этого играть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9. Имеете ли вы привычку праздновать ваши победы в азартных играх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20. Думали ли вы когда-нибудь о самоубийстве после проигрыша?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6553080" y="4800600"/>
            <a:ext cx="182880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A6FF-36C4-41F6-84EE-BFB3290BD3F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680" y="1752480"/>
            <a:ext cx="731376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Verdana"/>
              </a:rPr>
              <a:t>Положительный ответ, хотя бы на семь вопросов из двадцати – явный признак наличия заболевания лудоманией и говорит о необходимости обратиться к специалисту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B113-C983-42EF-B731-38490A395C0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ять условных категорий лудоманов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   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* Люди подверженные многочисленным пристрастиям: параллельно с лудоманией эти люди страдают от каких-либо пристрастий (алкоголизм, наркомания и т. д.)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* Люди, лечившиеся от психических расстройств: все они проходили психиатрическое лечение в клинических или амбулаторных условиях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* Люди, которые играют, чтобы притупить чувство одиночества или неудовлетворённости: для таких игроков, азартные игры служили отдушиной и суррогатом отсутствующей компании или интересного дела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82AD-7E02-4041-BD89-5EBDE9FA1EE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офессиональные игроки: люди из этой группы играли профессионально, но время от времени игра приобретала форму пристраст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ругие: во всех других отношениях они отличались от всех выше описанных групп своей предысторией и мотивацией к игр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ует перечень характеристик игрока, который может быть отнесен к категории "проблемных". К таким характеристикам относятся :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желание и неспособность принять реальност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ра в то, что игрок придумал уникальный метод игры, которая позволит сорвать куш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ного времени уделяется мечтаниям о том, как будет израсходован скорый крупный выигрыш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щущение эмоциональной незащищенности в перерывах между играм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фантильность и желание избегать ответственност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елание казаться значительной величиной в глазах других люд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6E66-736E-4AE5-99BD-D103343FA99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6BB7-CC9F-4AB1-8197-3A382244037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сновные этапы лечения лудомании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921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33cc"/>
                </a:solidFill>
                <a:latin typeface="Verdana"/>
              </a:rPr>
              <a:t>Физиологическое лечени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мимо психологической зависимости, лудомания вызывает и зависимость физиологическую. Во время игры «гормон радости» эндорфин в больших количествах поступает в организм и приносит непомерное удовольствие. Человек чувствует себя комфортно, и со временем уже не может обойтись без этого наркотика. Поэтому врачи рекомендуют в трудных случаях прибегать к медикаментозному и психоневрологическому лечению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BD2F-F06F-4ECB-B594-12E2AF8DE80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389720" cy="541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В России медицинское изучение игромании началось совсем недавно.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В 1996 году в Санкт-Петербургский научно-исследовательский психоневрологический институт им. В.М. Бехтерева обратился мужчина с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Arial"/>
              </a:rPr>
              <a:t>жалобами на неспособность контролировать свое увлечение азартными играми.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С тех пор масштабы проблемы, по словам специалистов, значительно увеличились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856B-7DC6-409C-A436-34115716E2F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371600" y="533160"/>
            <a:ext cx="731376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ru-RU" sz="2900" spc="-1" strike="noStrike">
                <a:solidFill>
                  <a:srgbClr val="3333cc"/>
                </a:solidFill>
                <a:latin typeface="Verdana"/>
              </a:rPr>
              <a:t>Психологическое лечени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Что бы чувствовать себя счастливым, бывшему игроку непременно нужно переключиться на что-либо другое. Комфортно чувствовать себя в жизни ему поможет новое увлечение – спорт, танцы, учеба, интересная работа. Зачастую лучшим психологическим лекарством является одиночная, семейная или групповая терапия в сообществе типа «Анонимных алкоголиков»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C2CB-AB73-4374-A588-0B0633DC804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371600" y="990720"/>
            <a:ext cx="7313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ru-RU" sz="2900" spc="-1" strike="noStrike">
                <a:solidFill>
                  <a:srgbClr val="3333cc"/>
                </a:solidFill>
                <a:latin typeface="Verdana"/>
              </a:rPr>
              <a:t>Духовная терапи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ависимость меняет систему ценностей человека, провоцируя его на поиски морального, духовного удовлетворения в игре, а не в конструктивных вещах. Поэтому очень важно не упускать этот аспект в комплексном лечении зависимост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9190-4B94-4094-AEA6-4058C6E3845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447560" y="914400"/>
            <a:ext cx="73134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ru-RU" sz="2900" spc="-1" strike="noStrike">
                <a:solidFill>
                  <a:srgbClr val="3333cc"/>
                </a:solidFill>
                <a:latin typeface="Verdana"/>
              </a:rPr>
              <a:t>Социальные меры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Бывшего игрока необходимо адаптировать для жизни в обществе, вернуть его в ту «точку», с которой он ушел от реальности, помочь ему найти себя. Часто неоценимую поддержку больные получают в группах взаимопомощи, где можно почерпнуть для себя многое из чужого опята и самому рассказать о наболевшем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8293-4C7D-446F-B79F-BF7847B5C47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092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Законодательные ме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Лицензирова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озрастные огранич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кламные огранич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логовые отчисл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о в тоже время гарантируют безусловное соблюдение гражданских прав и свобод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E700-819D-46D4-B35C-37DE2E1D767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Ограничения игорного завед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827360"/>
            <a:ext cx="815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 ограничения по допуску ("фэйсконтроль") - на возраст, психическое состояние, адекватность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рка состоятельности и кредитной истории клиенто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"Черные списки" шулеров, "проблемных" игроко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ановки в игр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граничения по суммам и времени игр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лечение на другие объекты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CC88-36E9-4541-BDF2-A07C9ACF103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985680"/>
            <a:ext cx="723924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Примеры из жизни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2514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льга, кассир зала игровых автоматов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Люди приходят разные: и рабочие, и бизнесмены, и бабушки. На моей памяти один человек проиграл сто тысяч. Иногда я спрашиваю у приходящих сюда людей, почему они приходят снова и снова. Они отвечают: чтобы вернуть проигранное, отыграться. В итоге они проигрывали еще больш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6E0A-DEA7-4E54-AD58-0708764C929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691400" cy="204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Елена, посетитель зала игровых автоматов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5440" y="266652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ин мой знакомый говорил, что даже музыка игровых автоматов притягивает его. Наверное, жертвы азарта так сильно втягиваются в игру, что перестают отдавать себе отчет в происходящем, ничего не соображают, подобно одурманенным наркотиками. Окружающий мир таким людям неинтересен, главное для них — это игра. В азарте человек забывает обо всем. Ни в одном из игровых залов вы не увидите часов. Шторы, как правило, наглухо закрыты. Клиент не должен замечать, как бежит время.</a:t>
            </a:r>
            <a:br>
              <a:rPr sz="2400"/>
            </a:br>
            <a:br>
              <a:rPr sz="21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E5E1-714A-40CD-9DA1-D5A6EDEE3EF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Чтобы увлечение не переросло в манию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71600" y="1066320"/>
            <a:ext cx="73137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. Решите заранее, сколько времени и денег вы выделяете на азартную игр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2. Играйте, осознавая, что вы, скорее проиграете, чем выиграете, поэтому играйте на такую сумму, которую вы можете себе позволить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. Принимайте обдуманное решение по поводу вашей игры – учитывайте случайност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4. Расценивайте азартную игру как развлечение, а не как источник доход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5. Если хороший выигрыш – радуйтесь! Но напомните себе, что, вероятно, это больше никогда не повториться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06F1-FA79-4A33-B03C-410FFC20DF9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369800" y="380880"/>
            <a:ext cx="7313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7. Регулярно записывайте, сколько времени и денег вы потратили на азартную игру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8. Серьезно воспринимайте вашу семью и друзей. Если они обеспокоены вашей игрой, они, возможно, видят что-то, чего вы не замечает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9. Играйте только на собственные деньги. Не одалживает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0. Осознавайте, что в большинстве видов азартных игр вы не имеете влияние на ход игры, - результат случаен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AF2E-C544-4EEC-9632-FBBD68E7249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616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1. Во время игры прерывайтесь: пройдитесь, поешьте, выйдите на улицу, чтобы голова прояснилась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2. Сохраняйте ясность мышления во время игры – ограничивайте потребление алкогол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3. Балансируйте азартную игру другими видами отдых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4. Идите играть вместе с тем, у кого нет проблем с азартными играм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5. Не усугубляйте –не пытайтесь отыграть проигрыш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1C54-B8B1-4571-87F0-49E9010F089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301680"/>
            <a:ext cx="792144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66"/>
                </a:solidFill>
                <a:latin typeface="Arial"/>
              </a:rPr>
              <a:t>Казалось бы, что плохого в игре?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45820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игре нет ничего предосудительного, пока вы играете ради удовольствия и общения, а не ради заманчивой перспективы легких денег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гда азарт превращается в манию, а «улыбка фортуны» становится пределом мечтаний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гда игра переста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ть просто игрой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52280" y="4062240"/>
            <a:ext cx="388620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1397-C64F-4014-90AC-4B2C550A9AE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143000" y="685440"/>
            <a:ext cx="7616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6. Установите себе лимит времени, как долго вы будете играть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7. Принимайте собственные решения по поводу азартных игр – не играйте из-за того, что другие так хотят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8. Не используйте азартную игру как способ избежать негативных чувств или ситуаци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9. Поговорите с тем, кому доверяете, если вы озабочены своим пристрастием к азартной игр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2B6E-F68A-45FE-A113-6485B2F6517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360" y="396216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о данным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ционального научного центра наркологии Минздрава России: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Лудомания лечится труднее, чем алкоголизм и наркомания, а ее социальные последствия могут быть не менее губительными»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3053-29DF-43BF-96D3-1E062579028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66"/>
                </a:solidFill>
                <a:latin typeface="Arial"/>
              </a:rPr>
              <a:t>Оглянитесь по сторонам.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3024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остаточно выйти на улицу, как всюду замерцают огни, засияют краски рекламных щитов и табличек игорных заведений: казино, игровые автоматы, лотере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21052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A6B7-55B3-4FD9-9647-6DAE80608ED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Изображение 005"/>
          <p:cNvPicPr/>
          <p:nvPr/>
        </p:nvPicPr>
        <p:blipFill>
          <a:blip r:embed="rId1"/>
          <a:stretch/>
        </p:blipFill>
        <p:spPr>
          <a:xfrm>
            <a:off x="990720" y="304920"/>
            <a:ext cx="77724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A1EF-261C-4B7D-BEA8-8705AF92540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01680"/>
            <a:ext cx="853416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ткуда появилось слово «зависимый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074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 древней Греции жил человек и звали его Зависимус. Он начал играть и увлекся. Проиграл все свои деньги и влез в долги. Поначалу отдавал, но в конце концов стал занимать так много и часто, то вскоре его ждала долговая яма. Жизнь больше не принадлежала ему, из человека он превратился в вещь, лишенную воли – его могли передавать из рук в руки, обменивать на мешок зерн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Так родилось слово «зависимость», означающее потерю собственного «я»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0379-6C0B-4F83-AEE0-ACF543C7A15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3123720"/>
            <a:ext cx="731376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Более близкий нам по времени и по менталитету царь Пётр I карты не любил, но относился к ним спокойно и даже разрешил карточные игры на деньги с проигрышем не более 1 рубля медью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8F11-3A7D-404B-A602-10EFDF196C3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71600" y="3352320"/>
            <a:ext cx="731376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 статистике, самыми неудержимыми игроками в мире являются народы Юго-Восточной Ази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 России игральные карты появились в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XV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век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251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Игры упоминались в народных сказаниях различных культур всего мира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1-27T10:13:56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