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8C285-F9ED-4208-8931-65DA84C76C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BF42D-3285-4AE6-A09F-3C02E9BEF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3FC-C481-4551-8E95-60F3DB3B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6DE-41A7-428C-B62B-58A6A339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B78-9DA1-4001-B35B-931C2BFC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CBF-D25D-4DCD-9896-CF46F9D9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6F0-030E-4C1C-92C3-5AB119C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656-E3ED-49FF-BB2E-0A1409C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D3B-7641-4F6F-A7FA-F444879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D35-8B24-49E1-BEC8-70675C90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0F7-22F7-47B6-95D9-E575799E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D30-DDBA-4D39-B52D-6CAC384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85A-ABA7-44C1-9C29-8A1583E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071-BF85-47AB-B68A-35B39CD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35FE-E8DD-4544-B538-DFD3C2E107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16000" y="743040"/>
            <a:ext cx="599292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50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Garamond"/>
              </a:rPr>
              <a:t>Межличностные</a:t>
            </a:r>
            <a:r>
              <a:rPr b="1" i="1" lang="ru-RU" sz="7200" spc="-1" strike="noStrike">
                <a:solidFill>
                  <a:srgbClr val="800080"/>
                </a:solidFill>
                <a:latin typeface="Garamond"/>
              </a:rPr>
              <a:t> </a:t>
            </a: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103480" y="1793880"/>
            <a:ext cx="5905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600" spc="-1" strike="noStrike">
                <a:solidFill>
                  <a:srgbClr val="800080"/>
                </a:solidFill>
                <a:latin typeface="Garamond"/>
              </a:rPr>
              <a:t>отно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76360" y="466560"/>
            <a:ext cx="252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Обще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09080" y="395280"/>
            <a:ext cx="1296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985080" y="6762600"/>
            <a:ext cx="267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Calibri"/>
              </a:rPr>
              <a:t>Учитель</a:t>
            </a:r>
            <a:r>
              <a:rPr b="0" i="1" lang="en-US" sz="1800" spc="-1" strike="noStrike">
                <a:solidFill>
                  <a:srgbClr val="006666"/>
                </a:solidFill>
                <a:latin typeface="Calibri"/>
              </a:rPr>
              <a:t>: </a:t>
            </a:r>
            <a:r>
              <a:rPr b="0" i="1" lang="ru-RU" sz="1800" spc="-1" strike="noStrike">
                <a:solidFill>
                  <a:srgbClr val="006666"/>
                </a:solidFill>
                <a:latin typeface="Calibri"/>
              </a:rPr>
              <a:t>Егоркина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57240">
            <a:solidFill>
              <a:srgbClr val="9933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Garamond"/>
              </a:rPr>
              <a:t>Домашнее задание</a:t>
            </a:r>
            <a:r>
              <a:rPr b="1" lang="en-US" sz="4800" spc="-1" strike="noStrike">
                <a:solidFill>
                  <a:srgbClr val="006666"/>
                </a:solidFill>
                <a:latin typeface="Garamon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547640"/>
            <a:ext cx="900108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§</a:t>
            </a:r>
            <a:r>
              <a:rPr b="1" lang="ru-RU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11, вопросы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418720"/>
          <p:cNvPicPr/>
          <p:nvPr/>
        </p:nvPicPr>
        <p:blipFill>
          <a:blip r:embed="rId1"/>
          <a:stretch/>
        </p:blipFill>
        <p:spPr>
          <a:xfrm>
            <a:off x="8640720" y="1474920"/>
            <a:ext cx="939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280" y="1547640"/>
            <a:ext cx="906948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Понятие «межличностные отношени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Законы межличностных отнош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-637560">
              <a:lnSpc>
                <a:spcPct val="93000"/>
              </a:lnSpc>
              <a:spcAft>
                <a:spcPts val="1426"/>
              </a:spcAft>
              <a:buClr>
                <a:srgbClr val="0066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240048"/>
                </a:solidFill>
                <a:latin typeface="Garamond"/>
              </a:rPr>
              <a:t>Нравственные нормы межличностных отнош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7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328680" y="115920"/>
            <a:ext cx="93949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477720" y="2079720"/>
            <a:ext cx="907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 u="sng">
                <a:solidFill>
                  <a:srgbClr val="3333cc"/>
                </a:solidFill>
                <a:uFillTx/>
                <a:latin typeface="Candara"/>
              </a:rPr>
              <a:t>Межличностные отношения</a:t>
            </a:r>
            <a:r>
              <a:rPr b="1" lang="ru-RU" sz="5400" spc="-1" strike="noStrike">
                <a:solidFill>
                  <a:srgbClr val="3333cc"/>
                </a:solidFill>
                <a:latin typeface="Candara"/>
              </a:rPr>
              <a:t>-</a:t>
            </a:r>
            <a:r>
              <a:rPr b="0" i="1" lang="ru-RU" sz="5400" spc="-1" strike="noStrike">
                <a:solidFill>
                  <a:srgbClr val="3333cc"/>
                </a:solidFill>
                <a:latin typeface="Calibri"/>
              </a:rPr>
              <a:t>это </a:t>
            </a:r>
            <a:r>
              <a:rPr b="0" i="1" lang="ru-RU" sz="5400" spc="-1" strike="noStrike">
                <a:solidFill>
                  <a:srgbClr val="3333cc"/>
                </a:solidFill>
                <a:latin typeface="Candara"/>
              </a:rPr>
              <a:t>отношения  в малой группе, возникающие в процессе общения</a:t>
            </a:r>
            <a:r>
              <a:rPr b="0" i="1" lang="ru-RU" sz="54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g00029_"/>
          <p:cNvPicPr/>
          <p:nvPr/>
        </p:nvPicPr>
        <p:blipFill>
          <a:blip r:embed="rId1"/>
          <a:stretch/>
        </p:blipFill>
        <p:spPr>
          <a:xfrm>
            <a:off x="576360" y="44928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2"/>
          <a:stretch/>
        </p:blipFill>
        <p:spPr>
          <a:xfrm>
            <a:off x="4071960" y="311040"/>
            <a:ext cx="3876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3640" y="395280"/>
            <a:ext cx="84963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тельно изучите схему и прокомментируйте её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ag00317_"/>
          <p:cNvPicPr/>
          <p:nvPr/>
        </p:nvPicPr>
        <p:blipFill>
          <a:blip r:embed="rId1"/>
          <a:stretch/>
        </p:blipFill>
        <p:spPr>
          <a:xfrm>
            <a:off x="216000" y="179280"/>
            <a:ext cx="1224000" cy="1573200"/>
          </a:xfrm>
          <a:prstGeom prst="rect">
            <a:avLst/>
          </a:prstGeom>
          <a:ln w="0">
            <a:noFill/>
          </a:ln>
        </p:spPr>
      </p:pic>
      <p:cxnSp>
        <p:nvCxnSpPr>
          <p:cNvPr id="60" name="Прямая со стрелкой 6"/>
          <p:cNvCxnSpPr/>
          <p:nvPr/>
        </p:nvCxnSpPr>
        <p:spPr>
          <a:xfrm flipH="1">
            <a:off x="2879280" y="3215880"/>
            <a:ext cx="1729440" cy="7088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1" name="Прямая со стрелкой 11"/>
          <p:cNvCxnSpPr/>
          <p:nvPr/>
        </p:nvCxnSpPr>
        <p:spPr>
          <a:xfrm>
            <a:off x="4752720" y="3215880"/>
            <a:ext cx="1656360" cy="7088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" name="TextBox 4"/>
          <p:cNvSpPr/>
          <p:nvPr/>
        </p:nvSpPr>
        <p:spPr>
          <a:xfrm>
            <a:off x="2303640" y="1979640"/>
            <a:ext cx="5257800" cy="12272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920880" y="4933800"/>
            <a:ext cx="356364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 контактах участвуют чувства, 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327640" y="4933800"/>
            <a:ext cx="3600360" cy="207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Мы ценим друзей за преданность и верность, стремимся быть чес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27640" y="392580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   н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884160" y="392436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7" name="Прямая со стрелкой 3"/>
          <p:cNvCxnSpPr/>
          <p:nvPr/>
        </p:nvCxnSpPr>
        <p:spPr>
          <a:xfrm flipH="1">
            <a:off x="2842920" y="1704960"/>
            <a:ext cx="1729440" cy="7070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8" name="Прямая со стрелкой 4"/>
          <p:cNvCxnSpPr/>
          <p:nvPr/>
        </p:nvCxnSpPr>
        <p:spPr>
          <a:xfrm>
            <a:off x="4714920" y="1704960"/>
            <a:ext cx="1658160" cy="7070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9" name="TextBox 6"/>
          <p:cNvSpPr/>
          <p:nvPr/>
        </p:nvSpPr>
        <p:spPr>
          <a:xfrm>
            <a:off x="5291280" y="241308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   н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847800" y="2411280"/>
            <a:ext cx="3600360" cy="1000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триховая стрелка вправо 17"/>
          <p:cNvSpPr/>
          <p:nvPr/>
        </p:nvSpPr>
        <p:spPr>
          <a:xfrm rot="5400000">
            <a:off x="3559680" y="2372400"/>
            <a:ext cx="2521080" cy="582480"/>
          </a:xfrm>
          <a:custGeom>
            <a:avLst/>
            <a:gdLst/>
            <a:ahLst/>
            <a:rect l="l" t="t" r="r" b="b"/>
            <a:pathLst>
              <a:path w="2520950" h="582612">
                <a:moveTo>
                  <a:pt x="0" y="156533"/>
                </a:moveTo>
                <a:lnTo>
                  <a:pt x="18207" y="156533"/>
                </a:lnTo>
                <a:lnTo>
                  <a:pt x="18207" y="426079"/>
                </a:lnTo>
                <a:lnTo>
                  <a:pt x="0" y="426079"/>
                </a:lnTo>
                <a:lnTo>
                  <a:pt x="0" y="156533"/>
                </a:lnTo>
                <a:close/>
                <a:moveTo>
                  <a:pt x="36413" y="156533"/>
                </a:moveTo>
                <a:lnTo>
                  <a:pt x="72827" y="156533"/>
                </a:lnTo>
                <a:lnTo>
                  <a:pt x="72827" y="426079"/>
                </a:lnTo>
                <a:lnTo>
                  <a:pt x="36413" y="426079"/>
                </a:lnTo>
                <a:lnTo>
                  <a:pt x="36413" y="156533"/>
                </a:lnTo>
                <a:close/>
                <a:moveTo>
                  <a:pt x="91033" y="156533"/>
                </a:moveTo>
                <a:lnTo>
                  <a:pt x="2218767" y="156533"/>
                </a:lnTo>
                <a:lnTo>
                  <a:pt x="2218767" y="0"/>
                </a:lnTo>
                <a:lnTo>
                  <a:pt x="2520950" y="291306"/>
                </a:lnTo>
                <a:lnTo>
                  <a:pt x="2218767" y="582612"/>
                </a:lnTo>
                <a:lnTo>
                  <a:pt x="2218767" y="426079"/>
                </a:lnTo>
                <a:lnTo>
                  <a:pt x="91033" y="426079"/>
                </a:lnTo>
                <a:lnTo>
                  <a:pt x="91033" y="156533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266920" y="466560"/>
            <a:ext cx="5256360" cy="12272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1008000" y="5651640"/>
            <a:ext cx="286380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ndara"/>
              </a:rPr>
              <a:t>Отношения в мал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4572000" y="5651640"/>
            <a:ext cx="4086360" cy="145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ndara"/>
              </a:rPr>
              <a:t>Между хорошо знакомы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триховая стрелка вправо 20"/>
          <p:cNvSpPr/>
          <p:nvPr/>
        </p:nvSpPr>
        <p:spPr>
          <a:xfrm rot="5400000">
            <a:off x="2155320" y="4941720"/>
            <a:ext cx="871200" cy="430200"/>
          </a:xfrm>
          <a:custGeom>
            <a:avLst/>
            <a:gdLst/>
            <a:ahLst/>
            <a:rect l="l" t="t" r="r" b="b"/>
            <a:pathLst>
              <a:path w="871538" h="430212">
                <a:moveTo>
                  <a:pt x="0" y="115587"/>
                </a:moveTo>
                <a:lnTo>
                  <a:pt x="13444" y="115587"/>
                </a:lnTo>
                <a:lnTo>
                  <a:pt x="13444" y="314625"/>
                </a:lnTo>
                <a:lnTo>
                  <a:pt x="0" y="314625"/>
                </a:lnTo>
                <a:lnTo>
                  <a:pt x="0" y="115587"/>
                </a:lnTo>
                <a:close/>
                <a:moveTo>
                  <a:pt x="26888" y="115587"/>
                </a:moveTo>
                <a:lnTo>
                  <a:pt x="53777" y="115587"/>
                </a:lnTo>
                <a:lnTo>
                  <a:pt x="53777" y="314625"/>
                </a:lnTo>
                <a:lnTo>
                  <a:pt x="26888" y="314625"/>
                </a:lnTo>
                <a:lnTo>
                  <a:pt x="26888" y="115587"/>
                </a:lnTo>
                <a:close/>
                <a:moveTo>
                  <a:pt x="67221" y="115587"/>
                </a:moveTo>
                <a:lnTo>
                  <a:pt x="648400" y="115587"/>
                </a:lnTo>
                <a:lnTo>
                  <a:pt x="648400" y="0"/>
                </a:lnTo>
                <a:lnTo>
                  <a:pt x="871538" y="215106"/>
                </a:lnTo>
                <a:lnTo>
                  <a:pt x="648400" y="430212"/>
                </a:lnTo>
                <a:lnTo>
                  <a:pt x="648400" y="314625"/>
                </a:lnTo>
                <a:lnTo>
                  <a:pt x="67221" y="314625"/>
                </a:lnTo>
                <a:lnTo>
                  <a:pt x="67221" y="115587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триховая стрелка вправо 21"/>
          <p:cNvSpPr/>
          <p:nvPr/>
        </p:nvSpPr>
        <p:spPr>
          <a:xfrm rot="5400000">
            <a:off x="6387840" y="4997520"/>
            <a:ext cx="788760" cy="401400"/>
          </a:xfrm>
          <a:custGeom>
            <a:avLst/>
            <a:gdLst/>
            <a:ahLst/>
            <a:rect l="l" t="t" r="r" b="b"/>
            <a:pathLst>
              <a:path w="788988" h="401638">
                <a:moveTo>
                  <a:pt x="0" y="107910"/>
                </a:moveTo>
                <a:lnTo>
                  <a:pt x="12551" y="107910"/>
                </a:lnTo>
                <a:lnTo>
                  <a:pt x="12551" y="293728"/>
                </a:lnTo>
                <a:lnTo>
                  <a:pt x="0" y="293728"/>
                </a:lnTo>
                <a:lnTo>
                  <a:pt x="0" y="107910"/>
                </a:lnTo>
                <a:close/>
                <a:moveTo>
                  <a:pt x="25102" y="107910"/>
                </a:moveTo>
                <a:lnTo>
                  <a:pt x="50205" y="107910"/>
                </a:lnTo>
                <a:lnTo>
                  <a:pt x="50205" y="293728"/>
                </a:lnTo>
                <a:lnTo>
                  <a:pt x="25102" y="293728"/>
                </a:lnTo>
                <a:lnTo>
                  <a:pt x="25102" y="107910"/>
                </a:lnTo>
                <a:close/>
                <a:moveTo>
                  <a:pt x="62756" y="107910"/>
                </a:moveTo>
                <a:lnTo>
                  <a:pt x="580670" y="107910"/>
                </a:lnTo>
                <a:lnTo>
                  <a:pt x="580670" y="0"/>
                </a:lnTo>
                <a:lnTo>
                  <a:pt x="788988" y="200819"/>
                </a:lnTo>
                <a:lnTo>
                  <a:pt x="580670" y="401638"/>
                </a:lnTo>
                <a:lnTo>
                  <a:pt x="580670" y="293728"/>
                </a:lnTo>
                <a:lnTo>
                  <a:pt x="62756" y="293728"/>
                </a:lnTo>
                <a:lnTo>
                  <a:pt x="62756" y="107910"/>
                </a:lnTo>
                <a:close/>
              </a:path>
            </a:pathLst>
          </a:custGeom>
          <a:solidFill>
            <a:srgbClr val="aae2ca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Группа 13" descr=""/>
          <p:cNvPicPr/>
          <p:nvPr/>
        </p:nvPicPr>
        <p:blipFill>
          <a:blip r:embed="rId1"/>
          <a:stretch/>
        </p:blipFill>
        <p:spPr>
          <a:xfrm>
            <a:off x="1646280" y="3962520"/>
            <a:ext cx="62485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8"/>
          <p:cNvSpPr/>
          <p:nvPr/>
        </p:nvSpPr>
        <p:spPr>
          <a:xfrm>
            <a:off x="360360" y="324000"/>
            <a:ext cx="9360000" cy="102204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7f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Candara"/>
              </a:rPr>
              <a:t>Виды межличност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91011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хема 4" descr=""/>
          <p:cNvPicPr/>
          <p:nvPr/>
        </p:nvPicPr>
        <p:blipFill>
          <a:blip r:embed="rId1"/>
          <a:stretch/>
        </p:blipFill>
        <p:spPr>
          <a:xfrm>
            <a:off x="360360" y="1432080"/>
            <a:ext cx="9423360" cy="5822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360360" y="324000"/>
            <a:ext cx="9360000" cy="102204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7f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Candara"/>
              </a:rPr>
              <a:t>Виды межличност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1727280" y="3059280"/>
            <a:ext cx="6192720" cy="952200"/>
          </a:xfrm>
          <a:prstGeom prst="flowChartAlternateProcess">
            <a:avLst/>
          </a:prstGeom>
          <a:solidFill>
            <a:srgbClr val="ffffff">
              <a:alpha val="92000"/>
            </a:srgbClr>
          </a:solidFill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ректор и колле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итель и уч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>
            <a:off x="1604880" y="6012000"/>
            <a:ext cx="6408720" cy="1033200"/>
          </a:xfrm>
          <a:prstGeom prst="flowChartAlternateProcess">
            <a:avLst/>
          </a:prstGeom>
          <a:solidFill>
            <a:srgbClr val="ffffff">
              <a:alpha val="92000"/>
            </a:srgbClr>
          </a:solidFill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руже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ем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" name="Прямая со стрелкой 3"/>
          <p:cNvCxnSpPr/>
          <p:nvPr/>
        </p:nvCxnSpPr>
        <p:spPr>
          <a:xfrm>
            <a:off x="4395600" y="1323720"/>
            <a:ext cx="1080" cy="7196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85" name="TextBox 7"/>
          <p:cNvSpPr/>
          <p:nvPr/>
        </p:nvSpPr>
        <p:spPr>
          <a:xfrm>
            <a:off x="593640" y="2043000"/>
            <a:ext cx="8479080" cy="5472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763640" y="466560"/>
            <a:ext cx="5256360" cy="10004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войные круглые скобки 10"/>
          <p:cNvSpPr/>
          <p:nvPr/>
        </p:nvSpPr>
        <p:spPr>
          <a:xfrm>
            <a:off x="593640" y="3022560"/>
            <a:ext cx="3600360" cy="40705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cc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чувства, которые сближ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людей, объедин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их, вызывают полож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тнош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4330800" y="3022560"/>
            <a:ext cx="5246640" cy="3278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довольствие,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лаженство, востор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восхи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доверие, уваж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еж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благодарность,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Прямая со стрелкой 3"/>
          <p:cNvCxnSpPr/>
          <p:nvPr/>
        </p:nvCxnSpPr>
        <p:spPr>
          <a:xfrm>
            <a:off x="4676400" y="1432080"/>
            <a:ext cx="1080" cy="67032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0" name="TextBox 7"/>
          <p:cNvSpPr/>
          <p:nvPr/>
        </p:nvSpPr>
        <p:spPr>
          <a:xfrm>
            <a:off x="863640" y="2101680"/>
            <a:ext cx="8335800" cy="5472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266920" y="466560"/>
            <a:ext cx="5256360" cy="10004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личност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ые круглые скобки 10"/>
          <p:cNvSpPr/>
          <p:nvPr/>
        </p:nvSpPr>
        <p:spPr>
          <a:xfrm>
            <a:off x="593640" y="2833560"/>
            <a:ext cx="3600360" cy="41547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cc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чувства ,которые затрудн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тношения, разъединяю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ешают их  сотрудниче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4535640" y="2843280"/>
            <a:ext cx="4968720" cy="33796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зависть, гор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обид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гнев, гордо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то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хема 2" descr=""/>
          <p:cNvPicPr/>
          <p:nvPr/>
        </p:nvPicPr>
        <p:blipFill>
          <a:blip r:embed="rId1"/>
          <a:stretch/>
        </p:blipFill>
        <p:spPr>
          <a:xfrm>
            <a:off x="5114880" y="6145200"/>
            <a:ext cx="35290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Егоркина Е.М.</dc:creator>
  <dc:description/>
  <dc:language>en-US</dc:language>
  <cp:lastModifiedBy>Егоркина Е.М.</cp:lastModifiedBy>
  <dcterms:modified xsi:type="dcterms:W3CDTF">2013-01-17T08:14:50Z</dcterms:modified>
  <cp:revision>21</cp:revision>
  <dc:subject/>
  <dc:title>Переходный возраст</dc:title>
</cp:coreProperties>
</file>