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gif" ContentType="image/gif"/>
  <Override PartName="/ppt/media/image8.png" ContentType="image/png"/>
  <Override PartName="/ppt/media/image5.png" ContentType="image/png"/>
  <Override PartName="/ppt/media/image10.png" ContentType="image/png"/>
  <Override PartName="/ppt/media/image6.gif" ContentType="image/gif"/>
  <Override PartName="/ppt/media/image7.png" ContentType="image/png"/>
  <Override PartName="/ppt/media/image9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AC9EE5-0046-4652-B526-45D8E96958B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A080DC-B2BA-44C8-86CA-F1622713C0C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C6FE-BAE0-4580-8FC3-27F7989C5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78AE-07C7-4B8A-8542-049325A79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336F-10A7-4B3B-A865-FAADEC1B1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A9E7-7D32-49E1-9F5E-1448DFE0C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5EB8-0D57-428A-A57C-AC586757D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A1B4-225C-43E8-8B78-E21FEC2BC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E34D-4AB5-4418-A8A7-366CF0803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87B2-DBCB-494D-BCE3-08DB6DA7E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81B5-CA8D-4825-9C68-75E0ECF6A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70FD-50B2-438F-85DB-C62268351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713F-FA92-4460-B099-EFBE55198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F3C2-7E26-450A-B0F6-0F2862A5E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B47B16-17A1-4D9C-BCC7-DE5ABA280BE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2016000" y="743040"/>
            <a:ext cx="5992920" cy="20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50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6000" spc="-1" strike="noStrike">
                <a:solidFill>
                  <a:srgbClr val="800080"/>
                </a:solidFill>
                <a:latin typeface="Garamond"/>
              </a:rPr>
              <a:t>Межличностные</a:t>
            </a:r>
            <a:r>
              <a:rPr b="1" i="1" lang="ru-RU" sz="7200" spc="-1" strike="noStrike">
                <a:solidFill>
                  <a:srgbClr val="800080"/>
                </a:solidFill>
                <a:latin typeface="Garamond"/>
              </a:rPr>
              <a:t> </a:t>
            </a:r>
            <a:r>
              <a:rPr b="0" i="1" lang="ru-RU" sz="8000" spc="-1" strike="noStrike">
                <a:solidFill>
                  <a:srgbClr val="000000"/>
                </a:solidFill>
                <a:latin typeface="Monotype Corsiva"/>
              </a:rPr>
              <a:t>  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2103480" y="1793880"/>
            <a:ext cx="590544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41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6600" spc="-1" strike="noStrike">
                <a:solidFill>
                  <a:srgbClr val="800080"/>
                </a:solidFill>
                <a:latin typeface="Garamond"/>
              </a:rPr>
              <a:t>отношени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376360" y="466560"/>
            <a:ext cx="25210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663300"/>
                </a:solidFill>
                <a:latin typeface="Arial"/>
              </a:rPr>
              <a:t>Обществозн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8209080" y="395280"/>
            <a:ext cx="12967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663300"/>
                </a:solidFill>
                <a:latin typeface="Arial"/>
              </a:rPr>
              <a:t>8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6985080" y="6762600"/>
            <a:ext cx="26794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006666"/>
                </a:solidFill>
                <a:latin typeface="Calibri"/>
              </a:rPr>
              <a:t>Учитель</a:t>
            </a:r>
            <a:r>
              <a:rPr b="0" i="1" lang="en-US" sz="1800" spc="-1" strike="noStrike">
                <a:solidFill>
                  <a:srgbClr val="006666"/>
                </a:solidFill>
                <a:latin typeface="Calibri"/>
              </a:rPr>
              <a:t>: </a:t>
            </a:r>
            <a:r>
              <a:rPr b="0" i="1" lang="ru-RU" sz="1800" spc="-1" strike="noStrike">
                <a:solidFill>
                  <a:srgbClr val="006666"/>
                </a:solidFill>
                <a:latin typeface="Calibri"/>
              </a:rPr>
              <a:t>Егоркина Е.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57240">
            <a:solidFill>
              <a:srgbClr val="9933ff"/>
            </a:solidFill>
            <a:round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Garamond"/>
              </a:rPr>
              <a:t>Домашнее задание</a:t>
            </a:r>
            <a:r>
              <a:rPr b="1" lang="en-US" sz="4800" spc="-1" strike="noStrike">
                <a:solidFill>
                  <a:srgbClr val="006666"/>
                </a:solidFill>
                <a:latin typeface="Garamond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2920" y="1547640"/>
            <a:ext cx="9001080" cy="5467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Garamond"/>
                <a:ea typeface="Times New Roman"/>
              </a:rPr>
              <a:t>§</a:t>
            </a:r>
            <a:r>
              <a:rPr b="1" lang="ru-RU" sz="8800" spc="-1" strike="noStrike">
                <a:solidFill>
                  <a:srgbClr val="003366"/>
                </a:solidFill>
                <a:latin typeface="Garamond"/>
                <a:ea typeface="Times New Roman"/>
              </a:rPr>
              <a:t>11, вопросы.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s418720"/>
          <p:cNvPicPr/>
          <p:nvPr/>
        </p:nvPicPr>
        <p:blipFill>
          <a:blip r:embed="rId1"/>
          <a:stretch/>
        </p:blipFill>
        <p:spPr>
          <a:xfrm>
            <a:off x="8640720" y="1474920"/>
            <a:ext cx="939960" cy="14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31280" y="1547640"/>
            <a:ext cx="9069480" cy="4848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3000"/>
          </a:bodyPr>
          <a:p>
            <a:pPr marL="637560" indent="-637560">
              <a:lnSpc>
                <a:spcPct val="93000"/>
              </a:lnSpc>
              <a:spcAft>
                <a:spcPts val="1426"/>
              </a:spcAft>
              <a:buClr>
                <a:srgbClr val="006666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4800" spc="-1" strike="noStrike">
                <a:solidFill>
                  <a:srgbClr val="240048"/>
                </a:solidFill>
                <a:latin typeface="Garamond"/>
              </a:rPr>
              <a:t>Понятие «межличностные отношения»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37560" indent="-637560">
              <a:lnSpc>
                <a:spcPct val="93000"/>
              </a:lnSpc>
              <a:spcAft>
                <a:spcPts val="1426"/>
              </a:spcAft>
              <a:buClr>
                <a:srgbClr val="006666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4800" spc="-1" strike="noStrike">
                <a:solidFill>
                  <a:srgbClr val="240048"/>
                </a:solidFill>
                <a:latin typeface="Garamond"/>
              </a:rPr>
              <a:t>Законы межличностных отношений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37560" indent="-637560">
              <a:lnSpc>
                <a:spcPct val="93000"/>
              </a:lnSpc>
              <a:spcAft>
                <a:spcPts val="1426"/>
              </a:spcAft>
              <a:buClr>
                <a:srgbClr val="006666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4800" spc="-1" strike="noStrike">
                <a:solidFill>
                  <a:srgbClr val="240048"/>
                </a:solidFill>
                <a:latin typeface="Garamond"/>
              </a:rPr>
              <a:t>Нравственные нормы межличностных отношений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375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Прямоугольник 5" descr=""/>
          <p:cNvPicPr/>
          <p:nvPr/>
        </p:nvPicPr>
        <p:blipFill>
          <a:blip r:embed="rId1"/>
          <a:stretch/>
        </p:blipFill>
        <p:spPr>
          <a:xfrm>
            <a:off x="328680" y="115920"/>
            <a:ext cx="9394920" cy="15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6"/>
          <p:cNvSpPr/>
          <p:nvPr/>
        </p:nvSpPr>
        <p:spPr>
          <a:xfrm>
            <a:off x="477720" y="2079720"/>
            <a:ext cx="907272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 u="sng">
                <a:solidFill>
                  <a:srgbClr val="3333cc"/>
                </a:solidFill>
                <a:uFillTx/>
                <a:latin typeface="Candara"/>
              </a:rPr>
              <a:t>Межличностные отношения</a:t>
            </a:r>
            <a:r>
              <a:rPr b="1" lang="ru-RU" sz="5400" spc="-1" strike="noStrike">
                <a:solidFill>
                  <a:srgbClr val="3333cc"/>
                </a:solidFill>
                <a:latin typeface="Candara"/>
              </a:rPr>
              <a:t>-</a:t>
            </a:r>
            <a:r>
              <a:rPr b="0" i="1" lang="ru-RU" sz="5400" spc="-1" strike="noStrike">
                <a:solidFill>
                  <a:srgbClr val="3333cc"/>
                </a:solidFill>
                <a:latin typeface="Calibri"/>
              </a:rPr>
              <a:t>это </a:t>
            </a:r>
            <a:r>
              <a:rPr b="0" i="1" lang="ru-RU" sz="5400" spc="-1" strike="noStrike">
                <a:solidFill>
                  <a:srgbClr val="3333cc"/>
                </a:solidFill>
                <a:latin typeface="Candara"/>
              </a:rPr>
              <a:t>отношения  в малой группе, возникающие в процессе общения</a:t>
            </a:r>
            <a:r>
              <a:rPr b="0" i="1" lang="ru-RU" sz="5400" spc="-1" strike="noStrike">
                <a:solidFill>
                  <a:srgbClr val="3333cc"/>
                </a:solidFill>
                <a:latin typeface="Calibri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ag00029_"/>
          <p:cNvPicPr/>
          <p:nvPr/>
        </p:nvPicPr>
        <p:blipFill>
          <a:blip r:embed="rId1"/>
          <a:stretch/>
        </p:blipFill>
        <p:spPr>
          <a:xfrm>
            <a:off x="576360" y="449280"/>
            <a:ext cx="2089080" cy="1657440"/>
          </a:xfrm>
          <a:prstGeom prst="rect">
            <a:avLst/>
          </a:prstGeom>
          <a:ln w="0">
            <a:noFill/>
          </a:ln>
        </p:spPr>
      </p:pic>
      <p:pic>
        <p:nvPicPr>
          <p:cNvPr id="57" name="Прямоугольник 6" descr=""/>
          <p:cNvPicPr/>
          <p:nvPr/>
        </p:nvPicPr>
        <p:blipFill>
          <a:blip r:embed="rId2"/>
          <a:stretch/>
        </p:blipFill>
        <p:spPr>
          <a:xfrm>
            <a:off x="4071960" y="311040"/>
            <a:ext cx="3876480" cy="15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23640" y="395280"/>
            <a:ext cx="849636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нимательно изучите схему и прокомментируйте её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ag00317_"/>
          <p:cNvPicPr/>
          <p:nvPr/>
        </p:nvPicPr>
        <p:blipFill>
          <a:blip r:embed="rId1"/>
          <a:stretch/>
        </p:blipFill>
        <p:spPr>
          <a:xfrm>
            <a:off x="216000" y="179280"/>
            <a:ext cx="1224000" cy="1573200"/>
          </a:xfrm>
          <a:prstGeom prst="rect">
            <a:avLst/>
          </a:prstGeom>
          <a:ln w="0">
            <a:noFill/>
          </a:ln>
        </p:spPr>
      </p:pic>
      <p:cxnSp>
        <p:nvCxnSpPr>
          <p:cNvPr id="60" name="Прямая со стрелкой 6"/>
          <p:cNvCxnSpPr/>
          <p:nvPr/>
        </p:nvCxnSpPr>
        <p:spPr>
          <a:xfrm flipH="1">
            <a:off x="2879280" y="3215880"/>
            <a:ext cx="1729440" cy="708840"/>
          </a:xfrm>
          <a:prstGeom prst="straightConnector1">
            <a:avLst/>
          </a:prstGeom>
          <a:ln w="57240">
            <a:solidFill>
              <a:srgbClr val="0070c0"/>
            </a:solidFill>
            <a:miter/>
            <a:tailEnd len="med" type="triangle" w="med"/>
          </a:ln>
        </p:spPr>
      </p:cxnSp>
      <p:cxnSp>
        <p:nvCxnSpPr>
          <p:cNvPr id="61" name="Прямая со стрелкой 11"/>
          <p:cNvCxnSpPr/>
          <p:nvPr/>
        </p:nvCxnSpPr>
        <p:spPr>
          <a:xfrm>
            <a:off x="4752720" y="3215880"/>
            <a:ext cx="1656360" cy="708840"/>
          </a:xfrm>
          <a:prstGeom prst="straightConnector1">
            <a:avLst/>
          </a:prstGeom>
          <a:ln w="57240">
            <a:solidFill>
              <a:srgbClr val="0070c0"/>
            </a:solidFill>
            <a:miter/>
            <a:tailEnd len="med" type="triangle" w="med"/>
          </a:ln>
        </p:spPr>
      </p:cxnSp>
      <p:sp>
        <p:nvSpPr>
          <p:cNvPr id="62" name="TextBox 4"/>
          <p:cNvSpPr/>
          <p:nvPr/>
        </p:nvSpPr>
        <p:spPr>
          <a:xfrm>
            <a:off x="2303640" y="1979640"/>
            <a:ext cx="5257800" cy="12272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Межличностные отнош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6"/>
          <p:cNvSpPr/>
          <p:nvPr/>
        </p:nvSpPr>
        <p:spPr>
          <a:xfrm>
            <a:off x="920880" y="4933800"/>
            <a:ext cx="3563640" cy="1453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В контактах участвуют чувства, эмо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7"/>
          <p:cNvSpPr/>
          <p:nvPr/>
        </p:nvSpPr>
        <p:spPr>
          <a:xfrm>
            <a:off x="5327640" y="4933800"/>
            <a:ext cx="3600360" cy="2077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Мы ценим друзей за преданность и верность, стремимся быть честны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9"/>
          <p:cNvSpPr/>
          <p:nvPr/>
        </p:nvSpPr>
        <p:spPr>
          <a:xfrm>
            <a:off x="5327640" y="3925800"/>
            <a:ext cx="3600360" cy="1000440"/>
          </a:xfrm>
          <a:prstGeom prst="rect">
            <a:avLst/>
          </a:prstGeom>
          <a:solidFill>
            <a:srgbClr val="00cc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равственные    нор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7"/>
          <p:cNvSpPr/>
          <p:nvPr/>
        </p:nvSpPr>
        <p:spPr>
          <a:xfrm>
            <a:off x="884160" y="3924360"/>
            <a:ext cx="3600360" cy="1000440"/>
          </a:xfrm>
          <a:prstGeom prst="rect">
            <a:avLst/>
          </a:prstGeom>
          <a:solidFill>
            <a:srgbClr val="00cc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сихологические отнош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67" name="Прямая со стрелкой 3"/>
          <p:cNvCxnSpPr/>
          <p:nvPr/>
        </p:nvCxnSpPr>
        <p:spPr>
          <a:xfrm flipH="1">
            <a:off x="2842920" y="1704960"/>
            <a:ext cx="1729440" cy="707040"/>
          </a:xfrm>
          <a:prstGeom prst="straightConnector1">
            <a:avLst/>
          </a:prstGeom>
          <a:ln w="57240">
            <a:solidFill>
              <a:srgbClr val="0070c0"/>
            </a:solidFill>
            <a:miter/>
            <a:tailEnd len="med" type="triangle" w="med"/>
          </a:ln>
        </p:spPr>
      </p:cxnSp>
      <p:cxnSp>
        <p:nvCxnSpPr>
          <p:cNvPr id="68" name="Прямая со стрелкой 4"/>
          <p:cNvCxnSpPr/>
          <p:nvPr/>
        </p:nvCxnSpPr>
        <p:spPr>
          <a:xfrm>
            <a:off x="4714920" y="1704960"/>
            <a:ext cx="1658160" cy="707040"/>
          </a:xfrm>
          <a:prstGeom prst="straightConnector1">
            <a:avLst/>
          </a:prstGeom>
          <a:ln w="57240">
            <a:solidFill>
              <a:srgbClr val="0070c0"/>
            </a:solidFill>
            <a:miter/>
            <a:tailEnd len="med" type="triangle" w="med"/>
          </a:ln>
        </p:spPr>
      </p:cxnSp>
      <p:sp>
        <p:nvSpPr>
          <p:cNvPr id="69" name="TextBox 6"/>
          <p:cNvSpPr/>
          <p:nvPr/>
        </p:nvSpPr>
        <p:spPr>
          <a:xfrm>
            <a:off x="5291280" y="2413080"/>
            <a:ext cx="3600360" cy="1000440"/>
          </a:xfrm>
          <a:prstGeom prst="rect">
            <a:avLst/>
          </a:prstGeom>
          <a:solidFill>
            <a:srgbClr val="00cc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равственные    нор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7"/>
          <p:cNvSpPr/>
          <p:nvPr/>
        </p:nvSpPr>
        <p:spPr>
          <a:xfrm>
            <a:off x="847800" y="2411280"/>
            <a:ext cx="3600360" cy="1000440"/>
          </a:xfrm>
          <a:prstGeom prst="rect">
            <a:avLst/>
          </a:prstGeom>
          <a:solidFill>
            <a:srgbClr val="00cc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сихологические отнош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Штриховая стрелка вправо 17"/>
          <p:cNvSpPr/>
          <p:nvPr/>
        </p:nvSpPr>
        <p:spPr>
          <a:xfrm rot="5400000">
            <a:off x="3559680" y="2372400"/>
            <a:ext cx="2521080" cy="582480"/>
          </a:xfrm>
          <a:custGeom>
            <a:avLst/>
            <a:gdLst/>
            <a:ahLst/>
            <a:rect l="l" t="t" r="r" b="b"/>
            <a:pathLst>
              <a:path w="2520950" h="582612">
                <a:moveTo>
                  <a:pt x="0" y="156533"/>
                </a:moveTo>
                <a:lnTo>
                  <a:pt x="18207" y="156533"/>
                </a:lnTo>
                <a:lnTo>
                  <a:pt x="18207" y="426079"/>
                </a:lnTo>
                <a:lnTo>
                  <a:pt x="0" y="426079"/>
                </a:lnTo>
                <a:lnTo>
                  <a:pt x="0" y="156533"/>
                </a:lnTo>
                <a:close/>
                <a:moveTo>
                  <a:pt x="36413" y="156533"/>
                </a:moveTo>
                <a:lnTo>
                  <a:pt x="72827" y="156533"/>
                </a:lnTo>
                <a:lnTo>
                  <a:pt x="72827" y="426079"/>
                </a:lnTo>
                <a:lnTo>
                  <a:pt x="36413" y="426079"/>
                </a:lnTo>
                <a:lnTo>
                  <a:pt x="36413" y="156533"/>
                </a:lnTo>
                <a:close/>
                <a:moveTo>
                  <a:pt x="91033" y="156533"/>
                </a:moveTo>
                <a:lnTo>
                  <a:pt x="2218767" y="156533"/>
                </a:lnTo>
                <a:lnTo>
                  <a:pt x="2218767" y="0"/>
                </a:lnTo>
                <a:lnTo>
                  <a:pt x="2520950" y="291306"/>
                </a:lnTo>
                <a:lnTo>
                  <a:pt x="2218767" y="582612"/>
                </a:lnTo>
                <a:lnTo>
                  <a:pt x="2218767" y="426079"/>
                </a:lnTo>
                <a:lnTo>
                  <a:pt x="91033" y="426079"/>
                </a:lnTo>
                <a:lnTo>
                  <a:pt x="91033" y="156533"/>
                </a:lnTo>
                <a:close/>
              </a:path>
            </a:pathLst>
          </a:custGeom>
          <a:solidFill>
            <a:srgbClr val="aae2ca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2266920" y="466560"/>
            <a:ext cx="5256360" cy="12272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Межличностные отнош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8"/>
          <p:cNvSpPr/>
          <p:nvPr/>
        </p:nvSpPr>
        <p:spPr>
          <a:xfrm>
            <a:off x="1008000" y="5651640"/>
            <a:ext cx="2863800" cy="145368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Candara"/>
              </a:rPr>
              <a:t>Отношения в малой групп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9"/>
          <p:cNvSpPr/>
          <p:nvPr/>
        </p:nvSpPr>
        <p:spPr>
          <a:xfrm>
            <a:off x="4572000" y="5651640"/>
            <a:ext cx="4086360" cy="145368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Candara"/>
              </a:rPr>
              <a:t>Между хорошо знакомыми людь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Штриховая стрелка вправо 20"/>
          <p:cNvSpPr/>
          <p:nvPr/>
        </p:nvSpPr>
        <p:spPr>
          <a:xfrm rot="5400000">
            <a:off x="2155320" y="4941720"/>
            <a:ext cx="871200" cy="430200"/>
          </a:xfrm>
          <a:custGeom>
            <a:avLst/>
            <a:gdLst/>
            <a:ahLst/>
            <a:rect l="l" t="t" r="r" b="b"/>
            <a:pathLst>
              <a:path w="871538" h="430212">
                <a:moveTo>
                  <a:pt x="0" y="115587"/>
                </a:moveTo>
                <a:lnTo>
                  <a:pt x="13444" y="115587"/>
                </a:lnTo>
                <a:lnTo>
                  <a:pt x="13444" y="314625"/>
                </a:lnTo>
                <a:lnTo>
                  <a:pt x="0" y="314625"/>
                </a:lnTo>
                <a:lnTo>
                  <a:pt x="0" y="115587"/>
                </a:lnTo>
                <a:close/>
                <a:moveTo>
                  <a:pt x="26888" y="115587"/>
                </a:moveTo>
                <a:lnTo>
                  <a:pt x="53777" y="115587"/>
                </a:lnTo>
                <a:lnTo>
                  <a:pt x="53777" y="314625"/>
                </a:lnTo>
                <a:lnTo>
                  <a:pt x="26888" y="314625"/>
                </a:lnTo>
                <a:lnTo>
                  <a:pt x="26888" y="115587"/>
                </a:lnTo>
                <a:close/>
                <a:moveTo>
                  <a:pt x="67221" y="115587"/>
                </a:moveTo>
                <a:lnTo>
                  <a:pt x="648400" y="115587"/>
                </a:lnTo>
                <a:lnTo>
                  <a:pt x="648400" y="0"/>
                </a:lnTo>
                <a:lnTo>
                  <a:pt x="871538" y="215106"/>
                </a:lnTo>
                <a:lnTo>
                  <a:pt x="648400" y="430212"/>
                </a:lnTo>
                <a:lnTo>
                  <a:pt x="648400" y="314625"/>
                </a:lnTo>
                <a:lnTo>
                  <a:pt x="67221" y="314625"/>
                </a:lnTo>
                <a:lnTo>
                  <a:pt x="67221" y="115587"/>
                </a:lnTo>
                <a:close/>
              </a:path>
            </a:pathLst>
          </a:custGeom>
          <a:solidFill>
            <a:srgbClr val="aae2ca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Штриховая стрелка вправо 21"/>
          <p:cNvSpPr/>
          <p:nvPr/>
        </p:nvSpPr>
        <p:spPr>
          <a:xfrm rot="5400000">
            <a:off x="6387840" y="4997520"/>
            <a:ext cx="788760" cy="401400"/>
          </a:xfrm>
          <a:custGeom>
            <a:avLst/>
            <a:gdLst/>
            <a:ahLst/>
            <a:rect l="l" t="t" r="r" b="b"/>
            <a:pathLst>
              <a:path w="788988" h="401638">
                <a:moveTo>
                  <a:pt x="0" y="107910"/>
                </a:moveTo>
                <a:lnTo>
                  <a:pt x="12551" y="107910"/>
                </a:lnTo>
                <a:lnTo>
                  <a:pt x="12551" y="293728"/>
                </a:lnTo>
                <a:lnTo>
                  <a:pt x="0" y="293728"/>
                </a:lnTo>
                <a:lnTo>
                  <a:pt x="0" y="107910"/>
                </a:lnTo>
                <a:close/>
                <a:moveTo>
                  <a:pt x="25102" y="107910"/>
                </a:moveTo>
                <a:lnTo>
                  <a:pt x="50205" y="107910"/>
                </a:lnTo>
                <a:lnTo>
                  <a:pt x="50205" y="293728"/>
                </a:lnTo>
                <a:lnTo>
                  <a:pt x="25102" y="293728"/>
                </a:lnTo>
                <a:lnTo>
                  <a:pt x="25102" y="107910"/>
                </a:lnTo>
                <a:close/>
                <a:moveTo>
                  <a:pt x="62756" y="107910"/>
                </a:moveTo>
                <a:lnTo>
                  <a:pt x="580670" y="107910"/>
                </a:lnTo>
                <a:lnTo>
                  <a:pt x="580670" y="0"/>
                </a:lnTo>
                <a:lnTo>
                  <a:pt x="788988" y="200819"/>
                </a:lnTo>
                <a:lnTo>
                  <a:pt x="580670" y="401638"/>
                </a:lnTo>
                <a:lnTo>
                  <a:pt x="580670" y="293728"/>
                </a:lnTo>
                <a:lnTo>
                  <a:pt x="62756" y="293728"/>
                </a:lnTo>
                <a:lnTo>
                  <a:pt x="62756" y="107910"/>
                </a:lnTo>
                <a:close/>
              </a:path>
            </a:pathLst>
          </a:custGeom>
          <a:solidFill>
            <a:srgbClr val="aae2ca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Группа 13" descr=""/>
          <p:cNvPicPr/>
          <p:nvPr/>
        </p:nvPicPr>
        <p:blipFill>
          <a:blip r:embed="rId1"/>
          <a:stretch/>
        </p:blipFill>
        <p:spPr>
          <a:xfrm>
            <a:off x="1646280" y="3962520"/>
            <a:ext cx="6248520" cy="94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AutoShape 8"/>
          <p:cNvSpPr/>
          <p:nvPr/>
        </p:nvSpPr>
        <p:spPr>
          <a:xfrm>
            <a:off x="360360" y="324000"/>
            <a:ext cx="9360000" cy="1022040"/>
          </a:xfrm>
          <a:prstGeom prst="roundRect">
            <a:avLst>
              <a:gd name="adj" fmla="val 16667"/>
            </a:avLst>
          </a:prstGeom>
          <a:noFill/>
          <a:ln w="47520">
            <a:solidFill>
              <a:srgbClr val="7f00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3333cc"/>
                </a:solidFill>
                <a:latin typeface="Candara"/>
              </a:rPr>
              <a:t> </a:t>
            </a:r>
            <a:r>
              <a:rPr b="1" lang="ru-RU" sz="4400" spc="-1" strike="noStrike">
                <a:solidFill>
                  <a:srgbClr val="3333cc"/>
                </a:solidFill>
                <a:latin typeface="Candara"/>
              </a:rPr>
              <a:t>Виды межличностных отнош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Схема 4" descr=""/>
          <p:cNvPicPr/>
          <p:nvPr/>
        </p:nvPicPr>
        <p:blipFill>
          <a:blip r:embed="rId1"/>
          <a:stretch/>
        </p:blipFill>
        <p:spPr>
          <a:xfrm>
            <a:off x="512640" y="1365120"/>
            <a:ext cx="9101160" cy="58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Схема 4" descr=""/>
          <p:cNvPicPr/>
          <p:nvPr/>
        </p:nvPicPr>
        <p:blipFill>
          <a:blip r:embed="rId1"/>
          <a:stretch/>
        </p:blipFill>
        <p:spPr>
          <a:xfrm>
            <a:off x="360360" y="1432080"/>
            <a:ext cx="9423360" cy="5822640"/>
          </a:xfrm>
          <a:prstGeom prst="rect">
            <a:avLst/>
          </a:prstGeom>
          <a:ln w="0">
            <a:noFill/>
          </a:ln>
        </p:spPr>
      </p:pic>
      <p:sp>
        <p:nvSpPr>
          <p:cNvPr id="81" name="AutoShape 8"/>
          <p:cNvSpPr/>
          <p:nvPr/>
        </p:nvSpPr>
        <p:spPr>
          <a:xfrm>
            <a:off x="360360" y="324000"/>
            <a:ext cx="9360000" cy="1022040"/>
          </a:xfrm>
          <a:prstGeom prst="roundRect">
            <a:avLst>
              <a:gd name="adj" fmla="val 16667"/>
            </a:avLst>
          </a:prstGeom>
          <a:noFill/>
          <a:ln w="47520">
            <a:solidFill>
              <a:srgbClr val="7f00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3333cc"/>
                </a:solidFill>
                <a:latin typeface="Candara"/>
              </a:rPr>
              <a:t> </a:t>
            </a:r>
            <a:r>
              <a:rPr b="1" lang="ru-RU" sz="4400" spc="-1" strike="noStrike">
                <a:solidFill>
                  <a:srgbClr val="3333cc"/>
                </a:solidFill>
                <a:latin typeface="Candara"/>
              </a:rPr>
              <a:t>Виды межличностных отнош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9"/>
          <p:cNvSpPr/>
          <p:nvPr/>
        </p:nvSpPr>
        <p:spPr>
          <a:xfrm>
            <a:off x="1727280" y="3059280"/>
            <a:ext cx="6192720" cy="952200"/>
          </a:xfrm>
          <a:prstGeom prst="flowChartAlternateProcess">
            <a:avLst/>
          </a:prstGeom>
          <a:solidFill>
            <a:srgbClr val="ffffff">
              <a:alpha val="92000"/>
            </a:srgbClr>
          </a:solidFill>
          <a:ln w="38160">
            <a:solidFill>
              <a:srgbClr val="0099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директор и коллег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учитель и уче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20"/>
          <p:cNvSpPr/>
          <p:nvPr/>
        </p:nvSpPr>
        <p:spPr>
          <a:xfrm>
            <a:off x="1604880" y="6012000"/>
            <a:ext cx="6408720" cy="1033200"/>
          </a:xfrm>
          <a:prstGeom prst="flowChartAlternateProcess">
            <a:avLst/>
          </a:prstGeom>
          <a:solidFill>
            <a:srgbClr val="ffffff">
              <a:alpha val="92000"/>
            </a:srgbClr>
          </a:solidFill>
          <a:ln w="38160">
            <a:solidFill>
              <a:srgbClr val="0099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дружеск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семей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84" name="Прямая со стрелкой 3"/>
          <p:cNvCxnSpPr/>
          <p:nvPr/>
        </p:nvCxnSpPr>
        <p:spPr>
          <a:xfrm>
            <a:off x="4395600" y="1323720"/>
            <a:ext cx="1080" cy="719640"/>
          </a:xfrm>
          <a:prstGeom prst="straightConnector1">
            <a:avLst/>
          </a:prstGeom>
          <a:ln w="57240">
            <a:solidFill>
              <a:srgbClr val="0070c0"/>
            </a:solidFill>
            <a:miter/>
            <a:tailEnd len="med" type="triangle" w="med"/>
          </a:ln>
        </p:spPr>
      </p:cxnSp>
      <p:sp>
        <p:nvSpPr>
          <p:cNvPr id="85" name="TextBox 7"/>
          <p:cNvSpPr/>
          <p:nvPr/>
        </p:nvSpPr>
        <p:spPr>
          <a:xfrm>
            <a:off x="593640" y="2043000"/>
            <a:ext cx="8479080" cy="547200"/>
          </a:xfrm>
          <a:prstGeom prst="rect">
            <a:avLst/>
          </a:prstGeom>
          <a:solidFill>
            <a:srgbClr val="00cc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сихологические отнош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5"/>
          <p:cNvSpPr/>
          <p:nvPr/>
        </p:nvSpPr>
        <p:spPr>
          <a:xfrm>
            <a:off x="1763640" y="466560"/>
            <a:ext cx="5256360" cy="10004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жличностные отнош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Двойные круглые скобки 10"/>
          <p:cNvSpPr/>
          <p:nvPr/>
        </p:nvSpPr>
        <p:spPr>
          <a:xfrm>
            <a:off x="593640" y="3022560"/>
            <a:ext cx="3600360" cy="4070520"/>
          </a:xfrm>
          <a:prstGeom prst="bracketPair">
            <a:avLst>
              <a:gd name="adj" fmla="val 17129"/>
            </a:avLst>
          </a:prstGeom>
          <a:noFill/>
          <a:ln w="38160">
            <a:solidFill>
              <a:srgbClr val="00cc9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чувства, которые сближаю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людей, объединяю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их, вызывают положитель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отношени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4"/>
          <p:cNvSpPr/>
          <p:nvPr/>
        </p:nvSpPr>
        <p:spPr>
          <a:xfrm>
            <a:off x="4330800" y="3022560"/>
            <a:ext cx="5246640" cy="3278160"/>
          </a:xfrm>
          <a:prstGeom prst="flowChartAlternateProcess">
            <a:avLst/>
          </a:prstGeom>
          <a:solidFill>
            <a:srgbClr val="ff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Arial"/>
              </a:rPr>
              <a:t>удовольствие, радо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Arial"/>
              </a:rPr>
              <a:t>блаженство, восторг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Arial"/>
              </a:rPr>
              <a:t>восхищени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Arial"/>
              </a:rPr>
              <a:t>доверие, уважени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333cc"/>
                </a:solidFill>
                <a:latin typeface="Arial"/>
              </a:rPr>
              <a:t>нежно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Arial"/>
              </a:rPr>
              <a:t>благодарность, люб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89" name="Прямая со стрелкой 3"/>
          <p:cNvCxnSpPr/>
          <p:nvPr/>
        </p:nvCxnSpPr>
        <p:spPr>
          <a:xfrm>
            <a:off x="4676400" y="1432080"/>
            <a:ext cx="1080" cy="670320"/>
          </a:xfrm>
          <a:prstGeom prst="straightConnector1">
            <a:avLst/>
          </a:prstGeom>
          <a:ln w="57240">
            <a:solidFill>
              <a:srgbClr val="0070c0"/>
            </a:solidFill>
            <a:miter/>
            <a:tailEnd len="med" type="triangle" w="med"/>
          </a:ln>
        </p:spPr>
      </p:cxnSp>
      <p:sp>
        <p:nvSpPr>
          <p:cNvPr id="90" name="TextBox 7"/>
          <p:cNvSpPr/>
          <p:nvPr/>
        </p:nvSpPr>
        <p:spPr>
          <a:xfrm>
            <a:off x="863640" y="2101680"/>
            <a:ext cx="8335800" cy="547200"/>
          </a:xfrm>
          <a:prstGeom prst="rect">
            <a:avLst/>
          </a:prstGeom>
          <a:solidFill>
            <a:srgbClr val="00cc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сихологические отнош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5"/>
          <p:cNvSpPr/>
          <p:nvPr/>
        </p:nvSpPr>
        <p:spPr>
          <a:xfrm>
            <a:off x="2266920" y="466560"/>
            <a:ext cx="5256360" cy="10004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жличностные отнош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Двойные круглые скобки 10"/>
          <p:cNvSpPr/>
          <p:nvPr/>
        </p:nvSpPr>
        <p:spPr>
          <a:xfrm>
            <a:off x="593640" y="2833560"/>
            <a:ext cx="3600360" cy="4154760"/>
          </a:xfrm>
          <a:prstGeom prst="bracketPair">
            <a:avLst>
              <a:gd name="adj" fmla="val 17129"/>
            </a:avLst>
          </a:prstGeom>
          <a:noFill/>
          <a:ln w="38160">
            <a:solidFill>
              <a:srgbClr val="00cc9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Arial"/>
              </a:rPr>
              <a:t>чувства ,которые затрудняю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Arial"/>
              </a:rPr>
              <a:t>отношения, разъединяют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Arial"/>
              </a:rPr>
              <a:t>мешают их  сотрудничеств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4"/>
          <p:cNvSpPr/>
          <p:nvPr/>
        </p:nvSpPr>
        <p:spPr>
          <a:xfrm>
            <a:off x="4535640" y="2843280"/>
            <a:ext cx="4968720" cy="3379680"/>
          </a:xfrm>
          <a:prstGeom prst="flowChartAlternateProcess">
            <a:avLst/>
          </a:prstGeom>
          <a:solidFill>
            <a:srgbClr val="ff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3333cc"/>
                </a:solidFill>
                <a:latin typeface="Arial"/>
              </a:rPr>
              <a:t>зависть, горе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3333cc"/>
                </a:solidFill>
                <a:latin typeface="Arial"/>
              </a:rPr>
              <a:t>обида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3333cc"/>
                </a:solidFill>
                <a:latin typeface="Arial"/>
              </a:rPr>
              <a:t>гнев, гордость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3333cc"/>
                </a:solidFill>
                <a:latin typeface="Arial"/>
              </a:rPr>
              <a:t>тос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Схема 2" descr=""/>
          <p:cNvPicPr/>
          <p:nvPr/>
        </p:nvPicPr>
        <p:blipFill>
          <a:blip r:embed="rId1"/>
          <a:stretch/>
        </p:blipFill>
        <p:spPr>
          <a:xfrm>
            <a:off x="5114880" y="6145200"/>
            <a:ext cx="3529080" cy="9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0T09:45:24Z</dcterms:created>
  <dc:creator>Егоркина Е.М.</dc:creator>
  <dc:description/>
  <dc:language>en-US</dc:language>
  <cp:lastModifiedBy>Егоркина Е.М.</cp:lastModifiedBy>
  <dcterms:modified xsi:type="dcterms:W3CDTF">2013-01-17T08:14:50Z</dcterms:modified>
  <cp:revision>21</cp:revision>
  <dc:subject/>
  <dc:title>Переходный возраст</dc:title>
</cp:coreProperties>
</file>