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12.png" ContentType="image/png"/>
  <Override PartName="/ppt/media/image8.jpeg" ContentType="image/jpeg"/>
  <Override PartName="/ppt/media/image26.png" ContentType="image/png"/>
  <Override PartName="/ppt/media/image3.png" ContentType="image/png"/>
  <Override PartName="/ppt/media/image4.jpeg" ContentType="image/jpeg"/>
  <Override PartName="/ppt/media/image2.gif" ContentType="image/gif"/>
  <Override PartName="/ppt/media/image25.png" ContentType="image/png"/>
  <Override PartName="/ppt/media/image5.jpeg" ContentType="image/jpeg"/>
  <Override PartName="/ppt/media/image13.png" ContentType="image/png"/>
  <Override PartName="/ppt/media/image10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9.png" ContentType="image/png"/>
  <Override PartName="/ppt/media/chimes.wav" ContentType="audio/x-wav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609F-534A-4239-906F-AD6D5E06BE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0796-171F-4275-8B58-8745A4B71B5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B41E-75CC-4643-B015-44FF434F86E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6221-25FD-4A25-8259-D7D5A5F4A0A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6FF3-9FCA-4E8E-A3EB-69841677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291E-3F4F-4E0B-AA59-F627E46D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522F4-2BAF-498D-AD51-024FCD97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92B3A-12F3-465B-8DB3-CFE38ED2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F45BF-BF57-40C8-98A3-2898DE01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29621-583E-497E-99DE-93354A2A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E3E9D-5595-47D8-88F2-2446A2A2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2E380-141D-444B-8AC1-354C00A3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5ADEA-E518-4580-A176-2F26BDB0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F393E-01BA-4BD5-A223-116E4B2E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62394-2E47-43C6-B1B4-9B62FA1E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D9F1A-C2F4-4A0D-A247-6B77AAC5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044-A4E0-43E2-A19F-8B0C5E85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3B642-A17B-478E-BF51-F4826BFC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65E2A-E1A9-403D-81AF-87C256EE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A6B75-13A5-4AB7-9AEA-495425EE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D4E6C-6726-4B9F-8E80-43E162CF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B88AC-DD58-492D-A0FB-25CC5CE8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F821E-1FEF-4AD7-9F0A-5E963829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7072E-A38C-4AEF-A53C-6375FDBA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32214-5276-49A3-A1B9-72A33F74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88463-02B5-4CBB-B378-23421B2C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1B9A1-E3BA-4600-8E14-227307AE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4B6F-353A-4A2E-9EAE-7245B275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F80BF-9A18-4574-9ADD-0DA2F958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2B9D-54A9-4979-B848-9DE9DAA7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4B1A-8AE5-4FA7-9296-7054DC33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922F-0A12-429A-81E1-3B85E9A5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CCE4-F670-4B00-B640-E408034B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4B27-2C8C-4BF3-8692-EDE4899A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7898-7741-49E8-B59A-9197CAE9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1837-0536-4F30-85E4-4E3821DB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22E2-94B0-4A38-A8AE-C5993F58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2B3F-436A-4B45-B8C7-E2B14BBE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8F94-FBCF-4C5F-88AC-7A0E64CA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B450-5037-4FB7-B4A0-6A8B1F76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7639-73F2-41F5-8BAE-1EAEB72D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119A-33F7-42AB-9535-972CF9FD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13DE5-C0BE-4876-B26D-3ADB53EE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04650-4201-45F9-881E-19853165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770BE-B7D8-46C6-8B49-D62563A2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8BEE7-A049-497F-9FB6-825F1D92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AD755-E765-4CEC-90F8-565FDD7F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3AC-5EA5-414D-8958-0EF42B20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631C9-61B2-4402-B581-8702CB77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D77F4-BC1B-4EAF-A2F6-93F22FE3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CE289-54D1-40D3-AC75-731EFDA2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94F7D-2072-49E9-B8C5-E1D1AD96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36BDB-59EB-49AA-9146-826414ED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09640-B58C-462F-A5C5-679CE434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2F3EF-23ED-441A-AD52-C5435A16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CB196-AFE6-4610-B910-8EB501F0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20C85-692B-4EA9-A852-E0227856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17F98-8CA5-4B0D-83F4-34853FBF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1ED-2844-4CC5-AFBB-E44A7C7B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BBFC2-D48D-455A-9A50-D0CA29B3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C4637-7F0D-41E4-8330-6DBFA0F1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3925E-6956-4A4E-9D0E-5EF858B0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77F25-F9FD-4FC3-822B-231D0914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918AD-DE3D-4984-82BD-53789E19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C763E-1211-4F1B-AAA6-DA9BCAC1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01FC4-FDBC-4E89-AE09-8DA7A0FA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49B4E-9A6B-415D-80E2-4AD7A994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82BC8-0057-4926-A079-E9FC8E16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78F28-CA01-4C41-9925-D984236E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5FFD-6B33-46CE-B97A-CDD7037C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859F9-3258-4C22-8EFE-6E3B8C76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4274C-57DF-4884-9F87-D0A8D722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3A201-579E-45A6-A1DA-6816BA69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8C9E1-CF97-470D-BE20-59BF3AAA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4424E-0CDF-4DBB-8ED3-3A9E68B0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5830E-8565-4FCB-90A3-51BBD22E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B4AE5-21B7-4C5C-8E4E-3A8E39A9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B08CB-95FE-4C72-965A-6B94E015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82A0F-7ECC-4ED4-A459-B9DAE1D1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317C0-73B4-4978-A4AA-D07AB326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7C58-E02F-4D9D-B86B-0F4AFEA9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ECF27-A7A1-48EA-9463-D831962A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5A2B4-C22A-45AC-8588-54C08676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7FA1B-EDA5-4752-A19F-C49BD005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31072-70CC-42A1-9C93-54FBC281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AA2E0-50AE-40C8-9BAC-84A9FB43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82605-8D3E-468F-ACB3-30617D22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98A71-B4FF-43C1-83E3-F77AD545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72C65-50C5-499C-BFD4-F57EB8D4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4ED58-3D6E-4D7C-800E-2F226BD0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B2217-19DD-4E14-AF3E-564220FE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B35-87F3-4344-BB86-552620AD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AD382-0A22-4329-BCCA-858FE199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F2239-218A-468F-8282-493F8DA2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3F8EA-9B26-4133-901E-E566BDDD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33D2D-0F9B-49D2-8CC9-12BBBA2B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D2844-CE65-4DD6-91C8-E673B0F4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28FFC-B973-44F7-8AC4-436BF68B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7D381-3B77-47F7-B20C-B27F7107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A9381-6808-44C2-9090-56126B10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2BE7E-2F4D-4B16-A3B8-F687920B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AB86E-EEDA-487A-B9AE-0CE139DA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280-D731-46F4-843B-09DAF929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30E4D-3CDB-485E-A0B1-9D1AB320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CFBE6-99A0-4B1B-AD5C-5B73CFAF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AF424-0E68-46D0-BC48-A21E9980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E2D7F-6401-491F-866E-0A9AB53C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7B26E-C02E-4B7D-A163-C1BB6C67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62BC9-507E-4D7F-807F-959A25C4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C7028-035B-49A3-BA1E-86A900BC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49610-0173-444F-AFBE-ECE2098B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DBE15-7BC8-4923-ABD4-9A14DA90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52204-D0F3-4006-AA11-C1CFCE83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FDDB-86E2-4DDA-9AD5-8061EC1A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B8492-589B-4218-84AD-9E37E8A9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B1F15-4B26-4F74-968F-3CC189B0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8DAC3-BBA4-4B82-BA38-0A606B11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6C115-062E-42C5-A186-6CDB9236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9D0D4-E134-4532-BD9A-CAE66CDF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2BE73-9419-484D-A9E5-CCF31EEA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36938-1D07-44DE-9EF9-4D507F27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C4F36-12AB-4852-A101-457BF826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7EC50-4BED-4B85-A56E-E52D1FD5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45E3B-7FD6-47F1-969E-8AA58571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174E-1B79-4217-9254-755F7112BF3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0AD0-CFAC-4BB7-9198-17CD96B320A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8DAD-ED7B-476C-B0AA-4910B8CAC2A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BC33-13E7-41D4-BE10-C64540158A3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8142-7D59-48FC-9D84-BCFCE664B3C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B189-CD3C-407B-84CE-CFA8CD56186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DED0-BCED-4544-92BB-3D974F978DC2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E4AB-617C-4ADF-887E-383EC6453AF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3141-D086-4778-AC94-C8A2CC5A038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F4F6-29BA-4D14-8033-C050ED77792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0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0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0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0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Rectangle 2" descr=""/>
          <p:cNvPicPr/>
          <p:nvPr/>
        </p:nvPicPr>
        <p:blipFill>
          <a:blip r:embed="rId1"/>
          <a:stretch/>
        </p:blipFill>
        <p:spPr>
          <a:xfrm>
            <a:off x="907920" y="4340160"/>
            <a:ext cx="7785360" cy="1987560"/>
          </a:xfrm>
          <a:prstGeom prst="rect">
            <a:avLst/>
          </a:prstGeom>
          <a:ln w="0">
            <a:noFill/>
          </a:ln>
        </p:spPr>
      </p:pic>
      <p:sp>
        <p:nvSpPr>
          <p:cNvPr id="526" name="WordArt 37"/>
          <p:cNvSpPr txBox="1"/>
          <p:nvPr/>
        </p:nvSpPr>
        <p:spPr>
          <a:xfrm>
            <a:off x="684360" y="836640"/>
            <a:ext cx="770400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25e0b"/>
                </a:solidFill>
                <a:latin typeface="Impact"/>
              </a:rPr>
              <a:t>Антарктид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25e0b"/>
              </a:solidFill>
              <a:latin typeface="Impact"/>
              <a:ea typeface="Impact"/>
            </a:endParaRPr>
          </a:p>
        </p:txBody>
      </p:sp>
      <p:pic>
        <p:nvPicPr>
          <p:cNvPr id="527" name="Picture 41" descr="earth3"/>
          <p:cNvPicPr/>
          <p:nvPr/>
        </p:nvPicPr>
        <p:blipFill>
          <a:blip r:embed="rId2"/>
          <a:stretch/>
        </p:blipFill>
        <p:spPr>
          <a:xfrm>
            <a:off x="3348000" y="333360"/>
            <a:ext cx="2160720" cy="181440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42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Записанный звук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00" fill="hold"/>
                                        <p:tgtEl>
                                          <p:spTgt spid="5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огда впервые был покорён Южный полюс?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6" name="AutoShape 4"/>
          <p:cNvSpPr/>
          <p:nvPr/>
        </p:nvSpPr>
        <p:spPr>
          <a:xfrm>
            <a:off x="1042920" y="1700280"/>
            <a:ext cx="2376720" cy="10792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1" action="ppaction://hlinksldjump"/>
              </a:rPr>
              <a:t>14 декабря 1999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AutoShape 5"/>
          <p:cNvSpPr/>
          <p:nvPr/>
        </p:nvSpPr>
        <p:spPr>
          <a:xfrm>
            <a:off x="4859280" y="3213000"/>
            <a:ext cx="2305080" cy="1079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2" action="ppaction://hlinksldjump"/>
              </a:rPr>
              <a:t>14 декабря 1911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AutoShape 6"/>
          <p:cNvSpPr/>
          <p:nvPr/>
        </p:nvSpPr>
        <p:spPr>
          <a:xfrm>
            <a:off x="1042920" y="3357720"/>
            <a:ext cx="2376720" cy="10792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3" action="ppaction://hlinksldjump"/>
              </a:rPr>
              <a:t>27 сентября 19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AutoShape 7"/>
          <p:cNvSpPr/>
          <p:nvPr/>
        </p:nvSpPr>
        <p:spPr>
          <a:xfrm>
            <a:off x="4859280" y="1557360"/>
            <a:ext cx="2376720" cy="1079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4" action="ppaction://hlinksldjump"/>
              </a:rPr>
              <a:t>15 декабря 1992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AutoShape 10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Представители какой страны покорили первыми Южный полюс?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2" name="AutoShape 4"/>
          <p:cNvSpPr/>
          <p:nvPr/>
        </p:nvSpPr>
        <p:spPr>
          <a:xfrm>
            <a:off x="1547640" y="1989000"/>
            <a:ext cx="2089440" cy="11527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1" action="ppaction://hlinksldjump"/>
              </a:rPr>
              <a:t>Англ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AutoShape 5"/>
          <p:cNvSpPr/>
          <p:nvPr/>
        </p:nvSpPr>
        <p:spPr>
          <a:xfrm>
            <a:off x="5580000" y="3716280"/>
            <a:ext cx="2089080" cy="11527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2" action="ppaction://hlinksldjump"/>
              </a:rPr>
              <a:t>Монгол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AutoShape 6"/>
          <p:cNvSpPr/>
          <p:nvPr/>
        </p:nvSpPr>
        <p:spPr>
          <a:xfrm>
            <a:off x="1547640" y="3860640"/>
            <a:ext cx="2089440" cy="11527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3" action="ppaction://hlinksldjump"/>
              </a:rPr>
              <a:t>Шве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AutoShape 7"/>
          <p:cNvSpPr/>
          <p:nvPr/>
        </p:nvSpPr>
        <p:spPr>
          <a:xfrm>
            <a:off x="5580000" y="1916280"/>
            <a:ext cx="2089080" cy="115236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4" action="ppaction://hlinksldjump"/>
              </a:rPr>
              <a:t>Норве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AutoShape 8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Представители какой страны первыми открыли Антарктиду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AutoShape 4"/>
          <p:cNvSpPr/>
          <p:nvPr/>
        </p:nvSpPr>
        <p:spPr>
          <a:xfrm>
            <a:off x="857160" y="1857240"/>
            <a:ext cx="2376720" cy="12970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с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AutoShape 4"/>
          <p:cNvSpPr/>
          <p:nvPr/>
        </p:nvSpPr>
        <p:spPr>
          <a:xfrm>
            <a:off x="5072040" y="1785960"/>
            <a:ext cx="2376360" cy="12970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Ш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AutoShape 4"/>
          <p:cNvSpPr/>
          <p:nvPr/>
        </p:nvSpPr>
        <p:spPr>
          <a:xfrm>
            <a:off x="1000080" y="4286160"/>
            <a:ext cx="2376360" cy="12970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п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AutoShape 4"/>
          <p:cNvSpPr/>
          <p:nvPr/>
        </p:nvSpPr>
        <p:spPr>
          <a:xfrm>
            <a:off x="5286240" y="4143240"/>
            <a:ext cx="2376720" cy="12970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нгл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7fd13b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ервооткрыватели Антарктид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94" name="Picture 4" descr="name0002"/>
          <p:cNvPicPr/>
          <p:nvPr/>
        </p:nvPicPr>
        <p:blipFill>
          <a:blip r:embed="rId1"/>
          <a:stretch/>
        </p:blipFill>
        <p:spPr>
          <a:xfrm>
            <a:off x="684360" y="1773360"/>
            <a:ext cx="2950920" cy="31669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" descr="name0014"/>
          <p:cNvPicPr/>
          <p:nvPr/>
        </p:nvPicPr>
        <p:blipFill>
          <a:blip r:embed="rId2"/>
          <a:stretch/>
        </p:blipFill>
        <p:spPr>
          <a:xfrm>
            <a:off x="4932360" y="1846440"/>
            <a:ext cx="3166920" cy="3093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0920" y="5084640"/>
            <a:ext cx="309564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rbel"/>
              </a:rPr>
              <a:t>Фадей Фадеевич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Corbel"/>
              </a:rPr>
              <a:t>Беллинсгаузен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5060160" y="5157720"/>
            <a:ext cx="289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Михаил Петр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Лазар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акому государству принадлежит Антарктида?</a:t>
            </a: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9" name="AutoShape 4"/>
          <p:cNvSpPr/>
          <p:nvPr/>
        </p:nvSpPr>
        <p:spPr>
          <a:xfrm>
            <a:off x="928800" y="1785960"/>
            <a:ext cx="2376360" cy="12970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1" action="ppaction://hlinksldjump"/>
              </a:rPr>
              <a:t>Рос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AutoShape 5"/>
          <p:cNvSpPr/>
          <p:nvPr/>
        </p:nvSpPr>
        <p:spPr>
          <a:xfrm>
            <a:off x="4716360" y="3645000"/>
            <a:ext cx="2376720" cy="12967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2" action="ppaction://hlinksldjump"/>
              </a:rPr>
              <a:t>СШ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utoShape 6"/>
          <p:cNvSpPr/>
          <p:nvPr/>
        </p:nvSpPr>
        <p:spPr>
          <a:xfrm>
            <a:off x="971640" y="3789360"/>
            <a:ext cx="2376360" cy="12970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7"/>
          <p:cNvSpPr/>
          <p:nvPr/>
        </p:nvSpPr>
        <p:spPr>
          <a:xfrm>
            <a:off x="4643280" y="1557360"/>
            <a:ext cx="2376720" cy="12970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3" action="ppaction://hlinksldjump"/>
              </a:rPr>
              <a:t>Алжи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1187280" y="4076640"/>
            <a:ext cx="2017800" cy="405000"/>
          </a:xfrm>
          <a:prstGeom prst="rect">
            <a:avLst/>
          </a:prstGeom>
          <a:solidFill>
            <a:srgbClr val="5f77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4" action="ppaction://hlinksldjump"/>
              </a:rPr>
              <a:t>Ни одному государств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AutoShape 9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Представители какой страны покорили Южный полюс вторыми?</a:t>
            </a: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6" name="AutoShape 4"/>
          <p:cNvSpPr/>
          <p:nvPr/>
        </p:nvSpPr>
        <p:spPr>
          <a:xfrm>
            <a:off x="971640" y="2133720"/>
            <a:ext cx="2087640" cy="136656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1" action="ppaction://hlinksldjump"/>
              </a:rPr>
              <a:t>Монгол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5"/>
          <p:cNvSpPr/>
          <p:nvPr/>
        </p:nvSpPr>
        <p:spPr>
          <a:xfrm>
            <a:off x="971640" y="4076640"/>
            <a:ext cx="2305080" cy="11509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2" action="ppaction://hlinksldjump"/>
              </a:rPr>
              <a:t>Норве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AutoShape 6"/>
          <p:cNvSpPr/>
          <p:nvPr/>
        </p:nvSpPr>
        <p:spPr>
          <a:xfrm>
            <a:off x="5364000" y="4005360"/>
            <a:ext cx="2305080" cy="11509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3" action="ppaction://hlinksldjump"/>
              </a:rPr>
              <a:t>Англ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AutoShape 7"/>
          <p:cNvSpPr/>
          <p:nvPr/>
        </p:nvSpPr>
        <p:spPr>
          <a:xfrm>
            <a:off x="5292720" y="2276640"/>
            <a:ext cx="2305080" cy="11509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4" action="ppaction://hlinksldjump"/>
              </a:rPr>
              <a:t>Швец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AutoShape 8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7fd13b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Путешествие к Южному полюсу в 1910-1912 гг.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12" name="Picture 4" descr="name0022"/>
          <p:cNvPicPr/>
          <p:nvPr/>
        </p:nvPicPr>
        <p:blipFill>
          <a:blip r:embed="rId1"/>
          <a:stretch/>
        </p:blipFill>
        <p:spPr>
          <a:xfrm>
            <a:off x="7372440" y="184464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name0000"/>
          <p:cNvPicPr/>
          <p:nvPr/>
        </p:nvPicPr>
        <p:blipFill>
          <a:blip r:embed="rId2"/>
          <a:stretch/>
        </p:blipFill>
        <p:spPr>
          <a:xfrm>
            <a:off x="0" y="184464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2005-01-19"/>
          <p:cNvPicPr/>
          <p:nvPr/>
        </p:nvPicPr>
        <p:blipFill>
          <a:blip r:embed="rId3"/>
          <a:stretch/>
        </p:blipFill>
        <p:spPr>
          <a:xfrm>
            <a:off x="2124000" y="1773360"/>
            <a:ext cx="4869000" cy="508464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6"/>
          <p:cNvSpPr/>
          <p:nvPr/>
        </p:nvSpPr>
        <p:spPr>
          <a:xfrm>
            <a:off x="295200" y="3900600"/>
            <a:ext cx="169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Руа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Амундс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7"/>
          <p:cNvSpPr/>
          <p:nvPr/>
        </p:nvSpPr>
        <p:spPr>
          <a:xfrm>
            <a:off x="7265880" y="3933720"/>
            <a:ext cx="123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Робе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Скот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акова максимальная толщина ледникового покрова?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1476360" y="2349360"/>
            <a:ext cx="2232000" cy="1079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1" action="ppaction://hlinksldjump"/>
              </a:rPr>
              <a:t>4744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AutoShape 5"/>
          <p:cNvSpPr/>
          <p:nvPr/>
        </p:nvSpPr>
        <p:spPr>
          <a:xfrm>
            <a:off x="1476360" y="4005360"/>
            <a:ext cx="2232000" cy="10792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2" action="ppaction://hlinksldjump"/>
              </a:rPr>
              <a:t>5000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AutoShape 6"/>
          <p:cNvSpPr/>
          <p:nvPr/>
        </p:nvSpPr>
        <p:spPr>
          <a:xfrm>
            <a:off x="5219640" y="3933720"/>
            <a:ext cx="2232000" cy="1079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3" action="ppaction://hlinksldjump"/>
              </a:rPr>
              <a:t>4500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AutoShape 7"/>
          <p:cNvSpPr/>
          <p:nvPr/>
        </p:nvSpPr>
        <p:spPr>
          <a:xfrm>
            <a:off x="5219640" y="2276640"/>
            <a:ext cx="2232000" cy="10792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4" action="ppaction://hlinksldjump"/>
              </a:rPr>
              <a:t>1500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AutoShape 8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Сколько процентов пресных вод Земли содержится в ледяном покрове Антарктиды?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4" name="AutoShape 4"/>
          <p:cNvSpPr/>
          <p:nvPr/>
        </p:nvSpPr>
        <p:spPr>
          <a:xfrm>
            <a:off x="1835280" y="1773360"/>
            <a:ext cx="2016000" cy="1008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1" action="ppaction://hlinksldjump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AutoShape 5"/>
          <p:cNvSpPr/>
          <p:nvPr/>
        </p:nvSpPr>
        <p:spPr>
          <a:xfrm>
            <a:off x="1835280" y="3429000"/>
            <a:ext cx="2016000" cy="1008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2" action="ppaction://hlinksldjump"/>
              </a:rPr>
              <a:t>9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AutoShape 6"/>
          <p:cNvSpPr/>
          <p:nvPr/>
        </p:nvSpPr>
        <p:spPr>
          <a:xfrm>
            <a:off x="5362560" y="3357720"/>
            <a:ext cx="2016000" cy="1008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3" action="ppaction://hlinksldjump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AutoShape 7"/>
          <p:cNvSpPr/>
          <p:nvPr/>
        </p:nvSpPr>
        <p:spPr>
          <a:xfrm>
            <a:off x="5291280" y="1700280"/>
            <a:ext cx="2016000" cy="1008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4" action="ppaction://hlinksldjump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AutoShape 8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Самый крупный шельфовый ледник на территории Антарктиды?</a:t>
            </a: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   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755640" y="1844640"/>
            <a:ext cx="2448000" cy="12254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1" action="ppaction://hlinksldjump"/>
              </a:rPr>
              <a:t>Бирдмо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826920" y="3716280"/>
            <a:ext cx="2448000" cy="12254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2" action="ppaction://hlinksldjump"/>
              </a:rPr>
              <a:t>Ледянён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AutoShape 6"/>
          <p:cNvSpPr/>
          <p:nvPr/>
        </p:nvSpPr>
        <p:spPr>
          <a:xfrm>
            <a:off x="4643280" y="3500280"/>
            <a:ext cx="2448000" cy="12258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3" action="ppaction://hlinksldjump"/>
              </a:rPr>
              <a:t>Ро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AutoShape 7"/>
          <p:cNvSpPr/>
          <p:nvPr/>
        </p:nvSpPr>
        <p:spPr>
          <a:xfrm>
            <a:off x="4643280" y="1700280"/>
            <a:ext cx="2448000" cy="12254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4" action="ppaction://hlinksldjump"/>
              </a:rPr>
              <a:t>Айсбе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AutoShape 8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4" descr="1187694910_3325"/>
          <p:cNvPicPr/>
          <p:nvPr/>
        </p:nvPicPr>
        <p:blipFill>
          <a:blip r:embed="rId1"/>
          <a:stretch/>
        </p:blipFill>
        <p:spPr>
          <a:xfrm>
            <a:off x="2158920" y="836640"/>
            <a:ext cx="698508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Какой вулкан есть в Антарктиде на о. Росса? 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6" name="AutoShape 4"/>
          <p:cNvSpPr/>
          <p:nvPr/>
        </p:nvSpPr>
        <p:spPr>
          <a:xfrm>
            <a:off x="1692360" y="1773360"/>
            <a:ext cx="2232000" cy="115236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1" action="ppaction://hlinksldjump"/>
              </a:rPr>
              <a:t>Эреб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AutoShape 5"/>
          <p:cNvSpPr/>
          <p:nvPr/>
        </p:nvSpPr>
        <p:spPr>
          <a:xfrm>
            <a:off x="1692360" y="3429000"/>
            <a:ext cx="2232000" cy="115236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2" action="ppaction://hlinksldjump"/>
              </a:rPr>
              <a:t>Лен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AutoShape 6"/>
          <p:cNvSpPr/>
          <p:nvPr/>
        </p:nvSpPr>
        <p:spPr>
          <a:xfrm>
            <a:off x="5292720" y="3357720"/>
            <a:ext cx="2232000" cy="115236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3" action="ppaction://hlinksldjump"/>
              </a:rPr>
              <a:t>Кам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AutoShape 7"/>
          <p:cNvSpPr/>
          <p:nvPr/>
        </p:nvSpPr>
        <p:spPr>
          <a:xfrm>
            <a:off x="5219640" y="1701720"/>
            <a:ext cx="2232000" cy="11527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4" action="ppaction://hlinksldjump"/>
              </a:rPr>
              <a:t>Бырран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AutoShape 8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ак называется платформа ,которая лежит в основании материка Антарктида?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2" name="AutoShape 4"/>
          <p:cNvSpPr/>
          <p:nvPr/>
        </p:nvSpPr>
        <p:spPr>
          <a:xfrm>
            <a:off x="1258920" y="1989000"/>
            <a:ext cx="230508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1" action="ppaction://hlinksldjump"/>
              </a:rPr>
              <a:t>Антарк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AutoShape 5"/>
          <p:cNvSpPr/>
          <p:nvPr/>
        </p:nvSpPr>
        <p:spPr>
          <a:xfrm>
            <a:off x="1187280" y="3789360"/>
            <a:ext cx="230508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2" action="ppaction://hlinksldjump"/>
              </a:rPr>
              <a:t>К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AutoShape 6"/>
          <p:cNvSpPr/>
          <p:nvPr/>
        </p:nvSpPr>
        <p:spPr>
          <a:xfrm>
            <a:off x="4716360" y="3645000"/>
            <a:ext cx="230508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3" action="ppaction://hlinksldjump"/>
              </a:rPr>
              <a:t>Аркт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7"/>
          <p:cNvSpPr/>
          <p:nvPr/>
        </p:nvSpPr>
        <p:spPr>
          <a:xfrm>
            <a:off x="4643280" y="1916280"/>
            <a:ext cx="2305080" cy="1223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4" action="ppaction://hlinksldjump"/>
              </a:rPr>
              <a:t>Антаркт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AutoShape 8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акова средняя высота материка с учётом ледникового покрова?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8" name="AutoShape 5"/>
          <p:cNvSpPr/>
          <p:nvPr/>
        </p:nvSpPr>
        <p:spPr>
          <a:xfrm>
            <a:off x="1403280" y="1773360"/>
            <a:ext cx="230508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1" action="ppaction://hlinksldjump"/>
              </a:rPr>
              <a:t>2040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AutoShape 6"/>
          <p:cNvSpPr/>
          <p:nvPr/>
        </p:nvSpPr>
        <p:spPr>
          <a:xfrm>
            <a:off x="1476360" y="3932280"/>
            <a:ext cx="2305080" cy="12254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2" action="ppaction://hlinksldjump"/>
              </a:rPr>
              <a:t>1500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AutoShape 7"/>
          <p:cNvSpPr/>
          <p:nvPr/>
        </p:nvSpPr>
        <p:spPr>
          <a:xfrm>
            <a:off x="5508720" y="3787920"/>
            <a:ext cx="2305080" cy="12254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3" action="ppaction://hlinksldjump"/>
              </a:rPr>
              <a:t>3000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AutoShape 8"/>
          <p:cNvSpPr/>
          <p:nvPr/>
        </p:nvSpPr>
        <p:spPr>
          <a:xfrm>
            <a:off x="5435640" y="1700280"/>
            <a:ext cx="230508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4" action="ppaction://hlinksldjump"/>
              </a:rPr>
              <a:t>1900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AutoShape 9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акой климатический пояс преобладает в Антарктиде?</a:t>
            </a: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4" name="AutoShape 4"/>
          <p:cNvSpPr/>
          <p:nvPr/>
        </p:nvSpPr>
        <p:spPr>
          <a:xfrm>
            <a:off x="1403280" y="1844640"/>
            <a:ext cx="230508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1" action="ppaction://hlinksldjump"/>
              </a:rPr>
              <a:t>Субаркт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AutoShape 5"/>
          <p:cNvSpPr/>
          <p:nvPr/>
        </p:nvSpPr>
        <p:spPr>
          <a:xfrm>
            <a:off x="1403280" y="3789360"/>
            <a:ext cx="230508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2" action="ppaction://hlinksldjump"/>
              </a:rPr>
              <a:t>Умер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AutoShape 6"/>
          <p:cNvSpPr/>
          <p:nvPr/>
        </p:nvSpPr>
        <p:spPr>
          <a:xfrm>
            <a:off x="5364000" y="3645000"/>
            <a:ext cx="230508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3" action="ppaction://hlinksldjump"/>
              </a:rPr>
              <a:t>Субумер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AutoShape 7"/>
          <p:cNvSpPr/>
          <p:nvPr/>
        </p:nvSpPr>
        <p:spPr>
          <a:xfrm>
            <a:off x="5291280" y="1700280"/>
            <a:ext cx="230508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4" action="ppaction://hlinksldjump"/>
              </a:rPr>
              <a:t>Антаркт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AutoShape 8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На какой научной станции была зафиксирована самая низкая температура на земле?</a:t>
            </a: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1116000" y="1916280"/>
            <a:ext cx="2448000" cy="1223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п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1187280" y="4005360"/>
            <a:ext cx="244800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с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5292720" y="3860640"/>
            <a:ext cx="244800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Ю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AutoShape 7"/>
          <p:cNvSpPr/>
          <p:nvPr/>
        </p:nvSpPr>
        <p:spPr>
          <a:xfrm>
            <a:off x="5219640" y="1844640"/>
            <a:ext cx="244800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ев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AutoShape 8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5" descr="45wKJlmX0"/>
          <p:cNvPicPr/>
          <p:nvPr/>
        </p:nvPicPr>
        <p:blipFill>
          <a:blip r:embed="rId1"/>
          <a:stretch/>
        </p:blipFill>
        <p:spPr>
          <a:xfrm>
            <a:off x="1258920" y="1125360"/>
            <a:ext cx="6913440" cy="45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4" descr="stancia"/>
          <p:cNvPicPr/>
          <p:nvPr/>
        </p:nvPicPr>
        <p:blipFill>
          <a:blip r:embed="rId1"/>
          <a:stretch/>
        </p:blipFill>
        <p:spPr>
          <a:xfrm>
            <a:off x="900000" y="1197000"/>
            <a:ext cx="74170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7fd13b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олярные станции в Антарктид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68" name="Picture 16" descr="sta8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2" descr="sta4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4" descr="sta3"/>
          <p:cNvPicPr/>
          <p:nvPr/>
        </p:nvPicPr>
        <p:blipFill>
          <a:blip r:embed="rId3"/>
          <a:stretch/>
        </p:blipFill>
        <p:spPr>
          <a:xfrm>
            <a:off x="1017720" y="3938760"/>
            <a:ext cx="2917800" cy="21873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3" descr="sta1"/>
          <p:cNvPicPr/>
          <p:nvPr/>
        </p:nvPicPr>
        <p:blipFill>
          <a:blip r:embed="rId4"/>
          <a:stretch/>
        </p:blipFill>
        <p:spPr>
          <a:xfrm>
            <a:off x="5208480" y="3938760"/>
            <a:ext cx="29178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8" descr="0ffc5ba0888e9c1a8f"/>
          <p:cNvPicPr/>
          <p:nvPr/>
        </p:nvPicPr>
        <p:blipFill>
          <a:blip r:embed="rId1"/>
          <a:stretch/>
        </p:blipFill>
        <p:spPr>
          <a:xfrm>
            <a:off x="826920" y="836640"/>
            <a:ext cx="749016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акое атмосферное давление возникает во внутренних областях Антарктиды?</a:t>
            </a: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4" name="AutoShape 4"/>
          <p:cNvSpPr/>
          <p:nvPr/>
        </p:nvSpPr>
        <p:spPr>
          <a:xfrm>
            <a:off x="971640" y="2205000"/>
            <a:ext cx="2663640" cy="12952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ысо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AutoShape 5"/>
          <p:cNvSpPr/>
          <p:nvPr/>
        </p:nvSpPr>
        <p:spPr>
          <a:xfrm>
            <a:off x="971640" y="4292640"/>
            <a:ext cx="2663640" cy="12952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ниже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AutoShape 6"/>
          <p:cNvSpPr/>
          <p:nvPr/>
        </p:nvSpPr>
        <p:spPr>
          <a:xfrm>
            <a:off x="5148360" y="4292640"/>
            <a:ext cx="2663640" cy="12952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лаб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AutoShape 7"/>
          <p:cNvSpPr/>
          <p:nvPr/>
        </p:nvSpPr>
        <p:spPr>
          <a:xfrm>
            <a:off x="5076720" y="2060640"/>
            <a:ext cx="2664000" cy="12952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орма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AutoShape 8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Рисунок 5" descr="image082.jpg"/>
          <p:cNvPicPr/>
          <p:nvPr/>
        </p:nvPicPr>
        <p:blipFill>
          <a:blip r:embed="rId1"/>
          <a:stretch/>
        </p:blipFill>
        <p:spPr>
          <a:xfrm>
            <a:off x="4022640" y="3429000"/>
            <a:ext cx="5121360" cy="3429000"/>
          </a:xfrm>
          <a:prstGeom prst="rect">
            <a:avLst/>
          </a:prstGeom>
          <a:ln w="0">
            <a:noFill/>
          </a:ln>
        </p:spPr>
      </p:pic>
      <p:pic>
        <p:nvPicPr>
          <p:cNvPr id="532" name="Рисунок 6" descr="1202229196_1p.jpg"/>
          <p:cNvPicPr/>
          <p:nvPr/>
        </p:nvPicPr>
        <p:blipFill>
          <a:blip r:embed="rId2"/>
          <a:stretch/>
        </p:blipFill>
        <p:spPr>
          <a:xfrm>
            <a:off x="4417920" y="0"/>
            <a:ext cx="4726080" cy="3886200"/>
          </a:xfrm>
          <a:prstGeom prst="rect">
            <a:avLst/>
          </a:prstGeom>
          <a:ln w="0">
            <a:noFill/>
          </a:ln>
        </p:spPr>
      </p:pic>
      <p:pic>
        <p:nvPicPr>
          <p:cNvPr id="533" name="Содержимое 3" descr="1200396928_a_513.jpg"/>
          <p:cNvPicPr/>
          <p:nvPr/>
        </p:nvPicPr>
        <p:blipFill>
          <a:blip r:embed="rId3"/>
          <a:stretch/>
        </p:blipFill>
        <p:spPr>
          <a:xfrm>
            <a:off x="0" y="0"/>
            <a:ext cx="5105520" cy="3362400"/>
          </a:xfrm>
          <a:prstGeom prst="rect">
            <a:avLst/>
          </a:prstGeom>
          <a:ln w="0">
            <a:noFill/>
          </a:ln>
        </p:spPr>
      </p:pic>
      <p:pic>
        <p:nvPicPr>
          <p:cNvPr id="534" name="Рисунок 7" descr="i334178343.jpg"/>
          <p:cNvPicPr/>
          <p:nvPr/>
        </p:nvPicPr>
        <p:blipFill>
          <a:blip r:embed="rId4"/>
          <a:stretch/>
        </p:blipFill>
        <p:spPr>
          <a:xfrm>
            <a:off x="0" y="3305160"/>
            <a:ext cx="43862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акова самая низкая температура на Земле, которая была зафиксирована в Антарктиде?</a:t>
            </a: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0" name="AutoShape 4"/>
          <p:cNvSpPr/>
          <p:nvPr/>
        </p:nvSpPr>
        <p:spPr>
          <a:xfrm>
            <a:off x="971640" y="1916280"/>
            <a:ext cx="2448000" cy="12254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89,2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  <a:ea typeface="Arial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AutoShape 5"/>
          <p:cNvSpPr/>
          <p:nvPr/>
        </p:nvSpPr>
        <p:spPr>
          <a:xfrm>
            <a:off x="1042920" y="3933720"/>
            <a:ext cx="2448000" cy="12258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100,2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  <a:ea typeface="Arial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AutoShape 6"/>
          <p:cNvSpPr/>
          <p:nvPr/>
        </p:nvSpPr>
        <p:spPr>
          <a:xfrm>
            <a:off x="5076720" y="3789360"/>
            <a:ext cx="2448000" cy="12254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80,2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  <a:ea typeface="Arial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AutoShape 7"/>
          <p:cNvSpPr/>
          <p:nvPr/>
        </p:nvSpPr>
        <p:spPr>
          <a:xfrm>
            <a:off x="5003640" y="1844640"/>
            <a:ext cx="2448000" cy="12254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50,5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  <a:ea typeface="Arial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AutoShape 8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5" descr="tou3"/>
          <p:cNvPicPr/>
          <p:nvPr/>
        </p:nvPicPr>
        <p:blipFill>
          <a:blip r:embed="rId1"/>
          <a:stretch/>
        </p:blipFill>
        <p:spPr>
          <a:xfrm>
            <a:off x="1187280" y="765000"/>
            <a:ext cx="6715440" cy="533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акое животное может быть символом Антарктиды?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7" name="AutoShape 3"/>
          <p:cNvSpPr/>
          <p:nvPr/>
        </p:nvSpPr>
        <p:spPr>
          <a:xfrm>
            <a:off x="1763640" y="2349360"/>
            <a:ext cx="208908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ор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AutoShape 4"/>
          <p:cNvSpPr/>
          <p:nvPr/>
        </p:nvSpPr>
        <p:spPr>
          <a:xfrm>
            <a:off x="1835280" y="4365720"/>
            <a:ext cx="208908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юл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AutoShape 5"/>
          <p:cNvSpPr/>
          <p:nvPr/>
        </p:nvSpPr>
        <p:spPr>
          <a:xfrm>
            <a:off x="5292720" y="4221000"/>
            <a:ext cx="208908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ингв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AutoShape 6"/>
          <p:cNvSpPr/>
          <p:nvPr/>
        </p:nvSpPr>
        <p:spPr>
          <a:xfrm>
            <a:off x="5292720" y="2205000"/>
            <a:ext cx="208908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елый медвед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AutoShape 7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4" descr="2005-03-09 (4)"/>
          <p:cNvPicPr/>
          <p:nvPr/>
        </p:nvPicPr>
        <p:blipFill>
          <a:blip r:embed="rId1"/>
          <a:stretch/>
        </p:blipFill>
        <p:spPr>
          <a:xfrm>
            <a:off x="1403280" y="1628640"/>
            <a:ext cx="629784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акой вид пингвинов является самым распространённым в Антарктиде?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4" name="AutoShape 3"/>
          <p:cNvSpPr/>
          <p:nvPr/>
        </p:nvSpPr>
        <p:spPr>
          <a:xfrm>
            <a:off x="1116000" y="2133720"/>
            <a:ext cx="2232000" cy="12952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мператор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AutoShape 4"/>
          <p:cNvSpPr/>
          <p:nvPr/>
        </p:nvSpPr>
        <p:spPr>
          <a:xfrm>
            <a:off x="1187280" y="4005360"/>
            <a:ext cx="2232360" cy="12952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нтарктид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AutoShape 5"/>
          <p:cNvSpPr/>
          <p:nvPr/>
        </p:nvSpPr>
        <p:spPr>
          <a:xfrm>
            <a:off x="4788000" y="3933720"/>
            <a:ext cx="2232000" cy="1295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д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AutoShape 6"/>
          <p:cNvSpPr/>
          <p:nvPr/>
        </p:nvSpPr>
        <p:spPr>
          <a:xfrm>
            <a:off x="4788000" y="1989000"/>
            <a:ext cx="2232000" cy="1295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роле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AutoShape 7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Consolas"/>
              </a:rPr>
              <a:t>Как называют огромные ледяные плавающие горы обломки материкового льда, сползшего в океан?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0" name="AutoShape 4"/>
          <p:cNvSpPr/>
          <p:nvPr/>
        </p:nvSpPr>
        <p:spPr>
          <a:xfrm>
            <a:off x="1692360" y="1989000"/>
            <a:ext cx="2160360" cy="1079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AutoShape 5"/>
          <p:cNvSpPr/>
          <p:nvPr/>
        </p:nvSpPr>
        <p:spPr>
          <a:xfrm>
            <a:off x="1690560" y="3645000"/>
            <a:ext cx="2160720" cy="10792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ирдмо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AutoShape 6"/>
          <p:cNvSpPr/>
          <p:nvPr/>
        </p:nvSpPr>
        <p:spPr>
          <a:xfrm>
            <a:off x="5219640" y="3500280"/>
            <a:ext cx="2160720" cy="1079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ель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AutoShape 7"/>
          <p:cNvSpPr/>
          <p:nvPr/>
        </p:nvSpPr>
        <p:spPr>
          <a:xfrm>
            <a:off x="5148360" y="1844640"/>
            <a:ext cx="2160360" cy="1079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йсбе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AutoShape 8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Записанный звук" descr=""/>
          <p:cNvPicPr/>
          <p:nvPr/>
        </p:nvPicPr>
        <p:blipFill>
          <a:blip r:embed="rId1"/>
          <a:stretch/>
        </p:blipFill>
        <p:spPr>
          <a:xfrm>
            <a:off x="11001240" y="61437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06" name="Ajsberg.mid" descr=""/>
          <p:cNvPicPr/>
          <p:nvPr/>
        </p:nvPicPr>
        <p:blipFill>
          <a:blip r:embed="rId2"/>
          <a:stretch/>
        </p:blipFill>
        <p:spPr>
          <a:xfrm>
            <a:off x="107157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0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0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7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80500" fill="hold"/>
                                        <p:tgtEl>
                                          <p:spTgt spid="7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7" descr="icc1"/>
          <p:cNvPicPr/>
          <p:nvPr/>
        </p:nvPicPr>
        <p:blipFill>
          <a:blip r:embed="rId1"/>
          <a:stretch/>
        </p:blipFill>
        <p:spPr>
          <a:xfrm>
            <a:off x="3048120" y="20620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6" descr="sta6"/>
          <p:cNvPicPr/>
          <p:nvPr/>
        </p:nvPicPr>
        <p:blipFill>
          <a:blip r:embed="rId1"/>
          <a:stretch/>
        </p:blipFill>
        <p:spPr>
          <a:xfrm>
            <a:off x="1332000" y="1628640"/>
            <a:ext cx="6337080" cy="47530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6" descr="sta6"/>
          <p:cNvPicPr/>
          <p:nvPr/>
        </p:nvPicPr>
        <p:blipFill>
          <a:blip r:embed="rId2"/>
          <a:stretch/>
        </p:blipFill>
        <p:spPr>
          <a:xfrm>
            <a:off x="1285920" y="1643040"/>
            <a:ext cx="6337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Пресс-конференция</a:t>
            </a:r>
            <a:br>
              <a:rPr sz="3600"/>
            </a:b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«Какое будущее ожидает Антарктиду?»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914400" y="2356920"/>
            <a:ext cx="7515360" cy="39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Докладчики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Экономист- Соболева Наталья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Эколог- Матвеев Вячесла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циолог- Бикбулатов Рустем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литолог- Кирия Александр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7fd13b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Современные исследования Антарктиды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713" name="Picture 3" descr="res1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4" descr="res4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5" descr="res3"/>
          <p:cNvPicPr/>
          <p:nvPr/>
        </p:nvPicPr>
        <p:blipFill>
          <a:blip r:embed="rId3"/>
          <a:stretch/>
        </p:blipFill>
        <p:spPr>
          <a:xfrm>
            <a:off x="3132000" y="3933720"/>
            <a:ext cx="2919600" cy="218916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 rot="10800000">
            <a:off x="928800" y="7286760"/>
            <a:ext cx="371952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6ff33"/>
                </a:solidFill>
                <a:latin typeface="Consolas"/>
              </a:rPr>
              <a:t>Как называется южная полярная область, включающая Антарктиду с прилегающими к ней островами и южные части океанов примерно 50</a:t>
            </a:r>
            <a:r>
              <a:rPr b="0" lang="en-US" sz="2500" spc="-1" strike="noStrike">
                <a:solidFill>
                  <a:srgbClr val="66ff33"/>
                </a:solidFill>
                <a:latin typeface="Consolas"/>
                <a:ea typeface="Arial"/>
              </a:rPr>
              <a:t>°</a:t>
            </a:r>
            <a:r>
              <a:rPr b="0" lang="ru-RU" sz="2500" spc="-1" strike="noStrike">
                <a:solidFill>
                  <a:srgbClr val="66ff33"/>
                </a:solidFill>
                <a:latin typeface="Consolas"/>
                <a:ea typeface="Arial"/>
              </a:rPr>
              <a:t>- 60</a:t>
            </a:r>
            <a:r>
              <a:rPr b="0" lang="en-US" sz="2500" spc="-1" strike="noStrike">
                <a:solidFill>
                  <a:srgbClr val="66ff33"/>
                </a:solidFill>
                <a:latin typeface="Consolas"/>
                <a:ea typeface="Arial"/>
              </a:rPr>
              <a:t>°</a:t>
            </a:r>
            <a:r>
              <a:rPr b="0" lang="ru-RU" sz="2500" spc="-1" strike="noStrike">
                <a:solidFill>
                  <a:srgbClr val="66ff33"/>
                </a:solidFill>
                <a:latin typeface="Consolas"/>
                <a:ea typeface="Arial"/>
              </a:rPr>
              <a:t>ю. ш.</a:t>
            </a:r>
            <a:endParaRPr b="0" lang="en-US" sz="25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6" name="AutoShape 4"/>
          <p:cNvSpPr/>
          <p:nvPr/>
        </p:nvSpPr>
        <p:spPr>
          <a:xfrm>
            <a:off x="755640" y="2349360"/>
            <a:ext cx="237636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1" action="ppaction://hlinksldjump"/>
              </a:rPr>
              <a:t>Антаркти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utoShape 5"/>
          <p:cNvSpPr/>
          <p:nvPr/>
        </p:nvSpPr>
        <p:spPr>
          <a:xfrm>
            <a:off x="4788000" y="3860640"/>
            <a:ext cx="237636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2" action="ppaction://hlinksldjump"/>
              </a:rPr>
              <a:t>Северный полю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AutoShape 7"/>
          <p:cNvSpPr/>
          <p:nvPr/>
        </p:nvSpPr>
        <p:spPr>
          <a:xfrm>
            <a:off x="755640" y="4005360"/>
            <a:ext cx="2376360" cy="122400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Южный полю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utoShape 9"/>
          <p:cNvSpPr/>
          <p:nvPr/>
        </p:nvSpPr>
        <p:spPr>
          <a:xfrm>
            <a:off x="4859280" y="2205000"/>
            <a:ext cx="2305080" cy="11527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Calibri"/>
                <a:hlinkClick r:id="rId3" action="ppaction://hlinksldjump"/>
              </a:rPr>
              <a:t>Антарк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AutoShape 10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5" descr="tou6"/>
          <p:cNvPicPr/>
          <p:nvPr/>
        </p:nvPicPr>
        <p:blipFill>
          <a:blip r:embed="rId1"/>
          <a:stretch/>
        </p:blipFill>
        <p:spPr>
          <a:xfrm>
            <a:off x="826920" y="765000"/>
            <a:ext cx="72774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4" descr="2005-03-09"/>
          <p:cNvPicPr/>
          <p:nvPr/>
        </p:nvPicPr>
        <p:blipFill>
          <a:blip r:embed="rId1"/>
          <a:stretch/>
        </p:blipFill>
        <p:spPr>
          <a:xfrm>
            <a:off x="971640" y="907920"/>
            <a:ext cx="7100640" cy="53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аким должен быть полярный исследователь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«Побеждает тот, у кого все в порядке: кое- кто называет это везением. Поражение непременно ожидает того, кто не принял заблаговременно нужных мер: это называется везением”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.Амундсен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Синквейн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440" y="1434960"/>
            <a:ext cx="2514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Итог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урока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3429000" y="1434960"/>
            <a:ext cx="5486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orbel"/>
              </a:rPr>
              <a:t>Существительное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orbel"/>
              </a:rPr>
              <a:t>Глагол        глагол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orbel"/>
              </a:rPr>
              <a:t>Прилаг. прилаг. прилаг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orbel"/>
              </a:rPr>
              <a:t>Предложение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orbel"/>
              </a:rPr>
              <a:t>существительное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Совершить путешествие по Антарктиде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74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7fd13b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Антаркт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42" name="Picture 16" descr=""/>
          <p:cNvPicPr/>
          <p:nvPr/>
        </p:nvPicPr>
        <p:blipFill>
          <a:blip r:embed="rId1"/>
          <a:stretch/>
        </p:blipFill>
        <p:spPr>
          <a:xfrm>
            <a:off x="1500120" y="857160"/>
            <a:ext cx="563256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акие океаны омывают Антарктиду?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4" name="AutoShape 4"/>
          <p:cNvSpPr/>
          <p:nvPr/>
        </p:nvSpPr>
        <p:spPr>
          <a:xfrm>
            <a:off x="684360" y="1341360"/>
            <a:ext cx="2520720" cy="1871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1042920" y="1844640"/>
            <a:ext cx="2016360" cy="405000"/>
          </a:xfrm>
          <a:prstGeom prst="rect">
            <a:avLst/>
          </a:prstGeom>
          <a:solidFill>
            <a:srgbClr val="5f77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1" action="ppaction://hlinksldjump"/>
              </a:rPr>
              <a:t>Тихий, Атлантический, Индий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6"/>
          <p:cNvSpPr/>
          <p:nvPr/>
        </p:nvSpPr>
        <p:spPr>
          <a:xfrm>
            <a:off x="4859280" y="1125360"/>
            <a:ext cx="2521080" cy="19447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7"/>
          <p:cNvSpPr/>
          <p:nvPr/>
        </p:nvSpPr>
        <p:spPr>
          <a:xfrm>
            <a:off x="4932360" y="3357720"/>
            <a:ext cx="2521080" cy="194436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AutoShape 8"/>
          <p:cNvSpPr/>
          <p:nvPr/>
        </p:nvSpPr>
        <p:spPr>
          <a:xfrm>
            <a:off x="755640" y="3500280"/>
            <a:ext cx="2521080" cy="19447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10"/>
          <p:cNvSpPr/>
          <p:nvPr/>
        </p:nvSpPr>
        <p:spPr>
          <a:xfrm>
            <a:off x="5292720" y="1557360"/>
            <a:ext cx="1871640" cy="405000"/>
          </a:xfrm>
          <a:prstGeom prst="rect">
            <a:avLst/>
          </a:prstGeom>
          <a:solidFill>
            <a:srgbClr val="5f77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2" action="ppaction://hlinksldjump"/>
              </a:rPr>
              <a:t>Атлантический, Северный ледовитый, Индий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5292720" y="4005360"/>
            <a:ext cx="1943280" cy="405000"/>
          </a:xfrm>
          <a:prstGeom prst="rect">
            <a:avLst/>
          </a:prstGeom>
          <a:solidFill>
            <a:srgbClr val="5f77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3" action="ppaction://hlinksldjump"/>
              </a:rPr>
              <a:t>Южный, Тихий, Атлант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1116000" y="3933720"/>
            <a:ext cx="1871640" cy="405000"/>
          </a:xfrm>
          <a:prstGeom prst="rect">
            <a:avLst/>
          </a:prstGeom>
          <a:solidFill>
            <a:srgbClr val="5f77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4" action="ppaction://hlinksldjump"/>
              </a:rPr>
              <a:t>Индийский, Атлантический, Юж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AutoShape 13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акие материки имеют площадь меньше площади Антарктиды?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4" name="AutoShape 4"/>
          <p:cNvSpPr/>
          <p:nvPr/>
        </p:nvSpPr>
        <p:spPr>
          <a:xfrm>
            <a:off x="971640" y="1916280"/>
            <a:ext cx="2232000" cy="136836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1" action="ppaction://hlinksldjump"/>
              </a:rPr>
              <a:t>Южная Аме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4572000" y="3933720"/>
            <a:ext cx="2232000" cy="136836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2" action="ppaction://hlinksldjump"/>
              </a:rPr>
              <a:t>Австрал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AutoShape 6"/>
          <p:cNvSpPr/>
          <p:nvPr/>
        </p:nvSpPr>
        <p:spPr>
          <a:xfrm>
            <a:off x="971640" y="4005360"/>
            <a:ext cx="2232000" cy="136836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3" action="ppaction://hlinksldjump"/>
              </a:rPr>
              <a:t>Евраз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AutoShape 7"/>
          <p:cNvSpPr/>
          <p:nvPr/>
        </p:nvSpPr>
        <p:spPr>
          <a:xfrm>
            <a:off x="4500720" y="1844640"/>
            <a:ext cx="2232000" cy="136836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4" action="ppaction://hlinksldjump"/>
              </a:rPr>
              <a:t>Северная Аме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AutoShape 8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акова площадь Антарктиды?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0" name="AutoShape 4"/>
          <p:cNvSpPr/>
          <p:nvPr/>
        </p:nvSpPr>
        <p:spPr>
          <a:xfrm>
            <a:off x="1763640" y="1987560"/>
            <a:ext cx="2087640" cy="115236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1" action="ppaction://hlinksldjump"/>
              </a:rPr>
              <a:t>16 млн.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5"/>
          <p:cNvSpPr/>
          <p:nvPr/>
        </p:nvSpPr>
        <p:spPr>
          <a:xfrm>
            <a:off x="4859280" y="3500280"/>
            <a:ext cx="2087640" cy="11527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2" action="ppaction://hlinksldjump"/>
              </a:rPr>
              <a:t>10 млн.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6"/>
          <p:cNvSpPr/>
          <p:nvPr/>
        </p:nvSpPr>
        <p:spPr>
          <a:xfrm>
            <a:off x="1763640" y="3716280"/>
            <a:ext cx="2087640" cy="11527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3" action="ppaction://hlinksldjump"/>
              </a:rPr>
              <a:t>14 млн.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AutoShape 7"/>
          <p:cNvSpPr/>
          <p:nvPr/>
        </p:nvSpPr>
        <p:spPr>
          <a:xfrm>
            <a:off x="4932360" y="1844640"/>
            <a:ext cx="2087640" cy="115272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4" action="ppaction://hlinksldjump"/>
              </a:rPr>
              <a:t>18 млн.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3276720" y="4076640"/>
            <a:ext cx="253800" cy="276480"/>
          </a:xfrm>
          <a:prstGeom prst="rect">
            <a:avLst/>
          </a:prstGeom>
          <a:solidFill>
            <a:srgbClr val="5f77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3276720" y="2347920"/>
            <a:ext cx="253800" cy="276480"/>
          </a:xfrm>
          <a:prstGeom prst="rect">
            <a:avLst/>
          </a:prstGeom>
          <a:solidFill>
            <a:srgbClr val="5f77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6443640" y="2205000"/>
            <a:ext cx="254160" cy="276480"/>
          </a:xfrm>
          <a:prstGeom prst="rect">
            <a:avLst/>
          </a:prstGeom>
          <a:solidFill>
            <a:srgbClr val="5f77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1"/>
          <p:cNvSpPr/>
          <p:nvPr/>
        </p:nvSpPr>
        <p:spPr>
          <a:xfrm>
            <a:off x="6372360" y="3860640"/>
            <a:ext cx="253800" cy="276480"/>
          </a:xfrm>
          <a:prstGeom prst="rect">
            <a:avLst/>
          </a:prstGeom>
          <a:solidFill>
            <a:srgbClr val="5f77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AutoShape 12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nsolas"/>
              </a:rPr>
              <a:t>Какова средняя толщина ледяного покрова?</a:t>
            </a: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1547640" y="1628640"/>
            <a:ext cx="2305080" cy="1295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1" action="ppaction://hlinksldjump"/>
              </a:rPr>
              <a:t>2000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AutoShape 6"/>
          <p:cNvSpPr/>
          <p:nvPr/>
        </p:nvSpPr>
        <p:spPr>
          <a:xfrm>
            <a:off x="1547640" y="3573360"/>
            <a:ext cx="2305080" cy="1295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2" action="ppaction://hlinksldjump"/>
              </a:rPr>
              <a:t>3500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AutoShape 7"/>
          <p:cNvSpPr/>
          <p:nvPr/>
        </p:nvSpPr>
        <p:spPr>
          <a:xfrm>
            <a:off x="5148360" y="3573360"/>
            <a:ext cx="2305080" cy="129564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3" action="ppaction://hlinksldjump"/>
              </a:rPr>
              <a:t>1500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AutoShape 8"/>
          <p:cNvSpPr/>
          <p:nvPr/>
        </p:nvSpPr>
        <p:spPr>
          <a:xfrm>
            <a:off x="5148360" y="1484280"/>
            <a:ext cx="2305080" cy="1295280"/>
          </a:xfrm>
          <a:prstGeom prst="horizontalScroll">
            <a:avLst>
              <a:gd name="adj" fmla="val 12500"/>
            </a:avLst>
          </a:prstGeom>
          <a:solidFill>
            <a:srgbClr val="5f779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4" action="ppaction://hlinksldjump"/>
              </a:rPr>
              <a:t>1000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AutoShape 9"/>
          <p:cNvSpPr/>
          <p:nvPr/>
        </p:nvSpPr>
        <p:spPr>
          <a:xfrm>
            <a:off x="324000" y="6093000"/>
            <a:ext cx="1223640" cy="576000"/>
          </a:xfrm>
          <a:prstGeom prst="leftArrow">
            <a:avLst>
              <a:gd name="adj1" fmla="val 50000"/>
              <a:gd name="adj2" fmla="val 5310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1:07:20Z</dcterms:created>
  <dc:creator>Admin</dc:creator>
  <dc:description/>
  <dc:language>en-US</dc:language>
  <cp:lastModifiedBy>Admin</cp:lastModifiedBy>
  <dcterms:modified xsi:type="dcterms:W3CDTF">2010-03-01T09:38:38Z</dcterms:modified>
  <cp:revision>24</cp:revision>
  <dc:subject/>
  <dc:title> </dc:title>
</cp:coreProperties>
</file>