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AE4-0DD5-440C-9889-DB85F045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283-37D6-4F8F-BF58-52786CBF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3D9-3A11-4BE2-91B6-6445425E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115-E978-4C3F-B8D7-7F448B37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51D-4838-4416-9D9B-44724B41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21A-60DF-4C5D-A251-1DC629F6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D96-39A7-4DA5-9595-F0AC97BC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1CB-9DCF-427C-8C8F-9C9C52E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F3E-A77D-48D5-A4A2-B80E5B58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2AE-9D22-4B41-B00E-BED96984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022-C70E-45A2-A46C-31E522B1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040-9357-489A-9870-10642709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695E-92D9-4150-83AC-4CCABFB731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60104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очью на небе один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олотистый апельсин.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Миновали две недели,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пельсина мы не ели,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о осталась в небе только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пельсиновая дольк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257160"/>
            <a:ext cx="640080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066457364.jpg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емл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ращается вокруг  Солнца.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ращается  вокруг   своей оси, 1 оборот  за 24 часа.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нь и ночь (сутки) – 24 час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Лун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ращается  вокруг        Земли.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ращается вокруг  своей оси, 1 оборот  за 1 месяц.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нь – 2 недели,           ночь – 2 недели. День и ночь (сутки) – 1 месяц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42265929_space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Содержимое 3" descr="http://i.i.ua/photo/images/pic/5/7/2583475_31664573.jpg"/>
          <p:cNvPicPr/>
          <p:nvPr/>
        </p:nvPicPr>
        <p:blipFill>
          <a:blip r:embed="rId1"/>
          <a:stretch/>
        </p:blipFill>
        <p:spPr>
          <a:xfrm>
            <a:off x="357120" y="0"/>
            <a:ext cx="84297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Тема урока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99980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«Ночная красавица.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3840" y="1785960"/>
            <a:ext cx="857268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узнать новую информацию о Луне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демонстрировать, как движется Земля вокруг Солнца, Луна вокруг Земли; показать, как вращаются Земля и Луна вокруг своих осе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_9641_e8918811_XL.jpeg"/>
          <p:cNvPicPr/>
          <p:nvPr/>
        </p:nvPicPr>
        <p:blipFill>
          <a:blip r:embed="rId1"/>
          <a:stretch/>
        </p:blipFill>
        <p:spPr>
          <a:xfrm>
            <a:off x="2247840" y="0"/>
            <a:ext cx="464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0_161e6_7c321311_XL.jpe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0012-012-Luna-namnogo-menshe-Zemli-i-gorazdo-menshe-Solnts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5" descr="http://www.freedigitalphotos.net/image/s_full-moon.jpg"/>
          <p:cNvPicPr/>
          <p:nvPr/>
        </p:nvPicPr>
        <p:blipFill>
          <a:blip r:embed="rId1"/>
          <a:stretch/>
        </p:blipFill>
        <p:spPr>
          <a:xfrm>
            <a:off x="0" y="285768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http://www.diggreader.ru/wp-content/img/07july/earth.jpg"/>
          <p:cNvPicPr/>
          <p:nvPr/>
        </p:nvPicPr>
        <p:blipFill>
          <a:blip r:embed="rId2"/>
          <a:stretch/>
        </p:blipFill>
        <p:spPr>
          <a:xfrm>
            <a:off x="928800" y="228600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imgb" descr="http://t1.gstatic.com/images?q=tbn:r6MJ9eOfPlV6nM"/>
          <p:cNvPicPr/>
          <p:nvPr/>
        </p:nvPicPr>
        <p:blipFill>
          <a:blip r:embed="rId3"/>
          <a:stretch/>
        </p:blipFill>
        <p:spPr>
          <a:xfrm>
            <a:off x="4667400" y="1071720"/>
            <a:ext cx="4476600" cy="3981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9"/>
          <p:cNvSpPr/>
          <p:nvPr/>
        </p:nvSpPr>
        <p:spPr>
          <a:xfrm>
            <a:off x="0" y="25002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384.000 к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2214720" y="328608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150.000.000 к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Двойная стрелка влево/вправо 23"/>
          <p:cNvSpPr/>
          <p:nvPr/>
        </p:nvSpPr>
        <p:spPr>
          <a:xfrm>
            <a:off x="2214720" y="3071880"/>
            <a:ext cx="3000240" cy="71280"/>
          </a:xfrm>
          <a:prstGeom prst="leftRightArrow">
            <a:avLst>
              <a:gd name="adj1" fmla="val 50000"/>
              <a:gd name="adj2" fmla="val 500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Двойная стрелка влево/вправо 25"/>
          <p:cNvSpPr/>
          <p:nvPr/>
        </p:nvSpPr>
        <p:spPr>
          <a:xfrm>
            <a:off x="500040" y="3071880"/>
            <a:ext cx="500040" cy="46080"/>
          </a:xfrm>
          <a:prstGeom prst="leftRight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571400"/>
            <a:ext cx="91440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сстояние до Луны примерно 40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0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тысяч км.                                                                                        Человек – 40 лет.                                                          Ракета – 3 суток полёт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3:57:46Z</dcterms:created>
  <dc:creator>Admin</dc:creator>
  <dc:description/>
  <dc:language>en-US</dc:language>
  <cp:lastModifiedBy>Admin</cp:lastModifiedBy>
  <dcterms:modified xsi:type="dcterms:W3CDTF">2010-11-11T14:48:46Z</dcterms:modified>
  <cp:revision>16</cp:revision>
  <dc:subject/>
  <dc:title>Ночью на небе один Золотистый апельсин. Миновали две недели,  Апельсина мы не ели,  Но осталась в небе только Апельсиновая долька</dc:title>
</cp:coreProperties>
</file>