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D6F-2096-4292-B01E-8010B1F7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AE6-AA53-4127-B184-D69D4C7B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4D1-7D8E-4983-9781-900BE87E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89C-D54C-4927-9AA3-D008E75C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831-C76C-4BA3-A533-90897943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246-960C-49C1-9DB9-6F2CF38F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BB8-D039-4F67-A2B9-6EB95D1E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FFC-F127-46AE-B4EB-F8586EC1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9B8-7C32-4984-BB3E-02F6E0DF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9F7-89A0-45AF-B332-7C4D022A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A13-9357-471C-8AC0-5148DE8A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C08-99C1-4930-B0F7-D9AF7C40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5192-0E63-4A3C-9944-E5DD468C241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60104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очью на небе один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олотистый апельсин.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Миновали две недели,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пельсина мы не ели,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о осталась в небе только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пельсиновая дольк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257160"/>
            <a:ext cx="640080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066457364.jpg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емл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ращается вокруг  Солнца.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ращается  вокруг   своей оси, 1 оборот  за 24 часа.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нь и ночь (сутки) – 24 час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Лун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ращается  вокруг        Земли.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ращается вокруг  своей оси, 1 оборот  за 1 месяц.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нь – 2 недели,           ночь – 2 недели. День и ночь (сутки) – 1 месяц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42265929_space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Содержимое 3" descr="http://i.i.ua/photo/images/pic/5/7/2583475_31664573.jpg"/>
          <p:cNvPicPr/>
          <p:nvPr/>
        </p:nvPicPr>
        <p:blipFill>
          <a:blip r:embed="rId1"/>
          <a:stretch/>
        </p:blipFill>
        <p:spPr>
          <a:xfrm>
            <a:off x="357120" y="0"/>
            <a:ext cx="84297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Тема урока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99980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«Ночная красавица.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13840" y="1785960"/>
            <a:ext cx="857268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узнать новую информацию о Луне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демонстрировать, как движется Земля вокруг Солнца, Луна вокруг Земли; показать, как вращаются Земля и Луна вокруг своих осей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0_9641_e8918811_XL.jpeg"/>
          <p:cNvPicPr/>
          <p:nvPr/>
        </p:nvPicPr>
        <p:blipFill>
          <a:blip r:embed="rId1"/>
          <a:stretch/>
        </p:blipFill>
        <p:spPr>
          <a:xfrm>
            <a:off x="2247840" y="0"/>
            <a:ext cx="464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0_161e6_7c321311_XL.jpe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0012-012-Luna-namnogo-menshe-Zemli-i-gorazdo-menshe-Solnts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5" descr="http://www.freedigitalphotos.net/image/s_full-moon.jpg"/>
          <p:cNvPicPr/>
          <p:nvPr/>
        </p:nvPicPr>
        <p:blipFill>
          <a:blip r:embed="rId1"/>
          <a:stretch/>
        </p:blipFill>
        <p:spPr>
          <a:xfrm>
            <a:off x="0" y="285768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http://www.diggreader.ru/wp-content/img/07july/earth.jpg"/>
          <p:cNvPicPr/>
          <p:nvPr/>
        </p:nvPicPr>
        <p:blipFill>
          <a:blip r:embed="rId2"/>
          <a:stretch/>
        </p:blipFill>
        <p:spPr>
          <a:xfrm>
            <a:off x="928800" y="228600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imgb" descr="http://t1.gstatic.com/images?q=tbn:r6MJ9eOfPlV6nM"/>
          <p:cNvPicPr/>
          <p:nvPr/>
        </p:nvPicPr>
        <p:blipFill>
          <a:blip r:embed="rId3"/>
          <a:stretch/>
        </p:blipFill>
        <p:spPr>
          <a:xfrm>
            <a:off x="4667400" y="1071720"/>
            <a:ext cx="4476600" cy="3981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9"/>
          <p:cNvSpPr/>
          <p:nvPr/>
        </p:nvSpPr>
        <p:spPr>
          <a:xfrm>
            <a:off x="0" y="25002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384.000 км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2214720" y="328608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150.000.000 к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Двойная стрелка влево/вправо 23"/>
          <p:cNvSpPr/>
          <p:nvPr/>
        </p:nvSpPr>
        <p:spPr>
          <a:xfrm>
            <a:off x="2214720" y="3071880"/>
            <a:ext cx="3000240" cy="71280"/>
          </a:xfrm>
          <a:prstGeom prst="leftRightArrow">
            <a:avLst>
              <a:gd name="adj1" fmla="val 50000"/>
              <a:gd name="adj2" fmla="val 500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Двойная стрелка влево/вправо 25"/>
          <p:cNvSpPr/>
          <p:nvPr/>
        </p:nvSpPr>
        <p:spPr>
          <a:xfrm>
            <a:off x="500040" y="3071880"/>
            <a:ext cx="500040" cy="46080"/>
          </a:xfrm>
          <a:prstGeom prst="leftRight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1571400"/>
            <a:ext cx="91440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асстояние до Луны примерно 40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0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тысяч км.                                                                                        Человек – 40 лет.                                                          Ракета – 3 суток полёт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3:57:46Z</dcterms:created>
  <dc:creator>Admin</dc:creator>
  <dc:description/>
  <dc:language>en-US</dc:language>
  <cp:lastModifiedBy>Admin</cp:lastModifiedBy>
  <dcterms:modified xsi:type="dcterms:W3CDTF">2010-11-11T14:48:46Z</dcterms:modified>
  <cp:revision>16</cp:revision>
  <dc:subject/>
  <dc:title>Ночью на небе один Золотистый апельсин. Миновали две недели,  Апельсина мы не ели,  Но осталась в небе только Апельсиновая долька</dc:title>
</cp:coreProperties>
</file>