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B60-40E7-4446-BC14-252ED36C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BD3-1E07-4AC5-9553-4CF7429D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665-7B7C-4984-BF6C-0DADF684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BFE-E519-4B03-AA82-6B43DB61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B9D-19C0-4611-9BED-91C235F0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7E2-06C0-42C8-9304-0E3C6F64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EC7-E32B-4C68-9A5C-C467FA86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9C2-6065-4643-92FF-98B94385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C85-C3AB-4B8F-B6BA-975BB678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D3F-C7C5-4AF0-BB9C-70BC2A8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E08-80FF-468A-BF23-232E8C3E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A9B-0249-4CC8-B07D-2C31C2F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DFCE-9AA8-4CDD-8F4C-7D01F509DB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Оке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517760"/>
            <a:ext cx="50421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Древесные кенгур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08040" y="1981080"/>
            <a:ext cx="2165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92840" y="1981080"/>
            <a:ext cx="1320840" cy="1981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Древесные кенгур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647880" cy="54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00720" y="1268280"/>
            <a:ext cx="2943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Папуа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7880" y="1052640"/>
            <a:ext cx="3605400" cy="525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71840" y="1125360"/>
            <a:ext cx="4357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139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236520"/>
            <a:ext cx="71294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Океания 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крупное скопление островов в Тихом океан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Гавай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Атол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81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Атолл - коралловый остров в Океан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Лагуна – водоем, отделенный от моря атолло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Новая Гвине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417680"/>
            <a:ext cx="81360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000" y="692280"/>
            <a:ext cx="5019480" cy="5392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37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Райская   птиц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Венценосные голуб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20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76360" y="1214280"/>
            <a:ext cx="6120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11-29T10:40:10Z</dcterms:modified>
  <cp:revision>7</cp:revision>
  <dc:subject/>
  <dc:title>PowerPoint Presentation</dc:title>
</cp:coreProperties>
</file>