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264-B1D4-4E2F-905D-A7BDF080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2CF-4605-4CB6-8DF4-92D41ABA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B47-DD4F-4AF0-AD3C-8497B085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6C0-2828-4B92-B8B2-AC2186C0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60C-BCBB-4504-AEC2-985C7D8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E56-76B2-4DDB-AF6F-351F1E3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907-2760-4404-A3F2-F326F07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5E9-73AD-4DEC-A999-1834206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326-28AE-439C-B9E7-2866387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834-BB6D-4120-8C4A-2389D4A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010-2E97-4CE3-A8CA-F66789E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76F-CC91-43B7-B07E-E93DADD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87E-52B5-484B-BE92-6B1577A87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Оке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517760"/>
            <a:ext cx="5042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08040" y="1981080"/>
            <a:ext cx="2165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92840" y="19810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Древесные кенгур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647880" cy="54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00720" y="1268280"/>
            <a:ext cx="2943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Папуа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3605400" cy="52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71840" y="1125360"/>
            <a:ext cx="4357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236520"/>
            <a:ext cx="71294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Океания 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крупное скопление островов в Тихом оке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Гавай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Атол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81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Атолл - коралловый остров в Океа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Лагуна – водоем, отделенный от моря атолло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Новая Гвине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417680"/>
            <a:ext cx="8136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692280"/>
            <a:ext cx="5019480" cy="5392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37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Райская   птиц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Венценосные голуб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214280"/>
            <a:ext cx="6120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1-29T10:40:10Z</dcterms:modified>
  <cp:revision>7</cp:revision>
  <dc:subject/>
  <dc:title>PowerPoint Presentation</dc:title>
</cp:coreProperties>
</file>